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726-80F2-4926-BAAA-F3AADCF3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EE6-1605-408D-869F-94B8E90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257-03CD-44CC-9E96-9651DC95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F75-2BDB-4B2A-8EEE-B53EAF4E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7478-258A-4767-824F-208B3F02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709F-974E-47C0-8448-F54A99C9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5931-1E1B-4BBE-8E72-3577315B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517C-44D6-49B6-81C6-88820C32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BEB1-3CE9-4A69-B225-13FA8CD6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86B5-2A15-4429-A6DD-E85D314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A718-7524-445C-B65E-030A259D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BB5-9AE1-44C1-AE27-FF7646AF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BD67-017A-46DA-8E04-2C27A49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5DAE-E9D0-49EA-A0C1-C1FCD91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81C7-AC99-4E94-AF56-4A338C9D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AAF5-33E3-48C2-B093-82F9D902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188-E3BB-42EC-8ACC-FEA4BA25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851-0913-43B0-9288-6F317BA9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503-8A17-4B84-9ADD-272C47AC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19B-5587-4142-BDF4-1FD4D3A4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637-D7A2-45DE-A40B-6D22FD6D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21D-341F-42B4-9EB9-82A0F81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63D-48C6-408C-B209-A34D7433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1CE-8C0A-4AB8-9233-F16101C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277B-14B1-43F0-9982-39C0441CE09C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21F-BA74-4B20-B93B-4A0D7C45A09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00"/>
                </a:solidFill>
                <a:latin typeface="Tahoma"/>
              </a:rPr>
              <a:t>Pari opportunità in Europa: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58920" y="321300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trumenti legislativi e contrattu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ahoma"/>
              </a:rPr>
              <a:t>Il dialogo sociale europeo (DSE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92:   inserito come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rotocollo aggiuntivo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nel trattato di Maastric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97: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ienamente integrato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nel  Trattato di Amsterd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ruolo delle parti e del dialogo sociale è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resente nel testo di Costituzione  Europ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Cosa preve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se le parti decidono di trattare su una determinata materia,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viene sospesa l’iniziativa legislativa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e, se raggiunto,  il testo dell’accordo diventa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legislazione comunit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(es: congedi parentali, part time, contratto a termine, telelavor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00"/>
                </a:solidFill>
                <a:latin typeface="Tahoma"/>
              </a:rPr>
              <a:t>con altre modalità, il DSE è avvenuto anche a livelli categori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Programmi comunitari P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Per sostenere il principio delle pari opportunità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Programma di azione comunitaria PO (bandi per azioni a sostegno delle donn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Creazione di un Istituto di gen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pari opportunità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nella </a:t>
            </a: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contrattazione collettiv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 Europ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ncora scarsa, con situazioni differenti tra i vari paesi, ha toccato prevalentemente i seguenti pun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arità salar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Misure antidiscriminatorie per l’accesso al lavoro,  promozione, formazione e sistemi pensionist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iscriminazione indiret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iritti dei lavoratori part-time e interin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Azioni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Gravidanza, maternità, congedi parentali e custodia dei min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Molestie sessua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tempi di lav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conciliazione tra vita professionale e  famili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Pari opportunità e contrattazione collettiva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negli negli altri Stati membri/2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anima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sono integrate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ella contrattazione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llettiva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anche se esistono differenze tra il settorepubblico e quello privato. Un accordo nazionale sulla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arità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i trattamento tra le organizzazioni dei datori di lavoro e la principale confederazione sindacale è stato firmato nel 199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Finla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sono integrate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ella contrattazione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llettiv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e negli accordi interprofessionali sulla polit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ei redditi. Gli aumenti salariali delle donne ottenuti a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fine degli anni ’80 e nel 1995 e i sistemi di valut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el lavoro sono stati introdotti per pareggiare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tribuzioni delle donne e degli uomin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Pari opportunità e contrattazione collettiva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negli negli altri Stati membri/3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sono state strettamente definite come lo stato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di parità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di trattamento tra uomini e donne.  La legislazione copre la discriminazione salariale,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di trattamento nella concessione di benefit, le molestie sessuali, la discriminazione indiretta e la pariretribuzione per un lavoro di pari valore. Esistono pochi  accordi collettivi sulle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pari opportunità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Belg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rimangono marginali nella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contrattazione collettiva,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anche se la legislazione che copre le azioni positive, le molestie sessuali e il lavoro notturno è stata ricollegata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alla contrattazione collettiva.Le pari opportunità,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per quanto riguarda i tempi  e le condizioni di lavoro, sono presenti  nella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contrattazi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Pari opportunità e contrattazione collettiva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negli negli altri Stati membri/4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Ger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soggetto sempre più importante nella contrattazione.   Nel corso degli ultimi anni le questioni relative al tempo di lavoro sono  divenute un importante elemento di negoziazione e le considerazioni relative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alle pari opportunità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 sono state significative a questo riguardo. Il centro di interesse è stato rappresentato dai benefici per la famiglia piuttosto  </a:t>
            </a:r>
            <a:r>
              <a:rPr b="0" lang="it-IT" sz="1800" spc="-1" strike="noStrike">
                <a:solidFill>
                  <a:srgbClr val="ffff00"/>
                </a:solidFill>
                <a:latin typeface="Tahoma"/>
              </a:rPr>
              <a:t>ch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alle pari opportunità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Grec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C’è una relazione debole tra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pari opportunità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contrattazione collettiva.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Per la prima volta, l’accor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collettivo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nazionale del 1993 ha preteso dai partn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sociali che promuovessero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di trattamento e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pari opportunità,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prevedendo anche le clauso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per combattere le molestie sessuali e in favore de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congedi per maternità e paternità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Irland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Nonostante ch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si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raramente legat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lla contrattazione collettiva,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gli accordi nazionali fin dal 1987 si so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occupati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 pari opportunità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comprendendo anche azioni positive, sala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bassi e custodia dei minor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Lussemburg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contrattazione collettiva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è raramente legata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lle pari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opportunità: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queste sono considerate come questio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che devono essere trattate dalla legislazione. Ness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accordo specifico riguarda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’insieme, ma un numero ristretto di accordi tratta d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molestie sessuali, di tempi di lavoro e di rientro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eguito di un congedo per occuparsi di mino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Paesi Bass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sono strettamente integrate nel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ntrattazione collettiva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e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fa largamente pa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dell’ordine del giorno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lla contrattazione.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Sono st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organizzati un gran numero di accordi. Riguardano: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r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di trattamento, le azioni positive, il lavo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art- time, la maternità, i congedi parentali, la custod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dei minori, le molestie sessuali e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dei sal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Portogallo</a:t>
            </a: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principale fonte di progresso a livello di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pa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opportunità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 di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parit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stata la legislaz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iuttosto che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la contrattazione collettiva.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apporti e le questioni relative alla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parit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aramente sono all’ordine del giorno del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contrattazi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lcuni dati generali…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isoccupazione in crescita. Si osserva una tendenza al rial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nell’ultimo ann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4 milioni di disoccupati ( in percentuale 7,9%):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 Uomini  7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 Donne   8,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ersone occupate in impieghi temporanei:  tendenza costan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all’aument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Uomini  12,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Donne   14,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E’ più alta la presenza di donne nel  lavoro “abituale” durante il fine settima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Al sabato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Uomini   21,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Donne   24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-Alla domenica &gt;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Uomini    9,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Donne  10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Regno Uni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sono divenute un elemen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sempre più important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la contrattaz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llettiva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e la legislazione permet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l’annullamento di quegli accordi che violano 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principio dell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ari opportunità.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trattazione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decentrata ha reso diffic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l’applicazion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elle pari opportunità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Spag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contrattazione collettiva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gioca un ru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limitato nella promozione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lle pari opportunità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Gli accordi riguardano raramente gli interessi 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roblemi specifici delle donne e quando 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fanno, tendono a riprodurre i diritti già esisten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a legislazione. Si è giunti ad accordi 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azioni positive in alcune imprese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’amministrazione pubblica, ed è stato fatto qualc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rogresso per potenziare il ruolo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lle pari opportun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er il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Svezi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e pari opportunità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ono uno degli elementi guida dell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ntrattazione collettiva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e, a partire dall’approvazi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della legge per le pari opportunità del 1979, i 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ociali sono stati incaricati di concludere accord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riguardanti l’argomento. E tuttavia, dal 1994 un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emendamento a questa legge ha attribuito un ruolo pi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importante alla legislazione e all’Ombudsman per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rità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a implementazion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delle pari opportunità,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esempio esigendo l’applicazione di un piano di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par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ella maggior parte dei posti di lavo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Strategie europee su 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occupazione e parità/1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Dall’agenda sociale approvata a Niz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pplicazione trasversale della parità in tutte le politiche 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(principio di mainstreaming)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accompagnata da azioni specif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ntegrare la nozione di parità in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tutti i sett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Sviluppare l’accesso delle donne al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rocesso decision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Quantità e qualità dell’occupazione (strategia di Lisbona) :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elevare i tassi di attività delle donne dal 51% a oltre il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(in generale dal 61 al 7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La parità nei trattati europe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57: il Trattato costitutivo di Roma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efinisce all’art. 119 il principio di parità salar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Le motivazioni erano anche di natura “economica”: evitare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istorsioni di concorrenza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tra paesi fondat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92: il Trattato di Maastricht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amplia il concetto di parità salarial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-1997:  il Trattato di Amsterdam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introduce altri principi,  tra cui quello della non discriminazione tra i sessi e del mainstreaming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Parità e pari opportunità nella legislazione e negli atti comunitari/1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(anni settant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75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iguardante il riavvicinamento delle legislazioni deg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tati membri relative all’applicazione del principio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parità di retribuzione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tra lavoratori uomini e lavoratrici donne (n° 757117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elativa all’applicazione del principio di parità di trattamento tra uomini e donne per quanto riguard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’accesso al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avoro, la formazione e la promozione professionali, e le condizioni di lavoro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(n°  76/207/CEE)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7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elativa all’applicazione progressiva del principio di parità di trattamento tra uomini e donne in materia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sicurezza sociale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(n°  79/7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Atti comunitari /2</a:t>
            </a:r>
            <a:br>
              <a:rPr sz="3600"/>
            </a:b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(anni 8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84: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Raccomandazione della Commissione Europea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sulle azioni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86 :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Direttiva relativa all’applicazione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el principio di parità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di trattamento tra uomini e  donne nei regimi professionali di sicurezzasociale (no 86/378/CE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86 :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Direttiva sull’applicazione del principio di parità d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trattamento tra uomini e donne che esercitano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un’attività indipendente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, compresa l’attività agricola, e sulla protezione della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maternità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(no 86/613/CE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Atti comunitari/3</a:t>
            </a:r>
            <a:br>
              <a:rPr sz="3600"/>
            </a:b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(anni 9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sulla sicurezza e della salute delle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avoratrici incinte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, partorienti o che allattano sul lavoro (n°  92/85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accomandazione del Consiglio relativa all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custodia dei bambini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(n°  92/241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accomandazione della Commissione sulle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molestie sessuali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, alle quali è stato affiancato un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codice di condotta (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 92/131/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9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Memorandum della commissione sulla parità di retribuzione per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avori di eguale val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isoluzione del Consiglio sulla pari opportunità nell’ ambito de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fondi struttur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isoluzione del Consiglio sulla pari opportunità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nella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trategia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crescita econom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Atti comunitari/3</a:t>
            </a:r>
            <a:br>
              <a:rPr sz="3600"/>
            </a:b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(anni 9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1996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municazione della Commissione relativa all’ applicazione del principio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mainstrea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dice di condotta per l’applicazione dell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parità retribu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1997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elativ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all’onere della prova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nei casi di discriminazione  basata sul sesso (n°  97/80/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Nel corso degli anni, numerose sono state anche le sentenze in materia di pari opportunità della Corte di Giustizia (es: lavoro notturn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CES  (Confederazione Europea dei Sindacati)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efinisce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l’ Integrazione della dimensione di genere”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m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a mobilitazione di tutte le politiche generali e di tutte le misur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quale scopo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“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Raggiungere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tenendo conto attivamente e apertamente, in fase di </a:t>
            </a:r>
            <a:r>
              <a:rPr b="0" i="1" lang="it-IT" sz="2000" spc="-1" strike="noStrike">
                <a:solidFill>
                  <a:srgbClr val="ffff00"/>
                </a:solidFill>
                <a:latin typeface="Tahoma"/>
              </a:rPr>
              <a:t>pianificazione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, dei possibili effetti sulle condizioni rispettive di donne e  uomini … Ciò implica la valutazione  </a:t>
            </a:r>
            <a:r>
              <a:rPr b="0" i="1" lang="it-IT" sz="2000" spc="-1" strike="noStrike">
                <a:solidFill>
                  <a:srgbClr val="ffff00"/>
                </a:solidFill>
                <a:latin typeface="Tahoma"/>
              </a:rPr>
              <a:t>sistematica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delle misure e delle politiche e la valutazione  degli  effetti in fase definizione e di  applicazion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8:38:00Z</dcterms:created>
  <dc:creator>rita.pavan</dc:creator>
  <dc:description/>
  <dc:language>en-US</dc:language>
  <cp:lastModifiedBy>lleonardi</cp:lastModifiedBy>
  <dcterms:modified xsi:type="dcterms:W3CDTF">2006-06-05T12:16:48Z</dcterms:modified>
  <cp:revision>16</cp:revision>
  <dc:subject/>
  <dc:title>Pari Opportunità e Contrattazione Collettiva In Europa</dc:title>
</cp:coreProperties>
</file>