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BAF-719D-4ADF-9213-CC95A5F2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998-1D68-4560-B9E3-96A5A73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653-A924-44F9-A40B-3FF5E646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2C5-16B8-44A0-880A-F02887C4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0A5E-6834-4C6B-82B6-2448994F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D9E2-0AC4-4618-B1EE-6091B0D5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DE9D-B195-4617-97D2-0FBC863A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89A-7953-49E6-B0B0-14124BF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B85-B518-498D-A86E-F8547E3C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090-D075-4147-8059-9803D06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A5F-9411-43D4-A1F9-652F55E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D21-E15C-4AB6-B2A5-342CC8DE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934A-106E-4B75-B9E0-F2050AB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843B-EFBB-4282-8FDD-6CFEA39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C1C3-CF0D-4486-B916-94DA667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E61-3203-4FB1-93E6-5701973E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8EFC-BDA8-45A7-AA22-CE9EBB2D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12C-7F6A-4765-B41D-252A0AEC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A68-9644-4AEF-A2AA-2641BC0C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644-3450-4CA8-9E5D-63192323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D03-3ACD-4399-BA2B-FDB3D1C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AB6-AC6D-44F0-8422-B24E8BA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1D7-E9CF-4481-ABB0-1ACB515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7DD-E101-4AFC-90DE-3F8535E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581-3685-4AC3-9991-707902B62C72}" type="slidenum">
              <a:rPr b="0" lang="it-IT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7B7-5DD9-4823-A3BD-4048230C3E2A}" type="slidenum">
              <a:rPr b="0" lang="it-IT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Europa e lavoro:</a:t>
            </a:r>
            <a:br>
              <a:rPr sz="4000"/>
            </a:b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problemi e prospettive</a:t>
            </a:r>
            <a:br>
              <a:rPr sz="6000"/>
            </a:br>
            <a:br>
              <a:rPr sz="6000"/>
            </a:br>
            <a:r>
              <a:rPr b="1" lang="it-IT" sz="4000" spc="-1" strike="noStrike">
                <a:solidFill>
                  <a:srgbClr val="ff0066"/>
                </a:solidFill>
                <a:latin typeface="Tahoma"/>
              </a:rPr>
              <a:t>strategia di Lisbona e occupabilità delle donn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La strategia di Lisbon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Fare dell’Europa l’economia più competitiva del mondo, puntando sulla </a:t>
            </a:r>
            <a:r>
              <a:rPr b="1" lang="it-IT" sz="2800" spc="-1" strike="noStrike">
                <a:solidFill>
                  <a:srgbClr val="ff99ff"/>
                </a:solidFill>
                <a:latin typeface="Arial"/>
              </a:rPr>
              <a:t>conosce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+ occupazione </a:t>
            </a:r>
            <a:r>
              <a:rPr b="1" i="1" lang="it-IT" sz="2800" spc="-1" strike="noStrike">
                <a:solidFill>
                  <a:srgbClr val="ff99ff"/>
                </a:solidFill>
                <a:latin typeface="Arial"/>
              </a:rPr>
              <a:t>di qualità, </a:t>
            </a: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e aumento dei tassi di occupazione  entro il 2010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dal 61% al 70% quello genera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per le donne</a:t>
            </a:r>
            <a:r>
              <a:rPr b="1" lang="it-IT" sz="3200" spc="-1" strike="noStrike">
                <a:solidFill>
                  <a:srgbClr val="ff99ff"/>
                </a:solidFill>
                <a:latin typeface="Arial"/>
              </a:rPr>
              <a:t>: dal 51% a oltre il 6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ff"/>
                </a:solidFill>
                <a:latin typeface="Arial"/>
              </a:rPr>
              <a:t>per i lavoratori  anzia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La strategia di Lisbona oggi: punto della situazion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Problema: Lisbona scommetteva tasso medio di </a:t>
            </a:r>
            <a:r>
              <a:rPr b="1" lang="it-IT" sz="2400" spc="-1" strike="noStrike">
                <a:solidFill>
                  <a:srgbClr val="ff99ff"/>
                </a:solidFill>
                <a:latin typeface="Arial"/>
              </a:rPr>
              <a:t>crescita del 3%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non realizz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 primavera del 2004 un rapporto intermedio della Commissione fa il punto sullo stato di avanzamen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 ritardi più significativi in tre ambit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reti e conosce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mpetitività di industria e serviz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vecchiamento attiv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l novembre 2004 : costituito un gruppo di “alto livello” presieduto da Wim Kok, che rileva gli scarsi progressi compiu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dividuati progressi e ritardi per ciascun pae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a promozione della crescita e dell ‘ occupazione costituisce il prossimo progetto europeo di vasta port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3 as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Rendere l’Europa + capace di attrarre investimenti e lavor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mpliare e rafforzare il mercato inter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igliorare le normative comunitarie e naziona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ercati aperti e competitivi dentro e fuori l’Un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mpliare e migliorare le infrastrut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2) Conoscenza e innovazione devono rappresentare il fulcro della crescita europe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investimenti in ricerca e svilupp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innovazione e adozione di I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solidità della base industriale europe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3) creare nuovi e migliori posti di lavo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umentare i tassi di attività e modernizzare i sistemi di protezione soci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ccrescere la capacità di adeguamento dei lavoratori e delle imprese e la flessibilità dei mercati del lavo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umentare gli investimenti in capitale umano migliorando l’istruzione ele qualific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Un nuovo partenariato per la crescita e l’occup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Una migliore gestione : rendere la SdL più conosciuta e comprensib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Coinvolgere maggiormente le parti socia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 criticità del mercato del lavoro contenute nel “Libro Bianco”:  </a:t>
            </a:r>
            <a:br>
              <a:rPr sz="3200"/>
            </a:br>
            <a:r>
              <a:rPr b="1" lang="it-IT" sz="2400" spc="-1" strike="noStrike">
                <a:solidFill>
                  <a:srgbClr val="00ffcc"/>
                </a:solidFill>
                <a:latin typeface="Arial"/>
              </a:rPr>
              <a:t>raffronti Italia /  U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genera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53.5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63.3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femmini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39.6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53.4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ta disoccupazione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lunga dur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8.3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4.9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ultra 55enn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27.7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UE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37.7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ta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disoccupazione giovani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ivario occupazione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Nord-Su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.. ma non si parlava delle criticità più preoccupante: economia sommersa e lavoro ne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0cc10"/>
                </a:solidFill>
                <a:latin typeface="Arial"/>
              </a:rPr>
              <a:t>Lisbona/ valutazione sull’ Italia: progressi</a:t>
            </a:r>
            <a:r>
              <a:rPr b="1" lang="it-IT" sz="3600" spc="-1" strike="noStrike">
                <a:solidFill>
                  <a:srgbClr val="d0cc1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Il più alto aumento di investimenti delle imprese (1999-2002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Un piano di riforma pensionistica di medio termine annunciato nell’autunno 2003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Introdotte misure per aumentare la flessibilità del mercato del lavor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Attuata la riforma del sistema educativo primario e secondario; aumento nei livelli di risultati dell’istruzione tra i giovani (1999-2003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Riduzione nel recepimento del mercato interno, fra i tre Paesi migliori per quanto riguarda il recepimento delle “direttive di Lisbona”.</a:t>
            </a:r>
            <a:r>
              <a:rPr b="0" lang="it-IT" sz="2000" spc="-1" strike="noStrike">
                <a:solidFill>
                  <a:srgbClr val="d0cc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0cc10"/>
                </a:solidFill>
                <a:latin typeface="Arial"/>
              </a:rPr>
              <a:t>Lisbona/ valutazione sull’ Italia: ritardi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Il più basso tasso occupazionale complessivo (56,1%) e delle donne (42%) nell’Ue, con il più alto tasso di disoccupazione di lunga durata, al 5,3%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Considerevole calo della produttività del lavoro tra il 1999 e il 2003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Un consolidamento finanziario durevole dev’essere ancora conseguito e la sostenibilità a lungo termine delle finanze pubbliche è incer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Lentezze nella liberalizzazione del settore dei servizi e dei mercati dell’energi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Un elevato numero di infrazioni per scorretta applicazione delle norme del mercato interno e un alto deficit di recepimento per quanto riguarda le direttive sul mercato intern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generali</a:t>
            </a:r>
            <a:br>
              <a:rPr sz="3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TO=  tasso di occupazione</a:t>
            </a:r>
            <a:br>
              <a:rPr sz="1600"/>
            </a:b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TA= tasso di attività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15 - 64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63,3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69,7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15 - 24 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36,8 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45,1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25 - 54 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76,8 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83,6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55  – 64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41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43,9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avoro, occupazione e dialogo sociale nel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trattato costituzional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l progetto si parla di 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economia sociale di mercat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fortemente competitiv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Di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piena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ccupazione e di elevati livelli di occup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dialogo sociale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è nel capitolo “vita democratica dell’Unione”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Strategie senza Costituzione ?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uò esistere un strategia europea senza una Costituzione Europea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 che punto siamo nel processo di ratifica del trattato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14 paesi che hanno ratificato e  e 2 n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bbiamo rassegnarci ad una Europa a “geometria variabile”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3600"/>
            </a:b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UE 2007 – 2013 / 1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Giugno 2005: vi è un primo fallimento del Consiglio a giugno 2005. Divergenze s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Quanto versare da parte di ciascun stato membr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Come spendere (articolazione della spes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Lo “scontro” Blair / Chira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3600"/>
            </a:b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UE 2007 – 2013 / 2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 Consiglio europeo  (capi di stato e di governo) a  dicembre 2005 trova un accordo 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.. Ma il parlamento europeo (autorità di bilancio) a gennaio contesta l’accor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GB:  accetta la riduzione di 10 miliardi di € in sette anni dello sconto sui contributi all’UE di cui gode da 20 an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FR: accetta di anticipare al 2008 / 2009 la discussione sulla PAC che doveva  svolgersi nel 20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D: mette a disposizione 100 milioni di € già assegnati ai lander tedesch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i stabilisce una spesa complessiva di 862,363 mld di 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he rappresenta 1,045 sul PIL (prodotto interno lord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.. Netto calo finanziario rispetto al massimale finanziario fissato a suo tempo (1,24% sul PIL), a metà strada tra la proposta della presidenza lussemburghese e l’opposizione di molti pae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pese raggruppate in alcuni capitol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Strategia di Lisbo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Politica di coesione (nuovi fondi strutturali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Tutela e gestione delle risorse naturali (agricoltura, pesca, etc) il cui massimale è stato fissato nel 200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Libertà sicurezza e giustiz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………………………</a:t>
            </a: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………………………</a:t>
            </a: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Per cooperazione e aiuti umanitari : 6,3 mld nel 2007 che saliranno a 8 mld nel 2013……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bd189"/>
                </a:solidFill>
                <a:latin typeface="Arial"/>
              </a:rPr>
              <a:t>Le critiche del parlamento europeo …… e l’accordo di questa nott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18 gennaio ha respinto la proposta e ha proposta l’avvio di “negoziati costruttivi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 governi combattono per preservare i propri interessi nazionali piuttosto che generare una dimensione europea 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Accordo  tra parlamento e consiglio: + 4 MLD di € (rispetto ai 12 proposti dal P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general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ccupati PT: 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16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 tempo determinato 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13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i servizi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69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ll’ industria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25,2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n agricoltura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5,1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avoratori autonomi: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 15,9%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comparat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’occupazione nell’UE 2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63,3 % 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Tahoma"/>
              </a:rPr>
              <a:t>(I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57,6 )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omini 70,9  %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(I  70,1)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Donne  55,7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(45,2  I 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a disoccupazione nell ‘UE  25 8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(eurostat nov. 05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TOT.    8,5%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I 7,5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Uomini 7,6 5%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I 6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nne 9,6 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 I 9,7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Giovani 18,4 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 24,1 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ahoma"/>
              </a:rPr>
              <a:t>Usa :  5 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ahoma"/>
              </a:rPr>
              <a:t>Giappone:   4,6 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comparat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ahoma"/>
              </a:rPr>
              <a:t>14,4% delle donne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e 13,2 % degli uomini hanno un impiego temporane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(13,7 % media genera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Occupazione  U/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D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art time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20-49 anni con/  senza figli minori di 12 anni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Senza fig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   PT   3,5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D   PT   15,2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Con fig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    PT  2,6 %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D    PT  22,7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La crescita in Europ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EUROPA    + O,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USA  + 3,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GIAPPONE  + 2,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Le “tappe storiche”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libro bianco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di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Delors ( ’93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 fa nascere la discussione sull’occupazione e la necessità di politiche coordi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l Consiglio di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Essen (’94 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vara  il primo piano di azione in 5 settori prioritar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Il Consiglio di Lussemburgo (’97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sancisce un nuovo metodo di coordinament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Consiglio  di Lisbona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(2000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definisce  la strategia europea sull’occupaz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ussemburgo: </a:t>
            </a:r>
            <a:br>
              <a:rPr sz="2800"/>
            </a:br>
            <a:r>
              <a:rPr b="1" lang="it-IT" sz="2800" spc="-1" strike="noStrike">
                <a:solidFill>
                  <a:srgbClr val="ff99ff"/>
                </a:solidFill>
                <a:latin typeface="Tahoma"/>
              </a:rPr>
              <a:t>4 pilastri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        /      </a:t>
            </a:r>
            <a:r>
              <a:rPr b="1" lang="it-IT" sz="2800" spc="-1" strike="noStrike">
                <a:solidFill>
                  <a:srgbClr val="ff99ff"/>
                </a:solidFill>
                <a:latin typeface="Tahoma"/>
              </a:rPr>
              <a:t>un nuovo metodo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Occupabilit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Adattabilit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Imprenditorialit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Pari opportunit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Si concretizza il principi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occupazione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preoccupazione </a:t>
            </a: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comune”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l procedimento di Lussemburgo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izio anno: il Consiglio approva orientamenti occupazionali su proposta della Commissione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(Linee guida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ogrammi di azione nazionali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(NA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elazione congiunta di Commissione  e Consiglio a fine anno sugli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andamen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La Commissione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fa propost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sulla revisione delle prio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ende corpo il “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metodo di coordinamento aperto”: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programmazione,  monitoraggio,  esame e  riadeguementi annual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30:01Z</dcterms:created>
  <dc:creator>rita.pavan</dc:creator>
  <dc:description/>
  <dc:language>en-US</dc:language>
  <cp:lastModifiedBy>pc-gcognigni</cp:lastModifiedBy>
  <dcterms:modified xsi:type="dcterms:W3CDTF">2008-11-27T10:48:25Z</dcterms:modified>
  <cp:revision>24</cp:revision>
  <dc:subject/>
  <dc:title>Europa e lavoro</dc:title>
</cp:coreProperties>
</file>