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EAA-D1B5-441C-90D5-2C885619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1B2-5179-461C-9B4A-7CDC8C0B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937-3694-4733-9184-CFD119DA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F4F-0615-4877-A8ED-A7A11A20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C21-9865-4182-9A4F-67D59C7B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B6C-3D95-4C51-B52A-9A3DC8B2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1E7-167F-40B9-A2FD-661F402E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6E5-BF14-4093-8040-EAA06DFF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BD9-B7C7-46F7-AD05-8A8C3E6B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DF7-5C58-4F88-B010-3FE9981C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FB8-0D27-42CE-BEFE-CC408ED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8BF-6794-45FC-BC2A-A8D52916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3F9E-0E81-45C8-B01B-84BFA116A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810240" cy="74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504800"/>
            <a:ext cx="74167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80"/>
                </a:solidFill>
                <a:latin typeface="Times New Roman"/>
              </a:rPr>
              <a:t>Verso i L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80"/>
                </a:solidFill>
                <a:latin typeface="Times New Roman"/>
              </a:rPr>
              <a:t>Prospettive ed esperienze in 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80"/>
                </a:solidFill>
                <a:latin typeface="Times New Roman"/>
              </a:rPr>
              <a:t>Proposte ed analisi per la definizione dei 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80"/>
                </a:solidFill>
                <a:latin typeface="Times New Roman"/>
              </a:rPr>
              <a:t>Seminario Asso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80"/>
                </a:solidFill>
                <a:latin typeface="Times New Roman"/>
              </a:rPr>
              <a:t>Firenze - Villa Mont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80"/>
                </a:solidFill>
                <a:latin typeface="Times New Roman"/>
              </a:rPr>
              <a:t>26 giugno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0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54160" y="189000"/>
            <a:ext cx="2157120" cy="639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99736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8080"/>
                </a:solidFill>
                <a:latin typeface="Times New Roman"/>
              </a:rPr>
              <a:t>l’attività dell’Osservatorio Nazionale sull’Organizzazione e sulla Gestione delle Arpa Ap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L’attività ONOG sui LET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zione progetti elabor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2411640" cy="714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30032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ttu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092320"/>
            <a:ext cx="8496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ttività ONOG sui LETA: elaborazioni, risultati, prodo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ttività ONOG sui LETA: programmazione progetti elabor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54160" y="189000"/>
            <a:ext cx="2157120" cy="63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915920"/>
            <a:ext cx="885672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O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sservatorio Nazionale sull’Organizzazione e sulla Gestione delle Arpa Ap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54160" y="189000"/>
            <a:ext cx="2157120" cy="639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4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292720" y="2781360"/>
            <a:ext cx="367200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80"/>
                </a:solidFill>
                <a:latin typeface="Arial"/>
              </a:rPr>
              <a:t>Costituzione</a:t>
            </a: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: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80"/>
                </a:solidFill>
                <a:latin typeface="Arial"/>
              </a:rPr>
              <a:t>Primo rinnovo</a:t>
            </a: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: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80"/>
                </a:solidFill>
                <a:latin typeface="Arial"/>
              </a:rPr>
              <a:t>Secondo rinnovo</a:t>
            </a: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: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80"/>
                </a:solidFill>
                <a:latin typeface="Arial"/>
              </a:rPr>
              <a:t>Prodott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3 Rapporti di Benchma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2 pubblicazioni su tema del “Finanziament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80"/>
                </a:solidFill>
                <a:latin typeface="Arial"/>
              </a:rPr>
              <a:t>Partecipazion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FORUM 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Conferenze delle Agenzie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Laboratorio Cantieri D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2131920"/>
            <a:ext cx="82789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velli Essenziali di Tutela Ambi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54160" y="189000"/>
            <a:ext cx="2157120" cy="639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964720" cy="33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concetto di LETA viene utilizzato per la prima volta in una ricerca condotta da Arpa Lombardia per conto di ONO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ccessivamente ONOG ha sviluppato un progetto specifico - tutt’ora in corso - il cui coordinamento generale è affidato ad Arpa Emilia Romag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progetto ha come obiettivi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analisi delle modalità e delle forme di sostentamento economico del Sistema Agenziale nelle diverse realtà regionali, anche in rapporto agli aspetti legislativi ed economico-finanziari della spesa in campo ambientale in Itali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definizione, la quantificazione e la determinazione di LETA per il Sistema Agenziale, con analisi della struttura dei costi delle attività per stimare l'ammontare della quota minima di finanziamento delle Agenzie e la correlazioni fra finanziamento e attività istituziona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54160" y="189000"/>
            <a:ext cx="2157120" cy="63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496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percorso delineato dal progetto preve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definizione, attraverso un ampio set di indicatori ambientali e socioeconomici, di un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ndice territoriale sintetic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appresentativo de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quadro dei determinan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he influiscono in via diretta o indiretta sulla domanda di prevenzione e controllo incidente sulle Agenzi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nalisi e l’individuazione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ipologie ed entità di prestazioni che le stesse debbono assicurar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n riferimento ai dettami normativi ed alle istanze territoriali local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disegno unitario e condiviso su cui oggi si muove il Sistema agenziale prevede i seguenti passagg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troduzione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menti di rilevazione analitic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in grado di interfacciare le rilevazioni dei dati sulle attività (utilizzando indicatori tecnico-scientifici secondo lo schema DPSIR) con i dati di contabilità economico-finanziaria, per tipologie di intervento e per matrice ambienta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terminazione sistematica del fabbisogno finanziario per centri di spesa (o di costo) attraverso l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ilevazione delle attività caratteristiche e l’applicazione di costi standard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ai processi precedentemente definit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ndividuazione dei livelli essenziali di tutela dell’ambien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LETA) per garantire la uniformità di prestazioni su tutto il territorio naziona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oposta di attribuzione del finanziamento a copertura dei LET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– secondo parametri e indicatori territoriali – e individuazione dei canali di finanziamento per l’attuazione di programmi regionali, nel rispetto delle prerogative attribuite ai diversi livelli di gover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54160" y="189000"/>
            <a:ext cx="2157120" cy="639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9600" y="2349360"/>
            <a:ext cx="63802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’attività ONOG sui LE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borazioni, risultati, prodo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2411640" cy="714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3:08:24Z</dcterms:created>
  <dc:creator>rossato</dc:creator>
  <dc:description/>
  <dc:language>en-US</dc:language>
  <cp:lastModifiedBy>ptestai</cp:lastModifiedBy>
  <dcterms:modified xsi:type="dcterms:W3CDTF">2008-06-24T10:37:10Z</dcterms:modified>
  <cp:revision>8</cp:revision>
  <dc:subject/>
  <dc:title>Presentazione di PowerPoint</dc:title>
</cp:coreProperties>
</file>