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BA5-E32D-445C-B978-AF2CEDC3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302-F8F7-4AF0-97F4-3260F1AF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DF0-76D8-4B3F-8A9D-38B6C493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C72-87C1-42B3-AB6C-C85C54BF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73C-25D2-4F42-AB53-C6F0E187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144-2B93-49D1-AC43-9B8A36D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F7D-938D-42E8-8C74-B1C574C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DED-CF89-4515-AB70-98E52BA5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31D-0FF3-4CFA-A9F3-3513670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9BE-DD38-420F-8E2B-8A8E703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C42-395C-498B-B98F-8DD3DBE3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FF7-0B05-4C5E-B6C7-64C94F3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F8FB-4FB1-4CDA-A401-0C7856AC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2205000"/>
            <a:ext cx="619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c6648"/>
                </a:solidFill>
                <a:latin typeface="Arial"/>
              </a:rPr>
              <a:t>Firenze, 26 giugno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c6648"/>
                </a:solidFill>
                <a:latin typeface="Arial"/>
              </a:rPr>
              <a:t>Asso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1338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c6648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1c6648"/>
                </a:solidFill>
                <a:latin typeface="Arial"/>
              </a:rPr>
              <a:t>L’esperienza LETA in Arpa Vene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604-9CC0-499E-A06D-08E2AE3D6E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541600"/>
            <a:ext cx="7704000" cy="302580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I risultati del progetto Benchmarking con particolare riferimento alle lin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   “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Attività e Funzioni” </a:t>
            </a:r>
            <a:r>
              <a:rPr b="1" lang="it-IT" sz="1600" spc="-1" strike="noStrike">
                <a:solidFill>
                  <a:srgbClr val="1c6648"/>
                </a:solidFill>
                <a:latin typeface="Arial"/>
              </a:rPr>
              <a:t>(coordinata da Arpa Veneto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    “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Pianificazione e Controllo” </a:t>
            </a:r>
            <a:r>
              <a:rPr b="1" lang="it-IT" sz="1600" spc="-1" strike="noStrike">
                <a:solidFill>
                  <a:srgbClr val="1c6648"/>
                </a:solidFill>
                <a:latin typeface="Arial"/>
              </a:rPr>
              <a:t>(coordinata da Arpa Lombardia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sono stati un punto di partenza per il lavoro svolto da ARPA Emilia-Romagna nella definizione di una prima ipotesi di dimensionamento dei LETA presentata alla X Conferenza delle Agenzie Ambientali nel marzo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di condivisione </a:t>
            </a:r>
            <a:r>
              <a:rPr b="1" lang="en-US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E64-6697-486E-A684-DBDC2936E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44640"/>
            <a:ext cx="770436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Quanto è stato fatto (…e si farà) internamente ad ARPA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Le esperienze maturate nell’ambito del sistema agenziale con il progetto Benchmark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L’ipotesi di dimensionamento elaborata da ARPA 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Gli auspicabili risultati del Gruppo di lavoro agenziale sui LETA promosso da ONOG </a:t>
            </a:r>
            <a:r>
              <a:rPr b="0" lang="it-IT" sz="1600" spc="-1" strike="noStrike">
                <a:solidFill>
                  <a:srgbClr val="1c6648"/>
                </a:solidFill>
                <a:latin typeface="Arial"/>
              </a:rPr>
              <a:t>(Piano Attività ONOG 2007-2008)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in conclu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487760"/>
            <a:ext cx="7704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648"/>
                </a:solidFill>
                <a:latin typeface="Arial"/>
              </a:rPr>
              <a:t>Queste sono le basi da cui ARPAV intende partire per raggiungere l’obiettivo prefissatosi nella pianificazione strategica 2008-20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  <a:ea typeface="Times New Roman"/>
              </a:rPr>
              <a:t>Definire ed elaborare i Livelli Essenziali di Tutela Ambientale da impiegare nella pianificazione e programmazione a livello region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357-26EA-40B6-8EAD-CB13B42CF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6720" y="1125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Il finanziamento delle Agenzie per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7548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4365720"/>
            <a:ext cx="7705800" cy="10792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ETA come premessa indispensabile per poter procedere all’individuazione di idonei criteri per i trasferimenti di ris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492280"/>
            <a:ext cx="7705800" cy="10810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l finanziamento delle agenzie: un tema “scottante” fin dalla legge costitutiva 61/94 e gli indicatori ivi previsti (art. 03 comma 2) per la definizione delle risorse (mai applicati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617-604E-44D7-B7A4-5064536EF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844640"/>
            <a:ext cx="7705800" cy="144144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ivelli Essenziali di Tutela Ambientale garantiscono l’uniformità di godimento del diritto alla tutela dell’ambiente da parte di tutti i cittadini italiani (analogia con i LEA della sanità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’esperienza LETA in Arpa Ven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645000"/>
            <a:ext cx="7705800" cy="25207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6040" indent="-176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ETA nel Piano Pluriennale 2008-2010 di attività di ARP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Obiettivo strategico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(“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</a:rPr>
              <a:t>4.4 - 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Definire ed elaborare i Livelli Essenziali di Tutela Ambientale da impiegare nella pianificazione e programmazione a livello region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”)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Azione strategica</a:t>
            </a:r>
            <a:r>
              <a:rPr b="1" lang="en-US" sz="1800" spc="-1" strike="noStrike">
                <a:solidFill>
                  <a:srgbClr val="1c6648"/>
                </a:solidFill>
                <a:latin typeface="Arial"/>
              </a:rPr>
              <a:t> di implementazione dell’Obiettivo 4.4,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(“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</a:rPr>
              <a:t>4.4.1 - 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Contribuire attivamente alla definizione dei LETA a livello nazionale all'interno del sistema agenzi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978-21A2-432A-BBB1-168A160AB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3213000"/>
            <a:ext cx="7991280" cy="144000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n entrambi i casi appena citati non si tratta, in realtà, di avviare nel prossimo futuro azioni </a:t>
            </a:r>
            <a:r>
              <a:rPr b="1" i="1" lang="en-US" sz="2000" spc="-1" strike="noStrike">
                <a:solidFill>
                  <a:srgbClr val="1c6648"/>
                </a:solidFill>
                <a:latin typeface="Arial"/>
              </a:rPr>
              <a:t>ex novo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volte a sviluppare la tematica LETA, ma piuttosto di </a:t>
            </a:r>
            <a:r>
              <a:rPr b="1" i="1" lang="en-US" sz="2000" spc="-1" strike="noStrike" u="sng">
                <a:solidFill>
                  <a:srgbClr val="1c6648"/>
                </a:solidFill>
                <a:uFillTx/>
                <a:latin typeface="Arial"/>
              </a:rPr>
              <a:t>confermare e rinnovare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sforzi già profusi in tale direzione da ARPAV negli ultimi an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12536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’esperienza LETA in Arpa Ven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194-4C47-4336-BB6B-BC6D36BE82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700280"/>
            <a:ext cx="7848360" cy="79200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Temi propedeutici ai LETA sviluppati in un’ottica interna all’Agenz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851200"/>
            <a:ext cx="7848360" cy="324180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La determinazione della pressione ambientale sul territorio</a:t>
            </a:r>
            <a:r>
              <a:rPr b="1" lang="en-US" sz="1800" spc="-1" strike="noStrike">
                <a:solidFill>
                  <a:srgbClr val="1c6648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Stima delle peculiarità del territorio geografico di riferimento e degli impatti dei fattori di pressione che vi intervengo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A questo fine è stata effettu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00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la raccolta dei “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Determinanti la Pressione Ambient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” del Veneto </a:t>
            </a:r>
            <a:r>
              <a:rPr b="0" lang="en-US" sz="1600" spc="-1" strike="noStrike">
                <a:solidFill>
                  <a:srgbClr val="1c6648"/>
                </a:solidFill>
                <a:latin typeface="Arial"/>
              </a:rPr>
              <a:t>(Piano Pluriennale 2005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la pubblicazione (cartacea e virtuale) del “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Rapporto sugli Indicatori Ambientali del Veneto 2008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83808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94D-5E93-4B87-B33C-CB09C8649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692280"/>
            <a:ext cx="813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 </a:t>
            </a:r>
            <a:br>
              <a:rPr sz="2800"/>
            </a:br>
            <a:br>
              <a:rPr sz="400"/>
            </a:b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“</a:t>
            </a: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focus sui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Determinanti la Pressione Ambientale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680000" cy="44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76720" y="1557360"/>
            <a:ext cx="37432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c6648"/>
                </a:solidFill>
                <a:latin typeface="Arial"/>
              </a:rPr>
              <a:t>86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voci raggruppate in </a:t>
            </a:r>
            <a:r>
              <a:rPr b="1" lang="it-IT" sz="1800" spc="-1" strike="noStrike">
                <a:solidFill>
                  <a:srgbClr val="1c6648"/>
                </a:solidFill>
                <a:latin typeface="Arial"/>
              </a:rPr>
              <a:t>8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macro descrittori</a:t>
            </a:r>
            <a:r>
              <a:rPr b="1" lang="it-IT" sz="2400" spc="-1" strike="noStrike">
                <a:solidFill>
                  <a:srgbClr val="1c6648"/>
                </a:solidFill>
                <a:latin typeface="Arial"/>
              </a:rPr>
              <a:t>*</a:t>
            </a:r>
            <a:r>
              <a:rPr b="0" lang="it-IT" sz="16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che tengono conto delle peculiarità geografiche del territorio e delle fonti di pressione ambientale, suddivisi a livello provinciale che, opportunamente elaborati, restituiscono una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STIM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 del </a:t>
            </a:r>
            <a:r>
              <a:rPr b="0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peso percentuale della pressione ambientale per provinci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65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6648"/>
                </a:solidFill>
                <a:latin typeface="Arial"/>
              </a:rPr>
              <a:t>*</a:t>
            </a:r>
            <a:r>
              <a:rPr b="1" lang="en-US" sz="13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1c6648"/>
                </a:solidFill>
                <a:latin typeface="Arial"/>
              </a:rPr>
              <a:t>Scelti sulla base di precedenti  esperienze ARPA ER, ARPAV e Sistema Agenzi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437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Un dato importante, da tenere in considerazione durante la delicata fase di ripartizione delle risorse (umane ed economiche) tra le strutture operative dell’Agen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172-92DF-4CCE-A7E4-6D71F655A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828800"/>
            <a:ext cx="8424720" cy="45529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Gli “standard di risposta alle problematiche ambientali”: </a:t>
            </a:r>
            <a:r>
              <a:rPr b="1" i="1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Attività Teoric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. Individuazione di “standard di risposta”, finalizzati all’adozione di comportamenti omogenei su tutto il territorio regionale (uguali condizioni di sicurezza ambientale e quantificazione delle risorse) tra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Il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Piano Generale delle reti di monitoraggio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I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Protocolli di Controllo sulle Fonti di Pressione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(PCFP) riguardanti depuratori, discariche, aziende a rischio di incidente rilevante (Seveso) e un gruppo sperimentale di 8  tipologie di aziende IPP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La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Gerarchia dei controlli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controllo documentale, tecnico, gestionale, analitic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L’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Analisi critic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sull’utilizzo pedìssequo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dei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trend storici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per le attività non ancora coperte da standard condivisi (spesso consuetudini operative e richieste locali condizionano pesantemente l’attività sul territo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76500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E7C-7398-431E-9B1F-BA448C1D5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924280"/>
            <a:ext cx="8064360" cy="131364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indent="-8096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N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c6648"/>
                </a:solidFill>
                <a:latin typeface="Arial"/>
              </a:rPr>
              <a:t>Ovviamente è implicito che qualsiasi tentativo di costruire standard di risposta significativi presuppone necessariamente un’analisi puntuale della domanda di attività indotta dalla normativa in vig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161-C1E6-49D4-9804-448F1AD40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di condivi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844640"/>
            <a:ext cx="7848360" cy="79236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Temi propedeutici ai LETA sviluppati in un’ottica condivisa con il sistema agenziale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(progetto Benchmarking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144960"/>
            <a:ext cx="7848360" cy="13636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Definizione delle attività istituzionali del sistema delle agenzi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. Sono state individuate le attività condivise dalle varie agenzie che possono rappresentare con oggettività le competenze, gli obblighi, gli impegni comuni sul territorio naz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748040"/>
            <a:ext cx="7848360" cy="12733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Relazione tra pressione ambientale e attività di risposta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. È stata definita una metodologia sperimentale in grado di mettere in relazione determinati livelli di pressione ambientale con la risposta potenziale delle agenzie ambient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EA7-3F81-4F02-BAD9-9FD93A737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09:45Z</dcterms:created>
  <dc:creator>gbaldo</dc:creator>
  <dc:description/>
  <dc:language>en-US</dc:language>
  <cp:lastModifiedBy>sboato</cp:lastModifiedBy>
  <dcterms:modified xsi:type="dcterms:W3CDTF">2008-06-25T20:19:30Z</dcterms:modified>
  <cp:revision>27</cp:revision>
  <dc:subject/>
  <dc:title>Diapositiva 1</dc:title>
</cp:coreProperties>
</file>