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70B-BF92-4739-9A05-D9A968EC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D0D-F45F-4E86-905D-AFDAEB5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848-7754-4E52-8A6A-7428679D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A93-43C6-4A55-9259-8E071F21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1B2-A38D-4F7A-8278-9596240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72C-4DE0-4AC0-A0E9-7A2AA33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9A8-2F7F-4825-81BB-C853A84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489-533C-4EB2-8A2A-4FB625B0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3B3-1BAF-454D-A23B-13265D9A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70B-EAE6-4297-8E97-FEE86A5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B28-7CED-47F5-BA46-65A747A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732-608E-4E0F-9DBB-D773254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492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E56-9349-4A96-A98B-33D5B33E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328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o i LETA: esperienze in corso a livello regionale. 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aso Lomba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ca March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rettore Settore Programmazione e sviluppo organizz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PA Lombard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ario AssoA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Verso i LETA: prospettive ed esperienze a conf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6 giugno 2008 - Fir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664-E231-4EE0-A619-AB61B01B41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questione de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ò, in realtà, assa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iù ampia e più comples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uazione della Costituzione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t. 1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econdo comma, letter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tribuisce al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islazione esclusiva dello Sta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la determinazione de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velli essenziali delle prestazioni (LEP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enti i diritti civili e sociali che devono essere garantiti su tutto il territorio nazion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zi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ercitate d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tri sogget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(p.e. provin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54A-D774-42FB-B0BB-93F79D0615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empi di LE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1532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 – Livelli Essenziali di Assistenza (D.Lgs. 502/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AS – Livelli Essenziali dell’Assistenza Sociale (L. 328/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o la giurisprudenza della Suprema Corte, il  concetto è applicabile a ciò che garantisce diritti civili e sociali, dunque anche all’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attuazione dell’art. 116 Cost. (il cd. REGIONALISMO DIFFERENZIATO) potrebbe aprire nuove prospettive sul tema dei 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217-0424-4BCB-B08D-4F83FB6F6B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Agenzial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uolo di proposta al legislatore nell’ambito della cd. “questione ordinamenta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70160"/>
            <a:ext cx="82296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l concetto di “Sistema Agenzial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l ruolo delle Agenzie nel rapporto con i livelli istituzionali (Stato, Regioni, EEL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 compiti e l’obbligatorietà degli interv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a questione del Finanz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DF0-2229-44F1-BDD1-1FE5017FCC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815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une Regioni stanno provando ad “anticipare” alcuni aspetti del ragionamen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 base tecn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er “negoziare” il finanziamento 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l finanziam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1F8-FCDE-427E-BBE2-DCD2022BCB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9536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stretta cooperazione tr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PA e Regio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esidenza della Giu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ppatura dei process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individuazione di tipologie ed entità delle prestazioni da assicurare, con riferimento alle leggi e alle istanze territo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o dei determinanti/pressi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 influiscono sulla domanda di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percorso ipotizzato in Lombardi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B7C-F79A-4216-8D8B-E2730754B6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percorso ipotizzato in Lombardi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isi dei costi unitari di process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cessari per la produ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olidamen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gl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menti di rilev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grado di interfacciare i dati di attività con i dati di contabi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viduazione dei livelli attes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 pr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zione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bbisogno finanziar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raverso applicazione costi standard ai processi e ai livelli definit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51E-26B5-4FA4-9007-9513401E1A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360" y="3341520"/>
            <a:ext cx="8945640" cy="204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7360" y="5378400"/>
            <a:ext cx="151920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1800" y="5378400"/>
            <a:ext cx="98604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8200" y="5378400"/>
            <a:ext cx="255888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7360" y="6324480"/>
            <a:ext cx="15192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6040" y="6324480"/>
            <a:ext cx="5376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537000"/>
            <a:ext cx="7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GRAN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7000" y="3773520"/>
            <a:ext cx="62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ISCH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960" y="4011480"/>
            <a:ext cx="109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INDUST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7720" y="4249800"/>
            <a:ext cx="118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Legge 334/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4520" y="448632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"/>
              </a:rPr>
              <a:t>SMI Dlgs. 23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080" y="4724280"/>
            <a:ext cx="115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ISTRUTTOR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440" y="4960800"/>
            <a:ext cx="114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GS EX N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36840" y="3656160"/>
            <a:ext cx="6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Tip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52880" y="3892680"/>
            <a:ext cx="9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</a:rPr>
              <a:t>interv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5080" y="413064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de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0" y="43671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(modalità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4605480"/>
            <a:ext cx="14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esecuzione de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06600" y="4842000"/>
            <a:ext cx="62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attività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1520" y="4130640"/>
            <a:ext cx="127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% di attività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06640" y="4367160"/>
            <a:ext cx="80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ealizz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22720" y="401148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N° contro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7600" y="4249800"/>
            <a:ext cx="21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0440" y="44863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effett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5000" y="341784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tima tem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9720" y="36561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tandard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2960" y="3892680"/>
            <a:ext cx="9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ifer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75040" y="413064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(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72840" y="4367160"/>
            <a:ext cx="130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ore/azienda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16840" y="460548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controll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31240" y="4842000"/>
            <a:ext cx="97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art. 8 = 1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10240" y="50799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o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920" y="5388120"/>
            <a:ext cx="139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Istruttorie impia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" y="55818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art.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02800" y="5388120"/>
            <a:ext cx="91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rt.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55371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19160" y="5388120"/>
            <a:ext cx="122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1 ispezione/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6840" y="5581800"/>
            <a:ext cx="13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_ 1 istruttoria 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538812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contro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8440" y="5548320"/>
            <a:ext cx="1269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71840" y="558180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ssegn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19800" y="55371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2200" y="55371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480" y="5880240"/>
            <a:ext cx="141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Istruttorie imp.(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3320" y="607392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"/>
              </a:rPr>
              <a:t>8) extra provici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02800" y="5880240"/>
            <a:ext cx="91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rt.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6010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9160" y="5880240"/>
            <a:ext cx="122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1 ispezione/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6840" y="6073920"/>
            <a:ext cx="13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_ 1 istruttoria 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73640" y="588024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contro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8440" y="6040440"/>
            <a:ext cx="1269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2560" y="6073920"/>
            <a:ext cx="126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 assegn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16800" y="6010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6369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720" y="6369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53360" y="6326280"/>
            <a:ext cx="48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96960" y="3830760"/>
            <a:ext cx="214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"/>
              </a:rPr>
              <a:t>Indice di pressione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5760" y="4113360"/>
            <a:ext cx="188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Programma di rientro R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8160" y="43070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3332160"/>
            <a:ext cx="1440" cy="333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3332160"/>
            <a:ext cx="17280" cy="33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2576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668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668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0848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848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316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316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6592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6592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5364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5364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3880" y="5388120"/>
            <a:ext cx="1800" cy="12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93880" y="5388120"/>
            <a:ext cx="17640" cy="127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280" y="333216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280" y="333216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280" y="5370480"/>
            <a:ext cx="894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280" y="537048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280" y="5862600"/>
            <a:ext cx="894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280" y="586260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280" y="631512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280" y="6315120"/>
            <a:ext cx="8945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280" y="664848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280" y="6648480"/>
            <a:ext cx="8945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56720" y="6235560"/>
            <a:ext cx="93636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2588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o spesa storica:  contrasta con principi di efficacia, efficienza ed economicità che devono caratterizzare l’attività della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327240"/>
            <a:ext cx="40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’ necessari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struire 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dello di finanziamento che metta in relazion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cenar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ambiental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zion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di tute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necessari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in un quadro di compatibilità elaborato e concordato con la Regione, che preveda una sistematica attività di monitoraggio della sp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766"/>
          <a:stretch/>
        </p:blipFill>
        <p:spPr>
          <a:xfrm>
            <a:off x="2484360" y="469800"/>
            <a:ext cx="2374920" cy="2167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5076720" y="1484280"/>
            <a:ext cx="1656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01080" y="1413000"/>
            <a:ext cx="43164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59280" y="1125360"/>
            <a:ext cx="36734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re bene i pro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Q ISO 9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20D-CE20-4D4E-BF76-B22F90395F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511520" cy="62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16280" y="1066680"/>
            <a:ext cx="4419720" cy="566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932360" y="1947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so i L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8487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6600" y="457200"/>
            <a:ext cx="38545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zi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le ARPA  appare ogg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correlato alla domanda di serv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a domanda è quantitativamente e qualitativamente in forte espan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 della spesa sto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mero adeguamento al tasso inflat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24280" y="3352680"/>
          <a:ext cx="4032360" cy="19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40323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0" y="457200"/>
          <a:ext cx="4356000" cy="26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57200"/>
                    <a:ext cx="4356000" cy="2665440"/>
                  </a:xfrm>
                  <a:prstGeom prst="rect">
                    <a:avLst/>
                  </a:prstGeom>
                  <a:ln cap="sq" w="1260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4644360" y="4960080"/>
            <a:ext cx="3927960" cy="1230840"/>
            <a:chOff x="4644360" y="4960080"/>
            <a:chExt cx="3927960" cy="1230840"/>
          </a:xfrm>
        </p:grpSpPr>
        <p:sp>
          <p:nvSpPr>
            <p:cNvPr id="49" name=""/>
            <p:cNvSpPr/>
            <p:nvPr/>
          </p:nvSpPr>
          <p:spPr>
            <a:xfrm rot="18219000">
              <a:off x="4564440" y="5362560"/>
              <a:ext cx="93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. A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169200">
              <a:off x="4974120" y="5290560"/>
              <a:ext cx="79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l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8264600">
              <a:off x="5063400" y="534564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riuli V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8188400">
              <a:off x="5384520" y="5384160"/>
              <a:ext cx="9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silic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122400">
              <a:off x="5642640" y="5414040"/>
              <a:ext cx="90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iemo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978400">
              <a:off x="5902200" y="54054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sc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7961000">
              <a:off x="6557400" y="529164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n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7929800">
              <a:off x="6849000" y="5288040"/>
              <a:ext cx="7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mb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7823000">
              <a:off x="7066080" y="53589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lz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7805600">
              <a:off x="7352280" y="5360040"/>
              <a:ext cx="7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7693400">
              <a:off x="7634880" y="52552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z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775000">
              <a:off x="7664760" y="542484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mbar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004800">
              <a:off x="5991840" y="5421600"/>
              <a:ext cx="12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. Romag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2469" t="4886" r="3566" b="4886"/>
          <a:stretch/>
        </p:blipFill>
        <p:spPr>
          <a:xfrm>
            <a:off x="3348000" y="4078440"/>
            <a:ext cx="5688000" cy="266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5423" r="0" b="0"/>
          <a:stretch/>
        </p:blipFill>
        <p:spPr>
          <a:xfrm>
            <a:off x="179280" y="669960"/>
            <a:ext cx="8404200" cy="3767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324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so i LETA. 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hema LETA ARPA Lomba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276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8781" y="3794"/>
                </a:moveTo>
                <a:lnTo>
                  <a:pt x="22794" y="10800"/>
                </a:lnTo>
                <a:lnTo>
                  <a:pt x="878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811-45BD-4DE4-9F00-17FDADAC64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903240"/>
            <a:ext cx="403200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rainstorm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rezioni Settori e Diparti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83816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simento delle prestazioni ero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419280" y="1484280"/>
            <a:ext cx="242244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65572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elenco prodotti attualmente erog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3080" y="359100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ggruppamento prodotti in macro-categor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3236760"/>
            <a:ext cx="242244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529160"/>
            <a:ext cx="403200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finizione livelli di “cogenza” per 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110200"/>
            <a:ext cx="2422440" cy="43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155640" y="5373360"/>
            <a:ext cx="1224000" cy="13669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1947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13200" y="1413000"/>
            <a:ext cx="292716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9280" y="2384280"/>
            <a:ext cx="8785440" cy="40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7928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.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1263600"/>
            <a:ext cx="309708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orizzazione delle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198520"/>
            <a:ext cx="4032360" cy="10087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 di pressione/domanda regionale e numero di attività svolte ne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132000" y="1844640"/>
            <a:ext cx="242280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4005360"/>
            <a:ext cx="6192720" cy="1871640"/>
          </a:xfrm>
          <a:prstGeom prst="downArrowCallout">
            <a:avLst>
              <a:gd name="adj1" fmla="val 82695"/>
              <a:gd name="adj2" fmla="val 82733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4148280"/>
            <a:ext cx="5905440" cy="93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21351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idamento strumenti di rilevazione analitica in grado di interfacciare i dati di attività (secondo indicatori DPSIR) con dati di contabilità economico/finanziaria, per tipologie di intervento e per matrice ambien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5856120"/>
            <a:ext cx="812880" cy="392400"/>
          </a:xfrm>
          <a:custGeom>
            <a:avLst/>
            <a:gdLst>
              <a:gd name="textAreaLeft" fmla="*/ 126720 w 812880"/>
              <a:gd name="textAreaRight" fmla="*/ 711360 w 812880"/>
              <a:gd name="textAreaTop" fmla="*/ 97920 h 392400"/>
              <a:gd name="textAreaBottom" fmla="*/ 294480 h 392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1270080"/>
            <a:ext cx="6048720" cy="934920"/>
          </a:xfrm>
          <a:prstGeom prst="downArrowCallout">
            <a:avLst>
              <a:gd name="adj1" fmla="val 161699"/>
              <a:gd name="adj2" fmla="val 161774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341360"/>
            <a:ext cx="5905440" cy="505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 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5080" y="3111480"/>
            <a:ext cx="648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s.: processo grandi rischi indust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Legge 334/99 SMI D.lgs. 238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ISTRUTTORIE SGS EX N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443640" y="4419720"/>
            <a:ext cx="2592360" cy="18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8360" y="4251240"/>
            <a:ext cx="5256000" cy="16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17928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: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3840" y="2782800"/>
            <a:ext cx="80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azione sistematica del fabbisogno finanziario per centri di costo attraverso la rilevazione delle attività caratteristiche e la applicazione di costi standard ai processi precedentemente defin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1622520"/>
            <a:ext cx="6048720" cy="934920"/>
          </a:xfrm>
          <a:prstGeom prst="downArrowCallout">
            <a:avLst>
              <a:gd name="adj1" fmla="val 161699"/>
              <a:gd name="adj2" fmla="val 161774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1693800"/>
            <a:ext cx="590544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 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88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: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971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azie per l’attenzion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3A4-E69C-4885-8048-F16A3002DF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403200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mbardia: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a Regione / S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 milioni di abit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% del 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Provi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00 Com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0.000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4360" y="44280"/>
            <a:ext cx="6659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ahoma"/>
              </a:rPr>
              <a:t>Popolazio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1672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 rot="19224000">
            <a:off x="4790880" y="3685680"/>
            <a:ext cx="898200" cy="216000"/>
          </a:xfrm>
          <a:prstGeom prst="leftArrow">
            <a:avLst>
              <a:gd name="adj1" fmla="val 50000"/>
              <a:gd name="adj2" fmla="val 103958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89640" y="5562720"/>
            <a:ext cx="56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olazione della Lombardia a confronto con i Paesi dell’Europa a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87F-F4CF-45D0-9577-0E24032BF4D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1585800"/>
          <a:ext cx="7775280" cy="40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585800"/>
                    <a:ext cx="7775280" cy="4003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484360" y="44280"/>
            <a:ext cx="6659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ahoma"/>
              </a:rPr>
              <a:t>Attività produttiv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8640" y="5638680"/>
            <a:ext cx="649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otto Interno Lordo della Lombardia a confronto con i Paesi dell’Europa a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224000">
            <a:off x="3393720" y="3428640"/>
            <a:ext cx="898560" cy="216000"/>
          </a:xfrm>
          <a:prstGeom prst="leftArrow">
            <a:avLst>
              <a:gd name="adj1" fmla="val 50000"/>
              <a:gd name="adj2" fmla="val 104000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3FF-D40B-4300-87BA-50DECBCBE9F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 cosa fronteggiamo queste pressio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 dipen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 milioni di finanziamento di parte 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o numeri adegu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F41-A512-4E99-BC58-732D1801C5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895400"/>
            <a:ext cx="807696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gge 61/94: rinvia a DM la definizione del meccanismo di finanziame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in relazione a fattori di 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ttima Conferenza delle Agenzie  (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Il finanziamento delle Agenzie ambientali”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d. APAT/ONOG Roma 2004: si usa per la prima volta il termine “LET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ategia Triennale” del Consiglio Federale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dL n. 1561 (cd. “PdL Realacci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 storia della “questione finanziame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27E-8D92-4B61-8DA2-D67BCE7B5C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 prospettiva LETA: definire un modello che metta in rel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65520"/>
            <a:ext cx="822960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enari ambientali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ssio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erminan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ritori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ioni di tutela (l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pos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o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cess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AFE-3A0F-4317-BA0D-A70F8A3B64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are l’impostazione di dipendenza dalla spesa sanitaria e di quantificazione su base sto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corare il finanziamento alla domanda di prestazi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chiesta alle agenzie, sulla base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vello minimo di prestazioni predefini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ulla base dello schema DP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 di tariffazione inter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 vada a copertura dei costi (“DRG ambienta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2CF-BCDB-4642-BC10-584CE1B6D7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01:56Z</dcterms:created>
  <dc:creator>CTESTAI</dc:creator>
  <dc:description/>
  <dc:language>en-US</dc:language>
  <cp:lastModifiedBy>pc-dirgen</cp:lastModifiedBy>
  <dcterms:modified xsi:type="dcterms:W3CDTF">2008-07-14T10:34:36Z</dcterms:modified>
  <cp:revision>21</cp:revision>
  <dc:subject/>
  <dc:title>Diapositiva 1</dc:title>
</cp:coreProperties>
</file>