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5.jpeg" ContentType="image/jpeg"/>
  <Override PartName="/ppt/media/image32.png" ContentType="image/png"/>
  <Override PartName="/ppt/media/image26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9.jpeg" ContentType="image/jpeg"/>
  <Override PartName="/ppt/media/image31.wmf" ContentType="image/x-wmf"/>
  <Override PartName="/ppt/media/image7.png" ContentType="image/png"/>
  <Override PartName="/ppt/media/image22.jpeg" ContentType="image/jpeg"/>
  <Override PartName="/ppt/media/image9.png" ContentType="image/png"/>
  <Override PartName="/ppt/media/image27.jpeg" ContentType="image/jpeg"/>
  <Override PartName="/ppt/media/image10.png" ContentType="image/png"/>
  <Override PartName="/ppt/media/image30.wmf" ContentType="image/x-wmf"/>
  <Override PartName="/ppt/media/image13.png" ContentType="image/png"/>
  <Override PartName="/ppt/media/image8.jpeg" ContentType="image/jpeg"/>
  <Override PartName="/ppt/media/image29.jpeg" ContentType="image/jpeg"/>
  <Override PartName="/ppt/media/image12.jpeg" ContentType="image/jpeg"/>
  <Override PartName="/ppt/media/image4.png" ContentType="image/png"/>
  <Override PartName="/ppt/media/image2.jpeg" ContentType="image/jpeg"/>
  <Override PartName="/ppt/media/image23.jpeg" ContentType="image/jpe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</p:sldIdLst>
  <p:sldSz cx="9907588" cy="6858000"/>
  <p:notesSz cx="67579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7572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2"/>
          </p:nvPr>
        </p:nvSpPr>
        <p:spPr>
          <a:xfrm>
            <a:off x="382896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704880" y="739440"/>
            <a:ext cx="53467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337b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899640" y="4687920"/>
            <a:ext cx="49561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3"/>
          </p:nvPr>
        </p:nvSpPr>
        <p:spPr>
          <a:xfrm>
            <a:off x="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4"/>
          </p:nvPr>
        </p:nvSpPr>
        <p:spPr>
          <a:xfrm>
            <a:off x="382896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834D4-3998-434B-AA2D-8049496C436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 txBox="1"/>
          <p:nvPr/>
        </p:nvSpPr>
        <p:spPr>
          <a:xfrm>
            <a:off x="382896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A1A1-D264-42FD-9888-7F7F043192A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382896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711360" y="739800"/>
            <a:ext cx="5346720" cy="370188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01800" y="4687920"/>
            <a:ext cx="495288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 txBox="1"/>
          <p:nvPr/>
        </p:nvSpPr>
        <p:spPr>
          <a:xfrm>
            <a:off x="382896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EC6D-5073-492D-89D2-03B67ED59D7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382896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892080" y="860400"/>
            <a:ext cx="4996080" cy="346068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01800" y="4700520"/>
            <a:ext cx="495288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 txBox="1"/>
          <p:nvPr/>
        </p:nvSpPr>
        <p:spPr>
          <a:xfrm>
            <a:off x="382896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87AE-536E-4B0E-ABFA-CA1BEAB1C7E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382896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708120" y="739800"/>
            <a:ext cx="5343480" cy="370044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899640" y="4687920"/>
            <a:ext cx="49561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 txBox="1"/>
          <p:nvPr/>
        </p:nvSpPr>
        <p:spPr>
          <a:xfrm>
            <a:off x="382896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AA4D8-22B3-431E-A602-114D40C5246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382896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-1527120" y="2336760"/>
            <a:ext cx="10497960" cy="726912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1309320" y="1149480"/>
            <a:ext cx="480852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"/>
          <p:cNvSpPr txBox="1"/>
          <p:nvPr/>
        </p:nvSpPr>
        <p:spPr>
          <a:xfrm>
            <a:off x="382896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CFC5-1CF0-4110-A7C3-68F98507C88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 txBox="1"/>
          <p:nvPr/>
        </p:nvSpPr>
        <p:spPr>
          <a:xfrm>
            <a:off x="382896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711360" y="739800"/>
            <a:ext cx="5346720" cy="370188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01800" y="4687920"/>
            <a:ext cx="495288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 txBox="1"/>
          <p:nvPr/>
        </p:nvSpPr>
        <p:spPr>
          <a:xfrm>
            <a:off x="382896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8B2F-FF50-4E7B-A949-0678DDE48E5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 txBox="1"/>
          <p:nvPr/>
        </p:nvSpPr>
        <p:spPr>
          <a:xfrm>
            <a:off x="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 txBox="1"/>
          <p:nvPr/>
        </p:nvSpPr>
        <p:spPr>
          <a:xfrm>
            <a:off x="382896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711360" y="739800"/>
            <a:ext cx="5346720" cy="370188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01800" y="4687920"/>
            <a:ext cx="495288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382896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CD9E-F447-4BD0-B837-BC08CF89B13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382896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711360" y="739800"/>
            <a:ext cx="5346720" cy="370188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01800" y="4687920"/>
            <a:ext cx="495288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 txBox="1"/>
          <p:nvPr/>
        </p:nvSpPr>
        <p:spPr>
          <a:xfrm>
            <a:off x="382896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5ED7-889D-4AAC-83DF-DADC075AA82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 txBox="1"/>
          <p:nvPr/>
        </p:nvSpPr>
        <p:spPr>
          <a:xfrm>
            <a:off x="0" y="9374040"/>
            <a:ext cx="29275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 txBox="1"/>
          <p:nvPr/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382896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711360" y="739800"/>
            <a:ext cx="5346720" cy="370188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01800" y="4687920"/>
            <a:ext cx="495288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D25C3-CF0A-4135-8D84-CBDA81E627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CA086-2480-4885-867C-7C72B646A0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A00CB-AD54-430D-8016-1B9DB3BEB3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E6697-CB66-4C52-92BD-0C45080C7E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D8434-20BA-4706-8168-C9C9E7A3CF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2896B-1A03-44A8-A506-0D3CD30F981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CE05A-8903-4DC3-8008-CE58EB09BB4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C5101-B592-4110-AEB1-FE5463656B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9AA4F-C66D-4931-AB0E-3517FD47F8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B1093-8987-4D8E-B979-E7F2149C94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755AD-1071-412B-9117-8E64FE962C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29136-20EF-49C0-A532-B2EBC4330C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99036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b337b"/>
                </a:solidFill>
                <a:latin typeface="Trebuchet MS"/>
              </a:rPr>
              <a:t>Click to edit the title text format</a:t>
            </a: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47920" y="1752480"/>
            <a:ext cx="807696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447560" y="6324120"/>
            <a:ext cx="6159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b337b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F0EC-1731-45B1-9318-1B653D388CE0}" type="slidenum">
              <a:rPr b="0" lang="en-US" sz="1200" spc="-1" strike="noStrike">
                <a:solidFill>
                  <a:srgbClr val="0b337b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AVORI%20IN%20CORSO:Consip:PPT:17_11_06:mef%203%20righe" descr=""/>
          <p:cNvPicPr/>
          <p:nvPr/>
        </p:nvPicPr>
        <p:blipFill>
          <a:blip r:embed="rId2"/>
          <a:stretch/>
        </p:blipFill>
        <p:spPr>
          <a:xfrm>
            <a:off x="7848720" y="193680"/>
            <a:ext cx="1676160" cy="5684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09480" y="228600"/>
            <a:ext cx="1752840" cy="55080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LAVORI%20IN%20CORSO:Consip:PPT:cover" descr=""/>
          <p:cNvPicPr/>
          <p:nvPr/>
        </p:nvPicPr>
        <p:blipFill>
          <a:blip r:embed="rId2"/>
          <a:srcRect l="0" t="2943" r="0" b="2900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438280"/>
            <a:ext cx="7848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337b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44" name=""/>
          <p:cNvSpPr/>
          <p:nvPr/>
        </p:nvSpPr>
        <p:spPr>
          <a:xfrm>
            <a:off x="1065240" y="4343400"/>
            <a:ext cx="4824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458c"/>
                </a:solidFill>
                <a:latin typeface="Verdana"/>
              </a:rPr>
              <a:t>Isabella Rapisar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LAVORI%20IN%20CORSO:Consip:PPT:17_11_06:mef%203%20righe" descr=""/>
          <p:cNvPicPr/>
          <p:nvPr/>
        </p:nvPicPr>
        <p:blipFill>
          <a:blip r:embed="rId3"/>
          <a:stretch/>
        </p:blipFill>
        <p:spPr>
          <a:xfrm>
            <a:off x="609480" y="317520"/>
            <a:ext cx="2286000" cy="774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08120" y="5994360"/>
            <a:ext cx="2022480" cy="6350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337b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LAVORI%20IN%20CORSO:Consip:mef%202%20righe" descr=""/>
          <p:cNvPicPr/>
          <p:nvPr/>
        </p:nvPicPr>
        <p:blipFill>
          <a:blip r:embed="rId2"/>
          <a:srcRect l="0" t="0" r="-3555" b="0"/>
          <a:stretch/>
        </p:blipFill>
        <p:spPr>
          <a:xfrm>
            <a:off x="7696080" y="193680"/>
            <a:ext cx="1905120" cy="520560"/>
          </a:xfrm>
          <a:prstGeom prst="rect">
            <a:avLst/>
          </a:prstGeom>
          <a:ln w="0">
            <a:noFill/>
          </a:ln>
        </p:spPr>
      </p:pic>
      <p:pic>
        <p:nvPicPr>
          <p:cNvPr id="86" name="LAVORI%20IN%20CORSO:Consip:PPT:marchio" descr=""/>
          <p:cNvPicPr/>
          <p:nvPr/>
        </p:nvPicPr>
        <p:blipFill>
          <a:blip r:embed="rId3"/>
          <a:stretch/>
        </p:blipFill>
        <p:spPr>
          <a:xfrm>
            <a:off x="304920" y="174600"/>
            <a:ext cx="876240" cy="739800"/>
          </a:xfrm>
          <a:prstGeom prst="rect">
            <a:avLst/>
          </a:prstGeom>
          <a:ln w="0">
            <a:noFill/>
          </a:ln>
        </p:spPr>
      </p:pic>
      <p:pic>
        <p:nvPicPr>
          <p:cNvPr id="87" name="LAVORI%20IN%20CORSO:Consip:flash01" descr=""/>
          <p:cNvPicPr/>
          <p:nvPr/>
        </p:nvPicPr>
        <p:blipFill>
          <a:blip r:embed="rId4"/>
          <a:srcRect l="1493" t="0" r="1493" b="0"/>
          <a:stretch/>
        </p:blipFill>
        <p:spPr>
          <a:xfrm>
            <a:off x="0" y="5462640"/>
            <a:ext cx="9906120" cy="13953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2440" indent="-82440">
              <a:spcBef>
                <a:spcPts val="150"/>
              </a:spcBef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600" spc="-1" strike="noStrike">
              <a:solidFill>
                <a:srgbClr val="ffffff"/>
              </a:solidFill>
              <a:latin typeface="Verdana"/>
            </a:endParaRPr>
          </a:p>
          <a:p>
            <a:pPr lvl="1" marL="358920" indent="-96840">
              <a:spcBef>
                <a:spcPts val="15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 lvl="2" marL="1233360" indent="-228600"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41600" indent="-228600"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132000" y="5349960"/>
            <a:ext cx="668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Verdana"/>
              </a:rPr>
              <a:t>Università di Tor Vergata – Roma, 31 marzo 2006</a:t>
            </a:r>
            <a:r>
              <a:rPr b="1" i="1" lang="it-IT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Verdana"/>
              </a:rPr>
              <a:t>§</a:t>
            </a:r>
            <a:r>
              <a:rPr b="0" i="1" lang="it-IT" sz="1200" spc="-1" strike="noStrike">
                <a:solidFill>
                  <a:srgbClr val="ffffff"/>
                </a:solidFill>
                <a:latin typeface="Verdana"/>
              </a:rPr>
              <a:t>Le opinioni espresse in questa presentazione sono personali. In particolare non riflettono necessariamente quelle della Consip, né del Ministero dell’Economia e delle Finanz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LAVORI%20IN%20CORSO:Consip:PPT:cover" descr=""/>
          <p:cNvPicPr/>
          <p:nvPr/>
        </p:nvPicPr>
        <p:blipFill>
          <a:blip r:embed="rId2"/>
          <a:srcRect l="0" t="2943" r="0" b="2900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LAVORI%20IN%20CORSO:Consip:PPT:marchio" descr=""/>
          <p:cNvPicPr/>
          <p:nvPr/>
        </p:nvPicPr>
        <p:blipFill>
          <a:blip r:embed="rId3"/>
          <a:stretch/>
        </p:blipFill>
        <p:spPr>
          <a:xfrm>
            <a:off x="533520" y="5791320"/>
            <a:ext cx="1066680" cy="900000"/>
          </a:xfrm>
          <a:prstGeom prst="rect">
            <a:avLst/>
          </a:prstGeom>
          <a:ln w="0">
            <a:noFill/>
          </a:ln>
        </p:spPr>
      </p:pic>
      <p:pic>
        <p:nvPicPr>
          <p:cNvPr id="130" name="LAVORI%20IN%20CORSO:Consip:PPT:mef%202%20righe" descr=""/>
          <p:cNvPicPr/>
          <p:nvPr/>
        </p:nvPicPr>
        <p:blipFill>
          <a:blip r:embed="rId4"/>
          <a:srcRect l="36615" t="0" r="0" b="24468"/>
          <a:stretch/>
        </p:blipFill>
        <p:spPr>
          <a:xfrm>
            <a:off x="609480" y="331920"/>
            <a:ext cx="2590920" cy="81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image" Target="../media/image22.jpeg"/><Relationship Id="rId9" Type="http://schemas.openxmlformats.org/officeDocument/2006/relationships/image" Target="../media/image23.jpe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image" Target="../media/image26.jpeg"/><Relationship Id="rId13" Type="http://schemas.openxmlformats.org/officeDocument/2006/relationships/image" Target="../media/image27.jpeg"/><Relationship Id="rId14" Type="http://schemas.openxmlformats.org/officeDocument/2006/relationships/image" Target="../media/image28.jpeg"/><Relationship Id="rId15" Type="http://schemas.openxmlformats.org/officeDocument/2006/relationships/image" Target="../media/image29.jpeg"/><Relationship Id="rId1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2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2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676160" y="2666880"/>
            <a:ext cx="7848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b337b"/>
                </a:solidFill>
                <a:latin typeface="Trebuchet MS"/>
              </a:rPr>
              <a:t>Le iniziative Consip 2008</a:t>
            </a:r>
            <a:endParaRPr b="0" lang="en-US" sz="3600" spc="-1" strike="noStrike">
              <a:solidFill>
                <a:srgbClr val="0b337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LAVORI%20IN%20CORSO:Consip:flash02" descr=""/>
          <p:cNvPicPr/>
          <p:nvPr/>
        </p:nvPicPr>
        <p:blipFill>
          <a:blip r:embed="rId1"/>
          <a:srcRect l="754" t="0" r="1118" b="10984"/>
          <a:stretch/>
        </p:blipFill>
        <p:spPr>
          <a:xfrm>
            <a:off x="0" y="5300640"/>
            <a:ext cx="9906120" cy="1523880"/>
          </a:xfrm>
          <a:prstGeom prst="rect">
            <a:avLst/>
          </a:prstGeom>
          <a:ln w="0">
            <a:noFill/>
          </a:ln>
        </p:spPr>
      </p:pic>
      <p:grpSp>
        <p:nvGrpSpPr>
          <p:cNvPr id="472" name=""/>
          <p:cNvGrpSpPr/>
          <p:nvPr/>
        </p:nvGrpSpPr>
        <p:grpSpPr>
          <a:xfrm>
            <a:off x="776160" y="1795320"/>
            <a:ext cx="7640640" cy="3794040"/>
            <a:chOff x="776160" y="1795320"/>
            <a:chExt cx="7640640" cy="3794040"/>
          </a:xfrm>
        </p:grpSpPr>
        <p:sp>
          <p:nvSpPr>
            <p:cNvPr id="473" name=""/>
            <p:cNvSpPr/>
            <p:nvPr/>
          </p:nvSpPr>
          <p:spPr>
            <a:xfrm>
              <a:off x="6345000" y="3702240"/>
              <a:ext cx="2071800" cy="482040"/>
            </a:xfrm>
            <a:prstGeom prst="rect">
              <a:avLst/>
            </a:prstGeom>
            <a:solidFill>
              <a:srgbClr val="b7c1eb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432320" y="3702240"/>
              <a:ext cx="1912680" cy="482040"/>
            </a:xfrm>
            <a:prstGeom prst="rect">
              <a:avLst/>
            </a:prstGeom>
            <a:solidFill>
              <a:srgbClr val="b7c1eb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veicol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76160" y="3702240"/>
              <a:ext cx="3656160" cy="482040"/>
            </a:xfrm>
            <a:prstGeom prst="rect">
              <a:avLst/>
            </a:prstGeom>
            <a:solidFill>
              <a:srgbClr val="b7c1eb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utovetture in acquisto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345000" y="4184640"/>
              <a:ext cx="2071800" cy="468000"/>
            </a:xfrm>
            <a:prstGeom prst="rect">
              <a:avLst/>
            </a:prstGeom>
            <a:solidFill>
              <a:srgbClr val="e7e8e8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432320" y="4184640"/>
              <a:ext cx="1912680" cy="468000"/>
            </a:xfrm>
            <a:prstGeom prst="rect">
              <a:avLst/>
            </a:prstGeom>
            <a:solidFill>
              <a:srgbClr val="e7e8e8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rebuchet MS"/>
                </a:rPr>
                <a:t>Cancelleria ad uso ufficio e didattic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76160" y="4184640"/>
              <a:ext cx="3656160" cy="468000"/>
            </a:xfrm>
            <a:prstGeom prst="rect">
              <a:avLst/>
            </a:prstGeom>
            <a:solidFill>
              <a:srgbClr val="e7e8e8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Carta in risme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345000" y="3234240"/>
              <a:ext cx="2071800" cy="468000"/>
            </a:xfrm>
            <a:prstGeom prst="rect">
              <a:avLst/>
            </a:prstGeom>
            <a:solidFill>
              <a:srgbClr val="b7c1eb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432320" y="3234240"/>
              <a:ext cx="1912680" cy="468000"/>
            </a:xfrm>
            <a:prstGeom prst="rect">
              <a:avLst/>
            </a:prstGeom>
            <a:solidFill>
              <a:srgbClr val="b7c1eb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veicol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76160" y="3234240"/>
              <a:ext cx="3656160" cy="468000"/>
            </a:xfrm>
            <a:prstGeom prst="rect">
              <a:avLst/>
            </a:prstGeom>
            <a:solidFill>
              <a:srgbClr val="b7c1eb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utoveicoli in noleggio 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345000" y="2711880"/>
              <a:ext cx="2071800" cy="52236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432320" y="2711880"/>
              <a:ext cx="1912680" cy="52236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Arredi e complementi di arred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76160" y="2711880"/>
              <a:ext cx="3656160" cy="52236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rredi didattici e per ufficio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345000" y="4652640"/>
              <a:ext cx="2071800" cy="468000"/>
            </a:xfrm>
            <a:prstGeom prst="rect">
              <a:avLst/>
            </a:prstGeom>
            <a:solidFill>
              <a:srgbClr val="b7c1eb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432320" y="4652640"/>
              <a:ext cx="1912680" cy="468000"/>
            </a:xfrm>
            <a:prstGeom prst="rect">
              <a:avLst/>
            </a:prstGeom>
            <a:solidFill>
              <a:srgbClr val="b7c1eb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96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Indumenti ed accessor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76160" y="4652640"/>
              <a:ext cx="3656160" cy="468000"/>
            </a:xfrm>
            <a:prstGeom prst="rect">
              <a:avLst/>
            </a:prstGeom>
            <a:solidFill>
              <a:srgbClr val="b7c1eb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96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Indumenti e accessori da lavoro generic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345000" y="2248920"/>
              <a:ext cx="2071800" cy="46260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32320" y="2248920"/>
              <a:ext cx="1912680" cy="46260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Trebuchet MS"/>
                </a:rPr>
                <a:t>Elettronica, fotografia, ottica e audiovide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76160" y="2248920"/>
              <a:ext cx="3656160" cy="46260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rebuchet MS"/>
                </a:rPr>
                <a:t>Videocomunicazione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45000" y="5120640"/>
              <a:ext cx="2071800" cy="468360"/>
            </a:xfrm>
            <a:prstGeom prst="rect">
              <a:avLst/>
            </a:prstGeom>
            <a:solidFill>
              <a:srgbClr val="b7c1eb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96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In fase di attivazi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2320" y="5120640"/>
              <a:ext cx="1912680" cy="468360"/>
            </a:xfrm>
            <a:prstGeom prst="rect">
              <a:avLst/>
            </a:prstGeom>
            <a:solidFill>
              <a:srgbClr val="b7c1eb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96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limenti e ristorazi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76160" y="5120640"/>
              <a:ext cx="3656160" cy="468360"/>
            </a:xfrm>
            <a:prstGeom prst="rect">
              <a:avLst/>
            </a:prstGeom>
            <a:solidFill>
              <a:srgbClr val="b7c1eb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Buoni pasto 4</a:t>
              </a: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345000" y="1795320"/>
              <a:ext cx="2071800" cy="45360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32320" y="1795320"/>
              <a:ext cx="1912680" cy="45360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veicol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76160" y="1795320"/>
              <a:ext cx="3656160" cy="45360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Scuolab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76160" y="224892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76160" y="271188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76160" y="512064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76160" y="558936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76160" y="179532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432320" y="1795320"/>
              <a:ext cx="0" cy="916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345000" y="1795320"/>
              <a:ext cx="0" cy="916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76160" y="323424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76160" y="2711880"/>
              <a:ext cx="0" cy="5223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76160" y="3234240"/>
              <a:ext cx="0" cy="23547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432320" y="2711880"/>
              <a:ext cx="0" cy="5223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32320" y="3234240"/>
              <a:ext cx="0" cy="23547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345000" y="2711880"/>
              <a:ext cx="0" cy="5223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345000" y="3234240"/>
              <a:ext cx="0" cy="23547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416800" y="2711880"/>
              <a:ext cx="0" cy="5223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416800" y="3234240"/>
              <a:ext cx="0" cy="23547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76160" y="1795320"/>
              <a:ext cx="0" cy="916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416800" y="1795320"/>
              <a:ext cx="0" cy="916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76160" y="370224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76160" y="465264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76160" y="418464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6345360" y="1477800"/>
            <a:ext cx="2071440" cy="312840"/>
          </a:xfrm>
          <a:prstGeom prst="rect">
            <a:avLst/>
          </a:prstGeom>
          <a:solidFill>
            <a:srgbClr val="0b337b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ST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432320" y="1477800"/>
            <a:ext cx="1913040" cy="312840"/>
          </a:xfrm>
          <a:prstGeom prst="rect">
            <a:avLst/>
          </a:prstGeom>
          <a:solidFill>
            <a:srgbClr val="0b337b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CATEGORIA MERCEOLOG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76160" y="1477800"/>
            <a:ext cx="3656160" cy="312840"/>
          </a:xfrm>
          <a:prstGeom prst="rect">
            <a:avLst/>
          </a:prstGeom>
          <a:solidFill>
            <a:srgbClr val="0b337b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INIZIA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8624880" y="2001960"/>
            <a:ext cx="1008000" cy="11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Area Ben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e Servizi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85154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Le iniziative del 2008 (5/6)</a:t>
            </a:r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B9294-B84C-489A-ADFF-19ECA3D1C0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LAVORI%20IN%20CORSO:Consip:flash02" descr=""/>
          <p:cNvPicPr/>
          <p:nvPr/>
        </p:nvPicPr>
        <p:blipFill>
          <a:blip r:embed="rId1"/>
          <a:srcRect l="754" t="0" r="1118" b="10984"/>
          <a:stretch/>
        </p:blipFill>
        <p:spPr>
          <a:xfrm>
            <a:off x="0" y="5300640"/>
            <a:ext cx="9906120" cy="152388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8696160" y="1920960"/>
            <a:ext cx="12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Area Sani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920880" y="1268280"/>
            <a:ext cx="7643520" cy="4462560"/>
            <a:chOff x="920880" y="1268280"/>
            <a:chExt cx="7643520" cy="4462560"/>
          </a:xfrm>
        </p:grpSpPr>
        <p:sp>
          <p:nvSpPr>
            <p:cNvPr id="526" name=""/>
            <p:cNvSpPr/>
            <p:nvPr/>
          </p:nvSpPr>
          <p:spPr>
            <a:xfrm>
              <a:off x="6251400" y="4871880"/>
              <a:ext cx="2312640" cy="4287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In fase di Attivazi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238640" y="4871880"/>
              <a:ext cx="2012400" cy="4287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Servizi agli </a:t>
              </a:r>
              <a:r>
                <a:rPr b="0" lang="en-US" sz="1400" spc="-1" strike="noStrike">
                  <a:solidFill>
                    <a:srgbClr val="000000"/>
                  </a:solidFill>
                  <a:latin typeface="Trebuchet MS"/>
                </a:rPr>
                <a:t>immobi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20880" y="4871880"/>
              <a:ext cx="3317760" cy="4287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Sistema integrato di servizi per la gestione e conduzione impianti tecnologici in Sanità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251400" y="5300640"/>
              <a:ext cx="2312640" cy="430200"/>
            </a:xfrm>
            <a:prstGeom prst="rect">
              <a:avLst/>
            </a:prstGeom>
            <a:solidFill>
              <a:srgbClr val="e7e8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In fase di Attivazi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238640" y="5300640"/>
              <a:ext cx="2012400" cy="430200"/>
            </a:xfrm>
            <a:prstGeom prst="rect">
              <a:avLst/>
            </a:prstGeom>
            <a:solidFill>
              <a:srgbClr val="e7e8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Servizi agli </a:t>
              </a:r>
              <a:r>
                <a:rPr b="0" lang="en-US" sz="1400" spc="-1" strike="noStrike">
                  <a:solidFill>
                    <a:srgbClr val="000000"/>
                  </a:solidFill>
                  <a:latin typeface="Trebuchet MS"/>
                </a:rPr>
                <a:t>immobil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920880" y="5300640"/>
              <a:ext cx="3317760" cy="430200"/>
            </a:xfrm>
            <a:prstGeom prst="rect">
              <a:avLst/>
            </a:prstGeom>
            <a:solidFill>
              <a:srgbClr val="e7e8e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Servizio di gestione integrata della sicurezza sui luoghi di lavoro 2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251400" y="4441680"/>
              <a:ext cx="2312640" cy="4302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In fase di Attivazi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238640" y="4441680"/>
              <a:ext cx="2012400" cy="4302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920880" y="4441680"/>
              <a:ext cx="3317760" cy="4302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Carburant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251400" y="1268280"/>
              <a:ext cx="2312640" cy="385920"/>
            </a:xfrm>
            <a:prstGeom prst="rect">
              <a:avLst/>
            </a:prstGeom>
            <a:solidFill>
              <a:srgbClr val="0b337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</a:rPr>
                <a:t>STA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238640" y="1268280"/>
              <a:ext cx="2012400" cy="385920"/>
            </a:xfrm>
            <a:prstGeom prst="rect">
              <a:avLst/>
            </a:prstGeom>
            <a:solidFill>
              <a:srgbClr val="0b337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</a:rPr>
                <a:t>TIP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920880" y="1268280"/>
              <a:ext cx="3317760" cy="385920"/>
            </a:xfrm>
            <a:prstGeom prst="rect">
              <a:avLst/>
            </a:prstGeom>
            <a:solidFill>
              <a:srgbClr val="0b337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rebuchet MS"/>
                </a:rPr>
                <a:t>INIZIATIV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251400" y="2519280"/>
              <a:ext cx="2312640" cy="5284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238640" y="2519280"/>
              <a:ext cx="2012400" cy="5284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97000"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Macchine, </a:t>
              </a:r>
              <a:r>
                <a:rPr b="0" lang="en-US" sz="1100" spc="-1" strike="noStrike">
                  <a:solidFill>
                    <a:srgbClr val="000000"/>
                  </a:solidFill>
                  <a:latin typeface="Trebuchet MS"/>
                </a:rPr>
                <a:t>apparecchiature</a:t>
              </a: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 tecnico sanitar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920880" y="2519280"/>
              <a:ext cx="3317760" cy="5284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usili ad assorbenza per incontinenti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251400" y="4003560"/>
              <a:ext cx="2312640" cy="4381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zi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238640" y="4003560"/>
              <a:ext cx="2012400" cy="4381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920880" y="4003560"/>
              <a:ext cx="3317760" cy="4381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rred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251400" y="3578040"/>
              <a:ext cx="2312640" cy="4255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In fase di Attivazi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38640" y="3578040"/>
              <a:ext cx="2012400" cy="4255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72000"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Macchine, </a:t>
              </a:r>
              <a:r>
                <a:rPr b="0" lang="en-US" sz="1100" spc="-1" strike="noStrike">
                  <a:solidFill>
                    <a:srgbClr val="000000"/>
                  </a:solidFill>
                  <a:latin typeface="Trebuchet MS"/>
                </a:rPr>
                <a:t>apparecchiature</a:t>
              </a: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 e impianti sanitar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920880" y="3578040"/>
              <a:ext cx="3317760" cy="4255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rebuchet MS"/>
                </a:rPr>
                <a:t>Ecotomografi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251400" y="3047760"/>
              <a:ext cx="2312640" cy="5302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238640" y="3047760"/>
              <a:ext cx="2012400" cy="5302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89000"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Macchine, </a:t>
              </a:r>
              <a:r>
                <a:rPr b="0" lang="en-US" sz="1100" spc="-1" strike="noStrike">
                  <a:solidFill>
                    <a:srgbClr val="000000"/>
                  </a:solidFill>
                  <a:latin typeface="Trebuchet MS"/>
                </a:rPr>
                <a:t>apparecchiature</a:t>
              </a: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 tecnico sanitar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920880" y="3047760"/>
              <a:ext cx="3317760" cy="5302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Chimica clinica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251400" y="2081160"/>
              <a:ext cx="2312640" cy="4381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238640" y="2081160"/>
              <a:ext cx="2012400" cy="4381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89000"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Macchine, </a:t>
              </a:r>
              <a:r>
                <a:rPr b="0" lang="en-US" sz="1100" spc="-1" strike="noStrike">
                  <a:solidFill>
                    <a:srgbClr val="000000"/>
                  </a:solidFill>
                  <a:latin typeface="Trebuchet MS"/>
                </a:rPr>
                <a:t>apparecchiature</a:t>
              </a: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 e impianti sanitar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920880" y="2081160"/>
              <a:ext cx="3317760" cy="4381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90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pparecchiature elettromedicali per il monitoraggio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51400" y="1654200"/>
              <a:ext cx="2312640" cy="4269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238640" y="1654200"/>
              <a:ext cx="2012400" cy="4269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79000"/>
            </a:bodyPr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rebuchet MS"/>
                </a:rPr>
                <a:t>Macchine, apparecchiature tecniche  sanitari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920880" y="1654200"/>
              <a:ext cx="3317760" cy="4269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rebuchet MS"/>
                </a:rPr>
                <a:t>Service dialis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920880" y="1268280"/>
              <a:ext cx="7643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920880" y="2081160"/>
              <a:ext cx="764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920880" y="2519280"/>
              <a:ext cx="76435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920880" y="3578040"/>
              <a:ext cx="764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920880" y="5730840"/>
              <a:ext cx="76435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238640" y="1268280"/>
              <a:ext cx="0" cy="125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251400" y="1268280"/>
              <a:ext cx="0" cy="125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920880" y="4003560"/>
              <a:ext cx="76435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920880" y="4441680"/>
              <a:ext cx="764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20880" y="3047760"/>
              <a:ext cx="764352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920880" y="2519280"/>
              <a:ext cx="0" cy="528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238640" y="2519280"/>
              <a:ext cx="0" cy="528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238640" y="3047760"/>
              <a:ext cx="0" cy="268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251400" y="2519280"/>
              <a:ext cx="0" cy="528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251400" y="3047760"/>
              <a:ext cx="0" cy="268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920880" y="1654200"/>
              <a:ext cx="764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920880" y="4871880"/>
              <a:ext cx="764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920880" y="4441680"/>
              <a:ext cx="0" cy="43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564400" y="4441680"/>
              <a:ext cx="0" cy="43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20880" y="3047760"/>
              <a:ext cx="0" cy="1393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920880" y="4871880"/>
              <a:ext cx="0" cy="858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564400" y="4871880"/>
              <a:ext cx="0" cy="8589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920880" y="1268280"/>
              <a:ext cx="0" cy="1251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564400" y="1268280"/>
              <a:ext cx="0" cy="3173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920880" y="5300640"/>
              <a:ext cx="764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187280" y="692280"/>
            <a:ext cx="85154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Le iniziative del 2008 (6/6)</a:t>
            </a:r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27A7E-DF8B-4395-BD30-445AD24BAA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LAVORI%20IN%20CORSO:Consip:flash02" descr=""/>
          <p:cNvPicPr/>
          <p:nvPr/>
        </p:nvPicPr>
        <p:blipFill>
          <a:blip r:embed="rId1"/>
          <a:srcRect l="754" t="0" r="1118" b="10984"/>
          <a:stretch/>
        </p:blipFill>
        <p:spPr>
          <a:xfrm>
            <a:off x="0" y="5334120"/>
            <a:ext cx="9906120" cy="1523880"/>
          </a:xfrm>
          <a:prstGeom prst="rect">
            <a:avLst/>
          </a:prstGeom>
          <a:ln w="0">
            <a:noFill/>
          </a:ln>
        </p:spPr>
      </p:pic>
      <p:grpSp>
        <p:nvGrpSpPr>
          <p:cNvPr id="583" name=""/>
          <p:cNvGrpSpPr/>
          <p:nvPr/>
        </p:nvGrpSpPr>
        <p:grpSpPr>
          <a:xfrm>
            <a:off x="4016520" y="2876760"/>
            <a:ext cx="1954080" cy="1768680"/>
            <a:chOff x="4016520" y="2876760"/>
            <a:chExt cx="1954080" cy="1768680"/>
          </a:xfrm>
        </p:grpSpPr>
        <p:sp>
          <p:nvSpPr>
            <p:cNvPr id="584" name=""/>
            <p:cNvSpPr/>
            <p:nvPr/>
          </p:nvSpPr>
          <p:spPr>
            <a:xfrm rot="16200000">
              <a:off x="4363200" y="2967480"/>
              <a:ext cx="1614600" cy="1600200"/>
            </a:xfrm>
            <a:prstGeom prst="blockArc">
              <a:avLst>
                <a:gd name="adj1" fmla="val 11170645"/>
                <a:gd name="adj2" fmla="val 21229355"/>
                <a:gd name="adj3" fmla="val 20486"/>
              </a:avLst>
            </a:prstGeom>
            <a:solidFill>
              <a:srgbClr val="000080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2025000">
              <a:off x="4250880" y="2992320"/>
              <a:ext cx="503280" cy="287640"/>
            </a:xfrm>
            <a:prstGeom prst="leftArrow">
              <a:avLst>
                <a:gd name="adj1" fmla="val 50278"/>
                <a:gd name="adj2" fmla="val 62373"/>
              </a:avLst>
            </a:prstGeom>
            <a:solidFill>
              <a:srgbClr val="000080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016520" y="3638520"/>
              <a:ext cx="503280" cy="287280"/>
            </a:xfrm>
            <a:prstGeom prst="leftArrow">
              <a:avLst>
                <a:gd name="adj1" fmla="val 50278"/>
                <a:gd name="adj2" fmla="val 62451"/>
              </a:avLst>
            </a:prstGeom>
            <a:solidFill>
              <a:srgbClr val="000080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19048200">
              <a:off x="4221000" y="4225680"/>
              <a:ext cx="503280" cy="287280"/>
            </a:xfrm>
            <a:prstGeom prst="leftArrow">
              <a:avLst>
                <a:gd name="adj1" fmla="val 50278"/>
                <a:gd name="adj2" fmla="val 62451"/>
              </a:avLst>
            </a:prstGeom>
            <a:solidFill>
              <a:srgbClr val="000080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8" name=""/>
          <p:cNvSpPr/>
          <p:nvPr/>
        </p:nvSpPr>
        <p:spPr>
          <a:xfrm>
            <a:off x="1352520" y="1844640"/>
            <a:ext cx="3238560" cy="31104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5e"/>
              </a:gs>
            </a:gsLst>
            <a:lin ang="10800000"/>
          </a:gradFill>
          <a:ln w="3240">
            <a:solidFill>
              <a:srgbClr val="00b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INIZIATIVE AT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032520" y="1844640"/>
            <a:ext cx="3238560" cy="311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10800000"/>
          </a:gradFill>
          <a:ln w="32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INIZIATIVE IN FASE DI STU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359000" y="2349360"/>
            <a:ext cx="2158920" cy="28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b337b"/>
                </a:solidFill>
                <a:latin typeface="Trebuchet MS"/>
              </a:rPr>
              <a:t>11</a:t>
            </a:r>
            <a:r>
              <a:rPr b="1" lang="it-IT" sz="1000" spc="-1" strike="noStrike">
                <a:solidFill>
                  <a:srgbClr val="0b337b"/>
                </a:solidFill>
                <a:latin typeface="Trebuchet MS"/>
              </a:rPr>
              <a:t>  IN CONVENZI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406520" y="2689200"/>
            <a:ext cx="2736720" cy="17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Biodiesel da riscaldamen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Carburante Extra r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Carburante rete (buoni carburant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Energia elettr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Gasolio da riscaldamen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Servizio Integrato Energ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Servizio Lu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Facility Management Uffic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Servizi Integrati di Sicurezza 6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Catasto Strad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Supporto alla gestione dei contratti di Facility Management Uffic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115040" y="2349360"/>
            <a:ext cx="2159280" cy="28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b337b"/>
                </a:solidFill>
                <a:latin typeface="Trebuchet MS"/>
              </a:rPr>
              <a:t>8</a:t>
            </a:r>
            <a:r>
              <a:rPr b="1" lang="it-IT" sz="1000" spc="-1" strike="noStrike">
                <a:solidFill>
                  <a:srgbClr val="0b337b"/>
                </a:solidFill>
                <a:latin typeface="Trebuchet MS"/>
              </a:rPr>
              <a:t> IN CONVENZI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753240" y="2701800"/>
            <a:ext cx="24480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Impianti di Cogenerazion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Impianti Fotovoltaici/ Solare Termic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Facility Management viabilità e ver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Asset Manag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Servizi di Igiene Ambientale Sanit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Servizi Integrati Logistica sanit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Raccolta, trasporto e smaltimento rifiuti sanit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Servizi Integrati Logistica Uffic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115040" y="4581360"/>
            <a:ext cx="2159280" cy="28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b337b"/>
                </a:solidFill>
                <a:latin typeface="Trebuchet MS"/>
              </a:rPr>
              <a:t> </a:t>
            </a:r>
            <a:r>
              <a:rPr b="1" lang="it-IT" sz="1600" spc="-1" strike="noStrike">
                <a:solidFill>
                  <a:srgbClr val="0b337b"/>
                </a:solidFill>
                <a:latin typeface="Trebuchet MS"/>
              </a:rPr>
              <a:t>3</a:t>
            </a:r>
            <a:r>
              <a:rPr b="1" lang="it-IT" sz="1400" spc="-1" strike="noStrike">
                <a:solidFill>
                  <a:srgbClr val="0b337b"/>
                </a:solidFill>
                <a:latin typeface="Trebuchet MS"/>
              </a:rPr>
              <a:t> </a:t>
            </a:r>
            <a:r>
              <a:rPr b="1" lang="it-IT" sz="1000" spc="-1" strike="noStrike">
                <a:solidFill>
                  <a:srgbClr val="0b337b"/>
                </a:solidFill>
                <a:latin typeface="Trebuchet MS"/>
              </a:rPr>
              <a:t>SUL MERCATO ELETTRON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753240" y="4937040"/>
            <a:ext cx="244944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Servizi di Manutenzione ver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Servizi di Manutenzione Impianti di Sicurez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Manutenzione Impianti Antincendi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411800" y="5413320"/>
            <a:ext cx="1800000" cy="0"/>
          </a:xfrm>
          <a:prstGeom prst="line">
            <a:avLst/>
          </a:prstGeom>
          <a:ln w="1270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86240" y="5797440"/>
            <a:ext cx="3598920" cy="287280"/>
          </a:xfrm>
          <a:prstGeom prst="rect">
            <a:avLst/>
          </a:prstGeom>
          <a:solidFill>
            <a:srgbClr val="99cc00">
              <a:alpha val="40000"/>
            </a:srgbClr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b337b"/>
                </a:solidFill>
                <a:latin typeface="Trebuchet MS"/>
                <a:ea typeface="Times New Roman"/>
              </a:rPr>
              <a:t>INIZIATIVE IN FASE DI ATTIV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rot="16200000">
            <a:off x="4376520" y="5433480"/>
            <a:ext cx="215640" cy="263520"/>
          </a:xfrm>
          <a:prstGeom prst="leftArrow">
            <a:avLst>
              <a:gd name="adj1" fmla="val 50287"/>
              <a:gd name="adj2" fmla="val 29329"/>
            </a:avLst>
          </a:prstGeom>
          <a:solidFill>
            <a:srgbClr val="99c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rot="16200000">
            <a:off x="6032520" y="5402160"/>
            <a:ext cx="216000" cy="263520"/>
          </a:xfrm>
          <a:prstGeom prst="leftArrow">
            <a:avLst>
              <a:gd name="adj1" fmla="val 50287"/>
              <a:gd name="adj2" fmla="val 29329"/>
            </a:avLst>
          </a:prstGeom>
          <a:solidFill>
            <a:srgbClr val="99c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rot="16200000">
            <a:off x="5184720" y="5416560"/>
            <a:ext cx="216000" cy="263520"/>
          </a:xfrm>
          <a:prstGeom prst="leftArrow">
            <a:avLst>
              <a:gd name="adj1" fmla="val 50287"/>
              <a:gd name="adj2" fmla="val 29329"/>
            </a:avLst>
          </a:prstGeom>
          <a:solidFill>
            <a:srgbClr val="99ccff"/>
          </a:solidFill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5291280" y="4175280"/>
            <a:ext cx="0" cy="971280"/>
          </a:xfrm>
          <a:prstGeom prst="line">
            <a:avLst/>
          </a:prstGeom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606920" y="2011320"/>
            <a:ext cx="539640" cy="792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5160960" y="2008080"/>
            <a:ext cx="0" cy="151128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5405400" y="2008080"/>
            <a:ext cx="0" cy="1511280"/>
          </a:xfrm>
          <a:prstGeom prst="line">
            <a:avLst/>
          </a:prstGeom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407200" y="2011320"/>
            <a:ext cx="539640" cy="7920"/>
          </a:xfrm>
          <a:prstGeom prst="line">
            <a:avLst/>
          </a:prstGeom>
          <a:ln w="255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406520" y="4954680"/>
            <a:ext cx="2736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Apparecchiature di raffreddamento e ventilazi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Materiale elettric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Materiale Igienico Sanitari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Segnaletica da interni e da ester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Servizi di Igiene Ambient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Manutenzione impianti Elettric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Manutenzione impianti elevator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Gas Natur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352520" y="4589640"/>
            <a:ext cx="2158920" cy="287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b337b"/>
                </a:solidFill>
                <a:latin typeface="Trebuchet MS"/>
              </a:rPr>
              <a:t>8 </a:t>
            </a:r>
            <a:r>
              <a:rPr b="1" lang="it-IT" sz="1000" spc="-1" strike="noStrike">
                <a:solidFill>
                  <a:srgbClr val="0b337b"/>
                </a:solidFill>
                <a:latin typeface="Trebuchet MS"/>
              </a:rPr>
              <a:t>SUL MERCATO ELETTRON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802040" y="3379680"/>
            <a:ext cx="952560" cy="792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b337b"/>
                </a:solidFill>
                <a:latin typeface="Trebuchet MS"/>
              </a:rPr>
              <a:t>Iniziative</a:t>
            </a:r>
            <a:br>
              <a:rPr sz="1000"/>
            </a:br>
            <a:r>
              <a:rPr b="1" lang="it-IT" sz="1000" spc="-1" strike="noStrike">
                <a:solidFill>
                  <a:srgbClr val="0b337b"/>
                </a:solidFill>
                <a:latin typeface="Trebuchet MS"/>
              </a:rPr>
              <a:t>RE/E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792520" y="6540480"/>
            <a:ext cx="29908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Multiservizio Sanitario Tecnologic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Carburante rete (fuel car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745240" y="6546960"/>
            <a:ext cx="2520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7840" indent="-177840">
              <a:lnSpc>
                <a:spcPct val="100000"/>
              </a:lnSpc>
              <a:spcBef>
                <a:spcPts val="201"/>
              </a:spcBef>
              <a:buClr>
                <a:srgbClr val="0b337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b337b"/>
                </a:solidFill>
                <a:latin typeface="Trebuchet MS"/>
              </a:rPr>
              <a:t>Manutenzioni Impianti Termo idraulic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792520" y="6180120"/>
            <a:ext cx="2158920" cy="28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b337b"/>
                </a:solidFill>
                <a:latin typeface="Trebuchet MS"/>
              </a:rPr>
              <a:t>2 </a:t>
            </a:r>
            <a:r>
              <a:rPr b="1" lang="it-IT" sz="1000" spc="-1" strike="noStrike">
                <a:solidFill>
                  <a:srgbClr val="0b337b"/>
                </a:solidFill>
                <a:latin typeface="Trebuchet MS"/>
              </a:rPr>
              <a:t>IN CONVENZI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673600" y="6180120"/>
            <a:ext cx="2159280" cy="28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b337b"/>
                </a:solidFill>
                <a:latin typeface="Trebuchet MS"/>
              </a:rPr>
              <a:t> </a:t>
            </a:r>
            <a:r>
              <a:rPr b="1" lang="it-IT" sz="1600" spc="-1" strike="noStrike">
                <a:solidFill>
                  <a:srgbClr val="0b337b"/>
                </a:solidFill>
                <a:latin typeface="Trebuchet MS"/>
              </a:rPr>
              <a:t>1</a:t>
            </a:r>
            <a:r>
              <a:rPr b="1" lang="it-IT" sz="1400" spc="-1" strike="noStrike">
                <a:solidFill>
                  <a:srgbClr val="0b337b"/>
                </a:solidFill>
                <a:latin typeface="Trebuchet MS"/>
              </a:rPr>
              <a:t> </a:t>
            </a:r>
            <a:r>
              <a:rPr b="1" lang="it-IT" sz="1000" spc="-1" strike="noStrike">
                <a:solidFill>
                  <a:srgbClr val="0b337b"/>
                </a:solidFill>
                <a:latin typeface="Trebuchet MS"/>
              </a:rPr>
              <a:t>SUL MERCATO ELETTRON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4592520" y="2892600"/>
            <a:ext cx="1954080" cy="1768320"/>
            <a:chOff x="4592520" y="2892600"/>
            <a:chExt cx="1954080" cy="1768320"/>
          </a:xfrm>
        </p:grpSpPr>
        <p:sp>
          <p:nvSpPr>
            <p:cNvPr id="614" name=""/>
            <p:cNvSpPr/>
            <p:nvPr/>
          </p:nvSpPr>
          <p:spPr>
            <a:xfrm rot="5400000">
              <a:off x="4585320" y="2969280"/>
              <a:ext cx="1614240" cy="1600200"/>
            </a:xfrm>
            <a:prstGeom prst="blockArc">
              <a:avLst>
                <a:gd name="adj1" fmla="val 11170645"/>
                <a:gd name="adj2" fmla="val 21229355"/>
                <a:gd name="adj3" fmla="val 20486"/>
              </a:avLst>
            </a:prstGeom>
            <a:solidFill>
              <a:srgbClr val="9999ff"/>
            </a:solidFill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rot="12825000">
              <a:off x="5808600" y="4257720"/>
              <a:ext cx="503280" cy="287280"/>
            </a:xfrm>
            <a:prstGeom prst="leftArrow">
              <a:avLst>
                <a:gd name="adj1" fmla="val 50278"/>
                <a:gd name="adj2" fmla="val 62451"/>
              </a:avLst>
            </a:prstGeom>
            <a:solidFill>
              <a:srgbClr val="9999ff"/>
            </a:solidFill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10800000">
              <a:off x="6043320" y="3612240"/>
              <a:ext cx="503280" cy="286920"/>
            </a:xfrm>
            <a:prstGeom prst="leftArrow">
              <a:avLst>
                <a:gd name="adj1" fmla="val 50278"/>
                <a:gd name="adj2" fmla="val 62529"/>
              </a:avLst>
            </a:prstGeom>
            <a:solidFill>
              <a:srgbClr val="9999ff"/>
            </a:solidFill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8248200">
              <a:off x="5838120" y="3024720"/>
              <a:ext cx="503280" cy="286920"/>
            </a:xfrm>
            <a:prstGeom prst="leftArrow">
              <a:avLst>
                <a:gd name="adj1" fmla="val 50278"/>
                <a:gd name="adj2" fmla="val 62529"/>
              </a:avLst>
            </a:prstGeom>
            <a:solidFill>
              <a:srgbClr val="9999ff"/>
            </a:solidFill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1330200" y="720720"/>
            <a:ext cx="7871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b337b"/>
                </a:solidFill>
                <a:latin typeface="Trebuchet MS"/>
              </a:rPr>
              <a:t>Portafoglio iniziative Real Estate / Energy (1/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352520" y="1268280"/>
            <a:ext cx="79218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b337b"/>
                </a:solidFill>
                <a:latin typeface="Trebuchet MS"/>
              </a:rPr>
              <a:t>Complessivamente ad oggi l’Area Real Estate/Energy gestisce 19 </a:t>
            </a:r>
            <a:r>
              <a:rPr b="1" lang="en-US" sz="1200" spc="-1" strike="noStrike">
                <a:solidFill>
                  <a:srgbClr val="0b337b"/>
                </a:solidFill>
                <a:latin typeface="Trebuchet MS"/>
              </a:rPr>
              <a:t>iniziative</a:t>
            </a:r>
            <a:r>
              <a:rPr b="0" lang="en-US" sz="1200" spc="-1" strike="noStrike">
                <a:solidFill>
                  <a:srgbClr val="0b337b"/>
                </a:solidFill>
                <a:latin typeface="Trebuchet MS"/>
              </a:rPr>
              <a:t> attive: 11 Convenzioni e 8 Bandi attivi sul Mercato elettronico della P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0CDE5-BE0C-4CA1-B212-215B869C5F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LAVORI%20IN%20CORSO:Consip:flash01" descr=""/>
          <p:cNvPicPr/>
          <p:nvPr/>
        </p:nvPicPr>
        <p:blipFill>
          <a:blip r:embed="rId1"/>
          <a:srcRect l="1493" t="0" r="1493" b="0"/>
          <a:stretch/>
        </p:blipFill>
        <p:spPr>
          <a:xfrm>
            <a:off x="0" y="5462640"/>
            <a:ext cx="9906120" cy="139536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1352520" y="2205000"/>
            <a:ext cx="7921800" cy="34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18185e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90000" bIns="46800" anchor="t">
            <a:noAutofit/>
          </a:bodyPr>
          <a:p>
            <a:pPr marL="1611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337b"/>
                </a:solidFill>
                <a:latin typeface="Trebuchet MS"/>
                <a:ea typeface="Times New Roman"/>
              </a:rPr>
              <a:t>FOTOVOLTAICO</a:t>
            </a:r>
            <a:r>
              <a:rPr b="0" lang="en-US" sz="1200" spc="-1" strike="noStrike">
                <a:solidFill>
                  <a:srgbClr val="0b337b"/>
                </a:solidFill>
                <a:latin typeface="Trebuchet MS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11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b337b"/>
                </a:solidFill>
                <a:latin typeface="Trebuchet MS"/>
                <a:ea typeface="Times New Roman"/>
              </a:rPr>
              <a:t>Il principio di funzionamento dei dispositivi fotovoltaici si basa sulla capacità di alcuni materiali di </a:t>
            </a:r>
            <a:r>
              <a:rPr b="1" lang="en-US" sz="1200" spc="-1" strike="noStrike">
                <a:solidFill>
                  <a:srgbClr val="0b337b"/>
                </a:solidFill>
                <a:latin typeface="Trebuchet MS"/>
                <a:ea typeface="Times New Roman"/>
              </a:rPr>
              <a:t>convertire l'energia della radiazione solare in energia elettrica</a:t>
            </a:r>
            <a:r>
              <a:rPr b="0" lang="en-US" sz="1200" spc="-1" strike="noStrike">
                <a:solidFill>
                  <a:srgbClr val="0b337b"/>
                </a:solidFill>
                <a:latin typeface="Trebuchet MS"/>
                <a:ea typeface="Times New Roman"/>
              </a:rPr>
              <a:t>. I principali impieghi sono l’alimentazione di edifici/utenze isolate ed i sistemi di illuminazione pubblica. Consip è impegnata supportando alcune PA nell’adozione dei nuovi dispositiv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11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11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11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1136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b337b"/>
                </a:solidFill>
                <a:latin typeface="Trebuchet MS"/>
              </a:rPr>
              <a:t>COGENERAZI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11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b337b"/>
                </a:solidFill>
                <a:latin typeface="Trebuchet MS"/>
                <a:ea typeface="Times New Roman"/>
              </a:rPr>
              <a:t>Le soluzioni di Cogenerazione prevedono la </a:t>
            </a:r>
            <a:r>
              <a:rPr b="1" lang="en-US" sz="1200" spc="-1" strike="noStrike">
                <a:solidFill>
                  <a:srgbClr val="0b337b"/>
                </a:solidFill>
                <a:latin typeface="Trebuchet MS"/>
                <a:ea typeface="Times New Roman"/>
              </a:rPr>
              <a:t>produzione combinata di energia elettrica e termica </a:t>
            </a:r>
            <a:r>
              <a:rPr b="0" lang="en-US" sz="1200" spc="-1" strike="noStrike">
                <a:solidFill>
                  <a:srgbClr val="0b337b"/>
                </a:solidFill>
                <a:latin typeface="Trebuchet MS"/>
                <a:ea typeface="Times New Roman"/>
              </a:rPr>
              <a:t>in un unico impianto, mediante il recupero dell'energia termica dei gas di scarico del gruppo di generazione elettrica, la riduzione delle emissioni di gas serra e l’aumento della sicurezza e della qualità della fornitura elett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903840" y="2060640"/>
            <a:ext cx="2519280" cy="216000"/>
          </a:xfrm>
          <a:prstGeom prst="rect">
            <a:avLst/>
          </a:prstGeom>
          <a:solidFill>
            <a:srgbClr val="40458c"/>
          </a:solidFill>
          <a:ln w="9360">
            <a:solidFill>
              <a:srgbClr val="1818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rebuchet MS"/>
              </a:rPr>
              <a:t>INIZIATI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" descr=""/>
          <p:cNvPicPr/>
          <p:nvPr/>
        </p:nvPicPr>
        <p:blipFill>
          <a:blip r:embed="rId2"/>
          <a:stretch/>
        </p:blipFill>
        <p:spPr>
          <a:xfrm>
            <a:off x="1508040" y="2421000"/>
            <a:ext cx="1349640" cy="84780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3"/>
          <a:srcRect l="0" t="20788" r="0" b="0"/>
          <a:stretch/>
        </p:blipFill>
        <p:spPr>
          <a:xfrm>
            <a:off x="7639200" y="3540240"/>
            <a:ext cx="1417320" cy="84600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1330200" y="720720"/>
            <a:ext cx="7871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b337b"/>
                </a:solidFill>
                <a:latin typeface="Trebuchet MS"/>
              </a:rPr>
              <a:t>Evoluzioni in fase di studio - Fonti rinnovabi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424160" y="3522600"/>
            <a:ext cx="62658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b337b"/>
                </a:solidFill>
                <a:latin typeface="Trebuchet MS"/>
              </a:rPr>
              <a:t>SOLARE TERMI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b337b"/>
                </a:solidFill>
                <a:latin typeface="Trebuchet MS"/>
              </a:rPr>
              <a:t>La tecnologia </a:t>
            </a:r>
            <a:r>
              <a:rPr b="1" lang="it-IT" sz="1200" spc="-1" strike="noStrike">
                <a:solidFill>
                  <a:srgbClr val="0b337b"/>
                </a:solidFill>
                <a:latin typeface="Trebuchet MS"/>
              </a:rPr>
              <a:t>utilizza l'energia solare per scaldare l'acqua o l'aria </a:t>
            </a:r>
            <a:r>
              <a:rPr b="0" lang="it-IT" sz="1200" spc="-1" strike="noStrike">
                <a:solidFill>
                  <a:srgbClr val="0b337b"/>
                </a:solidFill>
                <a:latin typeface="Trebuchet MS"/>
              </a:rPr>
              <a:t>nell'utilizzo domestico e produttivo. I principali impieghi sono la produzione di acqua calda sanitaria e l’integrazione degli impianti di climatizzazione invern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" descr=""/>
          <p:cNvPicPr/>
          <p:nvPr/>
        </p:nvPicPr>
        <p:blipFill>
          <a:blip r:embed="rId4"/>
          <a:stretch/>
        </p:blipFill>
        <p:spPr>
          <a:xfrm>
            <a:off x="1595520" y="4527720"/>
            <a:ext cx="1270080" cy="844560"/>
          </a:xfrm>
          <a:prstGeom prst="rect">
            <a:avLst/>
          </a:prstGeom>
          <a:ln w="0">
            <a:noFill/>
          </a:ln>
        </p:spPr>
      </p:pic>
      <p:sp>
        <p:nvSpPr>
          <p:cNvPr id="628" name=""/>
          <p:cNvSpPr/>
          <p:nvPr/>
        </p:nvSpPr>
        <p:spPr>
          <a:xfrm>
            <a:off x="1352520" y="1268280"/>
            <a:ext cx="792180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b337b"/>
                </a:solidFill>
                <a:latin typeface="Trebuchet MS"/>
              </a:rPr>
              <a:t>Nell’ambito Energy sono allo studio alcune iniziative che, oltre a favorire l’</a:t>
            </a:r>
            <a:r>
              <a:rPr b="1" lang="en-US" sz="1200" spc="-1" strike="noStrike">
                <a:solidFill>
                  <a:srgbClr val="0b337b"/>
                </a:solidFill>
                <a:latin typeface="Trebuchet MS"/>
              </a:rPr>
              <a:t>uso razionale dell’energia</a:t>
            </a:r>
            <a:r>
              <a:rPr b="0" lang="en-US" sz="1200" spc="-1" strike="noStrike">
                <a:solidFill>
                  <a:srgbClr val="0b337b"/>
                </a:solidFill>
                <a:latin typeface="Trebuchet MS"/>
              </a:rPr>
              <a:t>, intendono anche qualificare l’utilizzo della stessa, incentivando il consumo dell’energia prodotta da fonte rinnovabile. Si sta inoltre sperimentando la possibilità d’implementare la generazione diffusa presso alcune P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352520" y="5878440"/>
            <a:ext cx="7921800" cy="646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5400000"/>
          </a:gradFill>
          <a:ln w="9360">
            <a:solidFill>
              <a:srgbClr val="3333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b337b"/>
                </a:solidFill>
                <a:latin typeface="Trebuchet MS"/>
                <a:ea typeface="Times New Roman"/>
              </a:rPr>
              <a:t>L’ottica alla base delle iniziative citate vuole incentivare quelle </a:t>
            </a:r>
            <a:r>
              <a:rPr b="1" lang="it-IT" sz="1200" spc="-1" strike="noStrike">
                <a:solidFill>
                  <a:srgbClr val="0b337b"/>
                </a:solidFill>
                <a:latin typeface="Trebuchet MS"/>
                <a:ea typeface="Times New Roman"/>
              </a:rPr>
              <a:t>best practice energetiche </a:t>
            </a:r>
            <a:r>
              <a:rPr b="0" lang="it-IT" sz="1200" spc="-1" strike="noStrike">
                <a:solidFill>
                  <a:srgbClr val="0b337b"/>
                </a:solidFill>
                <a:latin typeface="Trebuchet MS"/>
                <a:ea typeface="Times New Roman"/>
              </a:rPr>
              <a:t>che sono anche in grado di </a:t>
            </a:r>
            <a:r>
              <a:rPr b="1" lang="it-IT" sz="1200" spc="-1" strike="noStrike">
                <a:solidFill>
                  <a:srgbClr val="0b337b"/>
                </a:solidFill>
                <a:latin typeface="Trebuchet MS"/>
                <a:ea typeface="Times New Roman"/>
              </a:rPr>
              <a:t>generare potenziali risparmi economici</a:t>
            </a:r>
            <a:r>
              <a:rPr b="0" lang="it-IT" sz="1200" spc="-1" strike="noStrike">
                <a:solidFill>
                  <a:srgbClr val="0b337b"/>
                </a:solidFill>
                <a:latin typeface="Trebuchet MS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0BD4B-2DD6-48CB-BA4F-698F9EE695D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60520" y="1916280"/>
            <a:ext cx="9145440" cy="201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b337b"/>
                </a:solidFill>
                <a:latin typeface="Trebuchet MS"/>
              </a:rPr>
              <a:t>Strumenti di e-Procurement Consip</a:t>
            </a:r>
            <a:br>
              <a:rPr sz="3200"/>
            </a:br>
            <a:br>
              <a:rPr sz="3200"/>
            </a:br>
            <a:r>
              <a:rPr b="1" lang="it-IT" sz="2800" spc="-1" strike="noStrike">
                <a:solidFill>
                  <a:srgbClr val="0b337b"/>
                </a:solidFill>
                <a:latin typeface="Trebuchet MS"/>
              </a:rPr>
              <a:t>Incontro Consip - Assoarpa</a:t>
            </a:r>
            <a:endParaRPr b="0" lang="en-US" sz="2800" spc="-1" strike="noStrike">
              <a:solidFill>
                <a:srgbClr val="0b337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 rot="5400000">
            <a:off x="2398320" y="3483000"/>
            <a:ext cx="484200" cy="560520"/>
          </a:xfrm>
          <a:prstGeom prst="rightArrow">
            <a:avLst>
              <a:gd name="adj1" fmla="val 50000"/>
              <a:gd name="adj2" fmla="val 25009"/>
            </a:avLst>
          </a:prstGeom>
          <a:solidFill>
            <a:srgbClr val="262698"/>
          </a:solidFill>
          <a:ln w="0">
            <a:noFill/>
          </a:ln>
          <a:effectLst>
            <a:outerShdw dist="17819" dir="2700000" blurRad="0" rotWithShape="0">
              <a:srgbClr val="cfdbf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5400000">
            <a:off x="5280480" y="3490200"/>
            <a:ext cx="453960" cy="576360"/>
          </a:xfrm>
          <a:prstGeom prst="rightArrow">
            <a:avLst>
              <a:gd name="adj1" fmla="val 50000"/>
              <a:gd name="adj2" fmla="val 25009"/>
            </a:avLst>
          </a:prstGeom>
          <a:solidFill>
            <a:srgbClr val="262698"/>
          </a:solidFill>
          <a:ln w="0">
            <a:noFill/>
          </a:ln>
          <a:effectLst>
            <a:outerShdw dist="17819" dir="2700000" blurRad="0" rotWithShape="0">
              <a:srgbClr val="cfdbf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rot="5400000">
            <a:off x="8113320" y="3498840"/>
            <a:ext cx="452520" cy="560520"/>
          </a:xfrm>
          <a:prstGeom prst="rightArrow">
            <a:avLst>
              <a:gd name="adj1" fmla="val 50000"/>
              <a:gd name="adj2" fmla="val 25009"/>
            </a:avLst>
          </a:prstGeom>
          <a:solidFill>
            <a:srgbClr val="262698"/>
          </a:solidFill>
          <a:ln w="0">
            <a:noFill/>
          </a:ln>
          <a:effectLst>
            <a:outerShdw dist="17819" dir="2700000" blurRad="0" rotWithShape="0">
              <a:srgbClr val="cfdbf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22120" y="762120"/>
            <a:ext cx="9480600" cy="21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206360" y="1943280"/>
            <a:ext cx="2640240" cy="1427040"/>
          </a:xfrm>
          <a:prstGeom prst="rect">
            <a:avLst/>
          </a:prstGeom>
          <a:solidFill>
            <a:srgbClr val="40458c"/>
          </a:solidFill>
          <a:ln w="3240">
            <a:solidFill>
              <a:srgbClr val="b2b2b2"/>
            </a:solidFill>
            <a:miter/>
          </a:ln>
          <a:effectLst>
            <a:outerShdw dist="107932" dir="2700000" blurRad="0" rotWithShape="0">
              <a:srgbClr val="cfdbf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Negozi Elettron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961320" y="1989000"/>
            <a:ext cx="2638440" cy="1427400"/>
          </a:xfrm>
          <a:prstGeom prst="rect">
            <a:avLst/>
          </a:prstGeom>
          <a:solidFill>
            <a:srgbClr val="40458c"/>
          </a:solidFill>
          <a:ln w="3240">
            <a:solidFill>
              <a:srgbClr val="b2b2b2"/>
            </a:solidFill>
            <a:miter/>
          </a:ln>
          <a:effectLst>
            <a:outerShdw dist="107932" dir="2700000" blurRad="0" rotWithShape="0">
              <a:srgbClr val="cfdbf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ercato Elettro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320840" y="4091040"/>
            <a:ext cx="2658960" cy="2290680"/>
          </a:xfrm>
          <a:prstGeom prst="rect">
            <a:avLst/>
          </a:prstGeom>
          <a:solidFill>
            <a:srgbClr val="40458c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393920" y="4191120"/>
            <a:ext cx="2466720" cy="1970280"/>
          </a:xfrm>
          <a:prstGeom prst="rect">
            <a:avLst/>
          </a:prstGeom>
          <a:solidFill>
            <a:srgbClr val="4045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2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Acquisti in convenzione (ex art. 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108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Standardizz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108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108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Alti volumi di spe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108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3680" indent="-18108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Aggregazione doma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152960" y="1944720"/>
            <a:ext cx="2638440" cy="1425600"/>
          </a:xfrm>
          <a:prstGeom prst="rect">
            <a:avLst/>
          </a:prstGeom>
          <a:solidFill>
            <a:srgbClr val="40458c"/>
          </a:solidFill>
          <a:ln w="3240">
            <a:solidFill>
              <a:srgbClr val="b2b2b2"/>
            </a:solidFill>
            <a:miter/>
          </a:ln>
          <a:effectLst>
            <a:outerShdw dist="107932" dir="2700000" blurRad="0" rotWithShape="0">
              <a:srgbClr val="cfdbf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Gare Telemat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083120" y="4078440"/>
            <a:ext cx="2717640" cy="2303280"/>
          </a:xfrm>
          <a:prstGeom prst="rect">
            <a:avLst/>
          </a:prstGeom>
          <a:solidFill>
            <a:srgbClr val="40458c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122720" y="4221000"/>
            <a:ext cx="2639880" cy="1970280"/>
          </a:xfrm>
          <a:prstGeom prst="rect">
            <a:avLst/>
          </a:prstGeom>
          <a:solidFill>
            <a:srgbClr val="4045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2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Stipula di convenzioni (ex art. 26) e/o risposta a esigenze specifich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19692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Beni valutabili su parametri oggetti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19692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79520" indent="-196920">
              <a:lnSpc>
                <a:spcPct val="12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Possibilità di servizio ASP verso altre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900840" y="4130640"/>
            <a:ext cx="2747880" cy="2322720"/>
          </a:xfrm>
          <a:prstGeom prst="rect">
            <a:avLst/>
          </a:prstGeom>
          <a:solidFill>
            <a:srgbClr val="40458c"/>
          </a:solidFill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950160" y="4076640"/>
            <a:ext cx="2684520" cy="2217960"/>
          </a:xfrm>
          <a:prstGeom prst="rect">
            <a:avLst/>
          </a:prstGeom>
          <a:solidFill>
            <a:srgbClr val="4045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921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Acquisti sotto sog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21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8584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Gamma diversific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8584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8584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Domanda e offerta frammen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8584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85840">
              <a:lnSpc>
                <a:spcPct val="11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Multi prodotto e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Times New Roman"/>
              </a:rPr>
              <a:t>multi forni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163520" y="692280"/>
            <a:ext cx="81108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Verdana"/>
                <a:ea typeface="Times New Roman"/>
              </a:rPr>
              <a:t>La piattaforma di e-procurement Consip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1065240" y="239760"/>
            <a:ext cx="8515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992160" y="982800"/>
            <a:ext cx="8515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n-US" sz="1100" spc="-1" strike="noStrike">
                <a:solidFill>
                  <a:srgbClr val="ffffff"/>
                </a:solidFill>
                <a:latin typeface="Verdana"/>
              </a:rPr>
              <a:t>Portafoglio” Strumenti di Acquis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3548160" y="2817720"/>
            <a:ext cx="1836720" cy="682560"/>
            <a:chOff x="3548160" y="2817720"/>
            <a:chExt cx="1836720" cy="682560"/>
          </a:xfrm>
        </p:grpSpPr>
        <p:sp>
          <p:nvSpPr>
            <p:cNvPr id="648" name=""/>
            <p:cNvSpPr/>
            <p:nvPr/>
          </p:nvSpPr>
          <p:spPr>
            <a:xfrm>
              <a:off x="3548160" y="2817720"/>
              <a:ext cx="1836720" cy="682560"/>
            </a:xfrm>
            <a:prstGeom prst="flowChartAlternateProcess">
              <a:avLst/>
            </a:prstGeom>
            <a:solidFill>
              <a:srgbClr val="cc6666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b7c1eb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206600" y="3022560"/>
              <a:ext cx="619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rebuchet MS"/>
                </a:rPr>
                <a:t>MEP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714680" y="1530360"/>
            <a:ext cx="0" cy="363708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714680" y="5167440"/>
            <a:ext cx="7667280" cy="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415800" y="5954760"/>
            <a:ext cx="9145800" cy="79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7840" indent="-177840" algn="just">
              <a:lnSpc>
                <a:spcPct val="100000"/>
              </a:lnSpc>
              <a:spcBef>
                <a:spcPts val="1225"/>
              </a:spcBef>
              <a:buClr>
                <a:srgbClr val="40458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rebuchet MS"/>
              </a:rPr>
              <a:t>Molte adempimenti e oneri a carico della stazione appaltante sono delegati a Consip, come centrale di committenza nazional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spcBef>
                <a:spcPts val="1225"/>
              </a:spcBef>
              <a:buClr>
                <a:srgbClr val="40458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40458c"/>
                </a:solidFill>
                <a:latin typeface="Trebuchet MS"/>
              </a:rPr>
              <a:t>Un ruolo più attivo è svolto dalle amministrazioni, attraverso il Mercato Elettronico della P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865600" y="5267160"/>
            <a:ext cx="4465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rebuchet MS"/>
              </a:rPr>
              <a:t>Livello di autonomia delle PP.AA. nelle scelte di acquis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197240" y="5576760"/>
            <a:ext cx="1752840" cy="30636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b2b2b2"/>
          </a:solidFill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rot="16200000">
            <a:off x="304560" y="2244600"/>
            <a:ext cx="2036880" cy="51588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rot="16200000">
            <a:off x="643680" y="4205880"/>
            <a:ext cx="1333440" cy="515880"/>
          </a:xfrm>
          <a:prstGeom prst="rect">
            <a:avLst/>
          </a:prstGeom>
          <a:solidFill>
            <a:srgbClr val="cfd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rot="16200000">
            <a:off x="1243080" y="5092200"/>
            <a:ext cx="23320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Trebuchet MS"/>
              </a:rPr>
              <a:t>…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776160" y="1062000"/>
            <a:ext cx="111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rebuchet MS"/>
              </a:rPr>
              <a:t>Ruolo centrale committe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036880" y="3940200"/>
            <a:ext cx="1836720" cy="1006560"/>
          </a:xfrm>
          <a:prstGeom prst="flowChartAlternateProcess">
            <a:avLst/>
          </a:prstGeom>
          <a:solidFill>
            <a:srgbClr val="cc6666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2307600" y="4533840"/>
            <a:ext cx="1320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onven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2433600" y="3978360"/>
            <a:ext cx="1081080" cy="539640"/>
            <a:chOff x="2433600" y="3978360"/>
            <a:chExt cx="1081080" cy="539640"/>
          </a:xfrm>
        </p:grpSpPr>
        <p:sp>
          <p:nvSpPr>
            <p:cNvPr id="662" name=""/>
            <p:cNvSpPr/>
            <p:nvPr/>
          </p:nvSpPr>
          <p:spPr>
            <a:xfrm>
              <a:off x="2433600" y="3978360"/>
              <a:ext cx="1081080" cy="53964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498760" y="3989520"/>
              <a:ext cx="99720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Trebuchet MS"/>
                </a:rPr>
                <a:t>AQ con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40458c"/>
                </a:buClr>
                <a:buFont typeface="Trebuchet MS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Trebuchet MS"/>
                </a:rPr>
                <a:t>1 fornito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40458c"/>
                </a:buClr>
                <a:buFont typeface="Trebuchet MS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Trebuchet MS"/>
                </a:rPr>
                <a:t> </a:t>
              </a:r>
              <a:r>
                <a:rPr b="0" lang="en-US" sz="1200" spc="-1" strike="noStrike">
                  <a:solidFill>
                    <a:srgbClr val="40458c"/>
                  </a:solidFill>
                  <a:latin typeface="Trebuchet MS"/>
                </a:rPr>
                <a:t>cond. fiss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1015920" y="3517920"/>
            <a:ext cx="588960" cy="279360"/>
            <a:chOff x="1015920" y="3517920"/>
            <a:chExt cx="588960" cy="279360"/>
          </a:xfrm>
        </p:grpSpPr>
        <p:sp>
          <p:nvSpPr>
            <p:cNvPr id="665" name=""/>
            <p:cNvSpPr/>
            <p:nvPr/>
          </p:nvSpPr>
          <p:spPr>
            <a:xfrm rot="16200000">
              <a:off x="1262880" y="3455280"/>
              <a:ext cx="95040" cy="588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426"/>
                  </a:moveTo>
                  <a:lnTo>
                    <a:pt x="0" y="2426"/>
                  </a:ln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19174"/>
                  </a:lnTo>
                  <a:lnTo>
                    <a:pt x="0" y="19174"/>
                  </a:lnTo>
                  <a:lnTo>
                    <a:pt x="16748" y="10800"/>
                  </a:lnTo>
                  <a:lnTo>
                    <a:pt x="0" y="2426"/>
                  </a:lnTo>
                  <a:close/>
                </a:path>
              </a:pathLst>
            </a:custGeom>
            <a:solidFill>
              <a:srgbClr val="40458c"/>
            </a:solidFill>
            <a:ln w="64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16200000">
              <a:off x="1262880" y="3373920"/>
              <a:ext cx="94680" cy="588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426"/>
                  </a:moveTo>
                  <a:lnTo>
                    <a:pt x="0" y="2426"/>
                  </a:ln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19174"/>
                  </a:lnTo>
                  <a:lnTo>
                    <a:pt x="0" y="19174"/>
                  </a:lnTo>
                  <a:lnTo>
                    <a:pt x="16748" y="10800"/>
                  </a:lnTo>
                  <a:lnTo>
                    <a:pt x="0" y="2426"/>
                  </a:lnTo>
                  <a:close/>
                </a:path>
              </a:pathLst>
            </a:custGeom>
            <a:solidFill>
              <a:srgbClr val="40458c"/>
            </a:solidFill>
            <a:ln w="64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16200000">
              <a:off x="1262880" y="3270960"/>
              <a:ext cx="95040" cy="588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426"/>
                  </a:moveTo>
                  <a:lnTo>
                    <a:pt x="0" y="2426"/>
                  </a:ln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19174"/>
                  </a:lnTo>
                  <a:lnTo>
                    <a:pt x="0" y="19174"/>
                  </a:lnTo>
                  <a:lnTo>
                    <a:pt x="16748" y="10800"/>
                  </a:lnTo>
                  <a:lnTo>
                    <a:pt x="0" y="2426"/>
                  </a:lnTo>
                  <a:close/>
                </a:path>
              </a:pathLst>
            </a:custGeom>
            <a:solidFill>
              <a:srgbClr val="40458c"/>
            </a:solidFill>
            <a:ln w="648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Text12"/>
          <p:cNvSpPr/>
          <p:nvPr/>
        </p:nvSpPr>
        <p:spPr>
          <a:xfrm rot="16200000">
            <a:off x="407520" y="2395440"/>
            <a:ext cx="17686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buClr>
                <a:srgbClr val="ffffff"/>
              </a:buClr>
              <a:buSzPct val="110000"/>
              <a:buFont typeface="Times"/>
              <a:buChar char="•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Verdana"/>
              </a:rPr>
              <a:t> “</a:t>
            </a:r>
            <a:r>
              <a:rPr b="1" lang="en-US" sz="1200" spc="-1" strike="noStrike">
                <a:solidFill>
                  <a:srgbClr val="40458c"/>
                </a:solidFill>
                <a:latin typeface="Verdana"/>
              </a:rPr>
              <a:t>MARKET </a:t>
            </a:r>
            <a:r>
              <a:rPr b="1" lang="de-DE" sz="1200" spc="-1" strike="noStrike">
                <a:solidFill>
                  <a:srgbClr val="40458c"/>
                </a:solidFill>
                <a:latin typeface="Verdana"/>
              </a:rPr>
              <a:t>MAKER</a:t>
            </a:r>
            <a:r>
              <a:rPr b="1" lang="en-US" sz="1200" spc="-1" strike="noStrike">
                <a:solidFill>
                  <a:srgbClr val="40458c"/>
                </a:solidFill>
                <a:latin typeface="Verdana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12"/>
          <p:cNvSpPr/>
          <p:nvPr/>
        </p:nvSpPr>
        <p:spPr>
          <a:xfrm rot="16200000">
            <a:off x="344520" y="2457000"/>
            <a:ext cx="1768680" cy="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buClr>
                <a:srgbClr val="ffffff"/>
              </a:buClr>
              <a:buSzPct val="110000"/>
              <a:buFont typeface="Times"/>
              <a:buChar char="•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300" spc="-1" strike="noStrike">
                <a:solidFill>
                  <a:srgbClr val="40458c"/>
                </a:solidFill>
                <a:latin typeface="Verdana"/>
              </a:rPr>
              <a:t> “</a:t>
            </a:r>
            <a:r>
              <a:rPr b="0" lang="en-US" sz="300" spc="-1" strike="noStrike">
                <a:solidFill>
                  <a:srgbClr val="40458c"/>
                </a:solidFill>
                <a:latin typeface="Verdana"/>
              </a:rPr>
              <a:t>MARKET </a:t>
            </a:r>
            <a:r>
              <a:rPr b="0" lang="de-DE" sz="300" spc="-1" strike="noStrike">
                <a:solidFill>
                  <a:srgbClr val="40458c"/>
                </a:solidFill>
                <a:latin typeface="Verdana"/>
              </a:rPr>
              <a:t>MAKER</a:t>
            </a:r>
            <a:r>
              <a:rPr b="0" lang="en-US" sz="300" spc="-1" strike="noStrike">
                <a:solidFill>
                  <a:srgbClr val="40458c"/>
                </a:solidFill>
                <a:latin typeface="Verdana"/>
              </a:rPr>
              <a:t>”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12"/>
          <p:cNvSpPr/>
          <p:nvPr/>
        </p:nvSpPr>
        <p:spPr>
          <a:xfrm rot="16200000">
            <a:off x="578520" y="4304160"/>
            <a:ext cx="15051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buClr>
                <a:srgbClr val="ffffff"/>
              </a:buClr>
              <a:buSzPct val="110000"/>
              <a:buFont typeface="Times"/>
              <a:buChar char="•"/>
              <a:tabLst>
                <a:tab algn="l" pos="330120"/>
                <a:tab algn="l" pos="660240"/>
                <a:tab algn="l" pos="990720"/>
                <a:tab algn="l" pos="1320840"/>
                <a:tab algn="l" pos="1650960"/>
                <a:tab algn="l" pos="1981080"/>
                <a:tab algn="l" pos="2311560"/>
                <a:tab algn="l" pos="2641680"/>
                <a:tab algn="l" pos="2971800"/>
                <a:tab algn="l" pos="3301920"/>
                <a:tab algn="l" pos="3632040"/>
                <a:tab algn="l" pos="3962520"/>
                <a:tab algn="l" pos="4292640"/>
                <a:tab algn="l" pos="4622760"/>
                <a:tab algn="l" pos="4952880"/>
                <a:tab algn="l" pos="5283360"/>
                <a:tab algn="l" pos="5613480"/>
                <a:tab algn="l" pos="5943600"/>
                <a:tab algn="l" pos="6273720"/>
                <a:tab algn="l" pos="6603840"/>
              </a:tabLst>
            </a:pPr>
            <a:r>
              <a:rPr b="0" lang="en-US" sz="300" spc="-1" strike="noStrike">
                <a:solidFill>
                  <a:srgbClr val="40458c"/>
                </a:solidFill>
                <a:latin typeface="Verdana"/>
              </a:rPr>
              <a:t> </a:t>
            </a:r>
            <a:r>
              <a:rPr b="1" lang="en-US" sz="1200" spc="-1" strike="noStrike">
                <a:solidFill>
                  <a:srgbClr val="40458c"/>
                </a:solidFill>
                <a:latin typeface="Verdana"/>
              </a:rPr>
              <a:t>“</a:t>
            </a:r>
            <a:r>
              <a:rPr b="1" lang="de-DE" sz="1200" spc="-1" strike="noStrike">
                <a:solidFill>
                  <a:srgbClr val="40458c"/>
                </a:solidFill>
                <a:latin typeface="Verdana"/>
              </a:rPr>
              <a:t>STAZIONE APPALTANTE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208160" y="620280"/>
            <a:ext cx="82548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Verdana"/>
              </a:rPr>
              <a:t>Strumenti attuali e ruolo della centrale di committenza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1065240" y="333360"/>
            <a:ext cx="67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Verdana"/>
              </a:rPr>
              <a:t>Considerazioni gener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04880" y="1628640"/>
            <a:ext cx="8907480" cy="53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Le amministrazioni centrali e periferiche dello Stato sono obbligate per legge (Finanziaria 2007) ad utilizzarl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Il sistema non ha costi per le amministrazioni e per le imprese che si abilitano e lo utilizzan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Consente di valorizzare le PMI e il rapporto tra Pa e territori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E’ in fase di stipula un accordo di collaborazione con la Regione Toscana per promuovere e valorizzare l’ambito loca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Il suo utilizzo consente di semplificare o delegare a carico di Consip, alcuni degli adempimenti richiesti alle stazioni appaltanti dal Codice sugli appalti per gli acquisti sottosogli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264680" y="588960"/>
            <a:ext cx="65606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337b"/>
                </a:solidFill>
                <a:latin typeface="Arial"/>
              </a:rPr>
              <a:t>Considerazioni generali sul Mercato Elettron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/>
          </p:nvPr>
        </p:nvSpPr>
        <p:spPr>
          <a:xfrm>
            <a:off x="1352520" y="1412640"/>
            <a:ext cx="7704000" cy="4608360"/>
          </a:xfrm>
          <a:prstGeom prst="rect">
            <a:avLst/>
          </a:prstGeom>
          <a:solidFill>
            <a:srgbClr val="ff9900">
              <a:alpha val="62000"/>
            </a:srgbClr>
          </a:solidFill>
          <a:ln w="4140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3300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b337b"/>
                </a:solidFill>
                <a:latin typeface="Verdana"/>
              </a:rPr>
              <a:t>85 M di valore del transato nel 2007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3300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b337b"/>
                </a:solidFill>
                <a:latin typeface="Verdana"/>
              </a:rPr>
              <a:t>1300 imprese abilitat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3300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b337b"/>
                </a:solidFill>
                <a:latin typeface="Verdana"/>
              </a:rPr>
              <a:t>16 iniziative merceologiche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3300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b337b"/>
                </a:solidFill>
                <a:latin typeface="Verdana"/>
              </a:rPr>
              <a:t>6000 punti ordinanti registrat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3300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b337b"/>
                </a:solidFill>
                <a:latin typeface="Verdana"/>
              </a:rPr>
              <a:t>5 articoli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spcBef>
                <a:spcPts val="499"/>
              </a:spcBef>
              <a:buClr>
                <a:srgbClr val="ff3300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b337b"/>
                </a:solidFill>
                <a:latin typeface="Verdana"/>
              </a:rPr>
              <a:t>7 Arpa registrate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6" name=""/>
          <p:cNvSpPr/>
          <p:nvPr/>
        </p:nvSpPr>
        <p:spPr>
          <a:xfrm>
            <a:off x="1167840" y="662040"/>
            <a:ext cx="701784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7920" rIns="97920" tIns="48960" bIns="489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337b"/>
                </a:solidFill>
                <a:latin typeface="Arial"/>
              </a:rPr>
              <a:t>Considerazioni generali sul Mercato elettronico 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385920" y="1433520"/>
            <a:ext cx="9362880" cy="3960720"/>
          </a:xfrm>
          <a:prstGeom prst="rect">
            <a:avLst/>
          </a:prstGeom>
          <a:solidFill>
            <a:srgbClr val="f3f3f3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1187280" y="692280"/>
            <a:ext cx="866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Le categorie merceologiche sul MEPA: le offerte commerci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784080" y="1751040"/>
            <a:ext cx="8628120" cy="2772360"/>
            <a:chOff x="784080" y="1751040"/>
            <a:chExt cx="8628120" cy="2772360"/>
          </a:xfrm>
        </p:grpSpPr>
        <p:sp>
          <p:nvSpPr>
            <p:cNvPr id="680" name=""/>
            <p:cNvSpPr/>
            <p:nvPr/>
          </p:nvSpPr>
          <p:spPr>
            <a:xfrm>
              <a:off x="8318520" y="1751040"/>
              <a:ext cx="100800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108400" y="1751040"/>
              <a:ext cx="100836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173640" y="1751040"/>
              <a:ext cx="100836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41320" y="3170160"/>
              <a:ext cx="100800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908000" y="3170160"/>
              <a:ext cx="100836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973240" y="3170160"/>
              <a:ext cx="100836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040280" y="3170160"/>
              <a:ext cx="100800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106960" y="3170160"/>
              <a:ext cx="100800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172200" y="3170160"/>
              <a:ext cx="100800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251840" y="3170160"/>
              <a:ext cx="100800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317080" y="3170160"/>
              <a:ext cx="100800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43120" y="1751040"/>
              <a:ext cx="100800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909800" y="1751040"/>
              <a:ext cx="100800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975040" y="1751040"/>
              <a:ext cx="100800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041720" y="1751040"/>
              <a:ext cx="100800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5" name="" descr=""/>
            <p:cNvPicPr/>
            <p:nvPr/>
          </p:nvPicPr>
          <p:blipFill>
            <a:blip r:embed="rId1"/>
            <a:stretch/>
          </p:blipFill>
          <p:spPr>
            <a:xfrm>
              <a:off x="857160" y="1865160"/>
              <a:ext cx="887400" cy="6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"/>
            <p:cNvSpPr/>
            <p:nvPr/>
          </p:nvSpPr>
          <p:spPr>
            <a:xfrm>
              <a:off x="785880" y="2546280"/>
              <a:ext cx="11523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Arredi e complementi di arredo: 27.0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852560" y="2409840"/>
              <a:ext cx="115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Prodotti e accessori informatici: 80.00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98" name="" descr=""/>
            <p:cNvPicPr/>
            <p:nvPr/>
          </p:nvPicPr>
          <p:blipFill>
            <a:blip r:embed="rId2"/>
            <a:stretch/>
          </p:blipFill>
          <p:spPr>
            <a:xfrm>
              <a:off x="2052720" y="1789200"/>
              <a:ext cx="647640" cy="5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2917800" y="2682720"/>
              <a:ext cx="11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Cancelleria: 220.00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0" name="" descr=""/>
            <p:cNvPicPr/>
            <p:nvPr/>
          </p:nvPicPr>
          <p:blipFill>
            <a:blip r:embed="rId3"/>
            <a:stretch/>
          </p:blipFill>
          <p:spPr>
            <a:xfrm>
              <a:off x="3086280" y="1817640"/>
              <a:ext cx="80640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1" name=""/>
            <p:cNvSpPr/>
            <p:nvPr/>
          </p:nvSpPr>
          <p:spPr>
            <a:xfrm>
              <a:off x="3984480" y="254628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Area Specifica Sanità: 27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051520" y="2409840"/>
              <a:ext cx="115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Dispositivi di protezione individuale:   3.30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116760" y="2546280"/>
              <a:ext cx="11509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Manutenzione Impianti Elettrici: 1.75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4" name="" descr=""/>
            <p:cNvPicPr/>
            <p:nvPr/>
          </p:nvPicPr>
          <p:blipFill>
            <a:blip r:embed="rId4"/>
            <a:stretch/>
          </p:blipFill>
          <p:spPr>
            <a:xfrm>
              <a:off x="4299120" y="1824120"/>
              <a:ext cx="485640" cy="68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5" name="" descr=""/>
            <p:cNvPicPr/>
            <p:nvPr/>
          </p:nvPicPr>
          <p:blipFill>
            <a:blip r:embed="rId5"/>
            <a:stretch/>
          </p:blipFill>
          <p:spPr>
            <a:xfrm>
              <a:off x="5207040" y="1824120"/>
              <a:ext cx="792000" cy="56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6" name="" descr=""/>
            <p:cNvPicPr/>
            <p:nvPr/>
          </p:nvPicPr>
          <p:blipFill>
            <a:blip r:embed="rId6"/>
            <a:stretch/>
          </p:blipFill>
          <p:spPr>
            <a:xfrm>
              <a:off x="6269040" y="1849320"/>
              <a:ext cx="792000" cy="52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7" name=""/>
            <p:cNvSpPr/>
            <p:nvPr/>
          </p:nvSpPr>
          <p:spPr>
            <a:xfrm>
              <a:off x="7253280" y="1751040"/>
              <a:ext cx="1008000" cy="129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261280" y="2682720"/>
              <a:ext cx="11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Formazione:  6.10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9" name="" descr=""/>
            <p:cNvPicPr/>
            <p:nvPr/>
          </p:nvPicPr>
          <p:blipFill>
            <a:blip r:embed="rId7"/>
            <a:stretch/>
          </p:blipFill>
          <p:spPr>
            <a:xfrm>
              <a:off x="7396200" y="1822320"/>
              <a:ext cx="719280" cy="57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"/>
            <p:cNvSpPr/>
            <p:nvPr/>
          </p:nvSpPr>
          <p:spPr>
            <a:xfrm>
              <a:off x="7194600" y="2546280"/>
              <a:ext cx="11509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Manutenzione Impianti Elevatori: 100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1" name="" descr=""/>
            <p:cNvPicPr/>
            <p:nvPr/>
          </p:nvPicPr>
          <p:blipFill>
            <a:blip r:embed="rId8"/>
            <a:stretch/>
          </p:blipFill>
          <p:spPr>
            <a:xfrm>
              <a:off x="8404200" y="1820880"/>
              <a:ext cx="851040" cy="5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"/>
            <p:cNvSpPr/>
            <p:nvPr/>
          </p:nvSpPr>
          <p:spPr>
            <a:xfrm>
              <a:off x="784080" y="3946680"/>
              <a:ext cx="1152720" cy="5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Erogazione gas e servizi connessi: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851120" y="3965400"/>
              <a:ext cx="115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Materiale Elettrico:      7.30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916360" y="3965400"/>
              <a:ext cx="11509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Materiale Igienico Sanitario:      13.7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983040" y="3965400"/>
              <a:ext cx="11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Prodotti per l’ufficio:      41.5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886280" y="4032360"/>
              <a:ext cx="1355760" cy="48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5000"/>
                </a:lnSpc>
                <a:spcBef>
                  <a:spcPts val="3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Manutenzione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5000"/>
                </a:lnSpc>
                <a:spcBef>
                  <a:spcPts val="3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Termoidraulici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5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 </a:t>
              </a: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85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114960" y="4102200"/>
              <a:ext cx="1150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Telefonia:     5.1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259840" y="3973680"/>
              <a:ext cx="11509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Servizi di Igiene Ambientale:  27.20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92800" y="4102200"/>
              <a:ext cx="115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0458c"/>
                  </a:solidFill>
                  <a:latin typeface="Trebuchet MS"/>
                </a:rPr>
                <a:t>Segnaletica:     8.600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0" name="" descr=""/>
            <p:cNvPicPr/>
            <p:nvPr/>
          </p:nvPicPr>
          <p:blipFill>
            <a:blip r:embed="rId9"/>
            <a:stretch/>
          </p:blipFill>
          <p:spPr>
            <a:xfrm>
              <a:off x="985680" y="3262320"/>
              <a:ext cx="720720" cy="514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" descr=""/>
            <p:cNvPicPr/>
            <p:nvPr/>
          </p:nvPicPr>
          <p:blipFill>
            <a:blip r:embed="rId10"/>
            <a:stretch/>
          </p:blipFill>
          <p:spPr>
            <a:xfrm>
              <a:off x="2055960" y="3271680"/>
              <a:ext cx="72360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" descr=""/>
            <p:cNvPicPr/>
            <p:nvPr/>
          </p:nvPicPr>
          <p:blipFill>
            <a:blip r:embed="rId11"/>
            <a:stretch/>
          </p:blipFill>
          <p:spPr>
            <a:xfrm>
              <a:off x="3041640" y="3236760"/>
              <a:ext cx="863640" cy="61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3" name="" descr=""/>
            <p:cNvPicPr/>
            <p:nvPr/>
          </p:nvPicPr>
          <p:blipFill>
            <a:blip r:embed="rId12"/>
            <a:stretch/>
          </p:blipFill>
          <p:spPr>
            <a:xfrm>
              <a:off x="4233960" y="3235320"/>
              <a:ext cx="714240" cy="6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4" name="" descr=""/>
            <p:cNvPicPr/>
            <p:nvPr/>
          </p:nvPicPr>
          <p:blipFill>
            <a:blip r:embed="rId13"/>
            <a:stretch/>
          </p:blipFill>
          <p:spPr>
            <a:xfrm>
              <a:off x="6362640" y="3198960"/>
              <a:ext cx="62244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5" name="" descr=""/>
            <p:cNvPicPr/>
            <p:nvPr/>
          </p:nvPicPr>
          <p:blipFill>
            <a:blip r:embed="rId14"/>
            <a:stretch/>
          </p:blipFill>
          <p:spPr>
            <a:xfrm>
              <a:off x="7324560" y="3262320"/>
              <a:ext cx="863640" cy="56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6" name="" descr=""/>
            <p:cNvPicPr/>
            <p:nvPr/>
          </p:nvPicPr>
          <p:blipFill>
            <a:blip r:embed="rId15"/>
            <a:stretch/>
          </p:blipFill>
          <p:spPr>
            <a:xfrm>
              <a:off x="8429760" y="3263760"/>
              <a:ext cx="804600" cy="582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130400" y="0"/>
            <a:ext cx="8521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Il Programma -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Principi card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12529" t="4336" r="17517" b="58741"/>
          <a:stretch/>
        </p:blipFill>
        <p:spPr>
          <a:xfrm>
            <a:off x="1789200" y="1087560"/>
            <a:ext cx="7495920" cy="31334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490760" y="1557360"/>
            <a:ext cx="8034120" cy="4124160"/>
          </a:xfrm>
          <a:prstGeom prst="rect">
            <a:avLst/>
          </a:prstGeom>
          <a:solidFill>
            <a:srgbClr val="eaeaea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2440" y="3468600"/>
            <a:ext cx="8032680" cy="76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299120" y="3546360"/>
            <a:ext cx="25318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eaeae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62640" y="3622680"/>
            <a:ext cx="200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oncorre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972480" y="3546360"/>
            <a:ext cx="253188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eaeae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72480" y="3622680"/>
            <a:ext cx="24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raspare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08120" y="3546360"/>
            <a:ext cx="253224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eaeae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90840" y="3622680"/>
            <a:ext cx="25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Innov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314960" y="4475160"/>
            <a:ext cx="25272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areri Autorità Gara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artecipazione PM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35040" y="4475160"/>
            <a:ext cx="265284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Consulenza e tecnolog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E-Procu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0800000">
            <a:off x="1662120" y="4133520"/>
            <a:ext cx="2417760" cy="2300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4359240" y="4135320"/>
            <a:ext cx="2417760" cy="2304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0800000">
            <a:off x="7012080" y="4135320"/>
            <a:ext cx="2417760" cy="2304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966000" y="4465800"/>
            <a:ext cx="258912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ubblicità inizi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ortale Acquisti in R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61EFD-E518-4527-BAF6-61B86513503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1568520" y="1192320"/>
            <a:ext cx="7870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8" name=""/>
          <p:cNvGraphicFramePr/>
          <p:nvPr/>
        </p:nvGraphicFramePr>
        <p:xfrm>
          <a:off x="863640" y="1397160"/>
          <a:ext cx="8388360" cy="5133960"/>
        </p:xfrm>
        <a:graphic>
          <a:graphicData uri="http://schemas.openxmlformats.org/drawingml/2006/table">
            <a:tbl>
              <a:tblPr/>
              <a:tblGrid>
                <a:gridCol w="1177920"/>
                <a:gridCol w="772920"/>
                <a:gridCol w="935280"/>
                <a:gridCol w="831600"/>
                <a:gridCol w="863640"/>
                <a:gridCol w="1024200"/>
                <a:gridCol w="2782800"/>
              </a:tblGrid>
              <a:tr h="443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0b337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0b337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0b337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0b337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2008                     (al 31/0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0b337b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No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0b337b">
                        <a:alpha val="50000"/>
                      </a:srgbClr>
                    </a:solidFill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iziative merceologic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0458c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337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Focus sulle categorie merceologiche chiav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4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O ATTIV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337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5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1.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1.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2.7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2.5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 </a:t>
                      </a: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PO registrati maggio 2008 : 7.1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. Catalogh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bilita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337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3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7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1.1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1.8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2.7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Oltre l’89% è rappresentato da PMI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e la categoria “micro”  (&lt; 7 dipendenti) è la più numerosa (47%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rticoli on l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337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113.2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190.4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226.7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332.4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445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86%  degli articoli appartiene alla  macro categoria ICT/Office supply.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474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ansazio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b337b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3.1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9.6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11.4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28.1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18.7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ffffff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82% su O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ffffff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18% su R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(% calcolata su 200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72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Volume cumulato: 12.8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Volume cumulato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24.2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Volume cumulato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52.4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Volume cumulato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71.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55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ransa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0b337b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8,3 mio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29,8 mio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mio € 3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mio €8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mio €5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190440" indent="-19044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ffffff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34% su O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ffffff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66% su R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(% calcolata su 200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ffffff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Valore medio mobile OdA: 1.2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ffffff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Valore medio mobile RdO: 10.5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ffffff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Valore medio mobile transazione: 2.900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0440" indent="-190440">
                        <a:lnSpc>
                          <a:spcPct val="100000"/>
                        </a:lnSpc>
                        <a:spcBef>
                          <a:spcPts val="249"/>
                        </a:spcBef>
                        <a:buClr>
                          <a:srgbClr val="ffffff"/>
                        </a:buClr>
                        <a:buSzPct val="8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(per valore medio mobile si intende il valore relativo ai 12 mesi precedenti il mese in questione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132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Valore cumulato: 38,1 mio 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Valore cumulato: mio € 7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Valore cumulato: mio €15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191f49"/>
                          </a:solidFill>
                          <a:latin typeface="Verdana"/>
                        </a:rPr>
                        <a:t>Valore cumulato: mio €21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29" name=""/>
          <p:cNvSpPr/>
          <p:nvPr/>
        </p:nvSpPr>
        <p:spPr>
          <a:xfrm>
            <a:off x="1568520" y="476280"/>
            <a:ext cx="625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b337b"/>
                </a:solidFill>
                <a:latin typeface="Verdana"/>
              </a:rPr>
              <a:t>Principali risultati del il ME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065240" y="63000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58c"/>
                </a:solidFill>
                <a:latin typeface="Verdana"/>
              </a:rPr>
              <a:t>MEPA: Utilizzo delle ARPA regionali nel 2007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8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40458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Il transato è stato di </a:t>
            </a:r>
            <a:r>
              <a:rPr b="1" lang="it-IT" sz="2000" spc="-1" strike="noStrike">
                <a:solidFill>
                  <a:srgbClr val="000066"/>
                </a:solidFill>
                <a:latin typeface="Arial"/>
              </a:rPr>
              <a:t>450.000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 €, con un ricorso alle Richieste d’offerta e a gli  Ordini diretti, equamente suddiviso al 50%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Le categorie merceologiche  più utilizzate sono Hardware e software, materiale di consumo per ufficio ed arredi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32" name=""/>
          <p:cNvGraphicFramePr/>
          <p:nvPr/>
        </p:nvGraphicFramePr>
        <p:xfrm>
          <a:off x="5165640" y="1484280"/>
          <a:ext cx="4740480" cy="331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65640" y="1484280"/>
                    <a:ext cx="474048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366560" y="-27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it-IT" sz="2400" spc="-1" strike="noStrike">
                <a:solidFill>
                  <a:srgbClr val="40458c"/>
                </a:solidFill>
                <a:latin typeface="Verdana"/>
              </a:rPr>
              <a:t>MEPA: Utilizzo delle ARPA regionali</a:t>
            </a:r>
            <a:br>
              <a:rPr sz="2400"/>
            </a:b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nei primi mesi 2008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15440" y="1700280"/>
            <a:ext cx="438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buClr>
                <a:srgbClr val="40458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Il transato è di 200.000 €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Le categorie merceologiche  maggiormente utilizzate sono hardware e software, materiale di consumo, ed arredi.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736" name=""/>
          <p:cNvGraphicFramePr/>
          <p:nvPr/>
        </p:nvGraphicFramePr>
        <p:xfrm>
          <a:off x="4881600" y="1916280"/>
          <a:ext cx="4887720" cy="338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1600" y="1916280"/>
                    <a:ext cx="4887720" cy="33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8151840" y="1522440"/>
            <a:ext cx="10796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7819" dir="2700000" blurRad="0" rotWithShape="0">
              <a:srgbClr val="4045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Arial"/>
              </a:rPr>
              <a:t>06/07 – 05/ 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096920" y="6308640"/>
            <a:ext cx="797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158920"/>
                <a:tab algn="l" pos="4317840"/>
                <a:tab algn="l" pos="6477120"/>
                <a:tab algn="l" pos="8636040"/>
                <a:tab algn="l" pos="10794960"/>
              </a:tabLst>
            </a:pPr>
            <a:r>
              <a:rPr b="0" i="1" lang="en-US" sz="1200" spc="-1" strike="noStrike">
                <a:solidFill>
                  <a:srgbClr val="40458c"/>
                </a:solidFill>
                <a:latin typeface="Arial"/>
              </a:rPr>
              <a:t>NB: Nelle computo vendite dei fornitori non sono conteggiati 2.068.080 € fatturati da aziende est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1"/>
          <a:stretch/>
        </p:blipFill>
        <p:spPr>
          <a:xfrm>
            <a:off x="1076400" y="1758960"/>
            <a:ext cx="7870680" cy="4267080"/>
          </a:xfrm>
          <a:prstGeom prst="rect">
            <a:avLst/>
          </a:prstGeom>
          <a:ln w="0">
            <a:noFill/>
          </a:ln>
        </p:spPr>
      </p:pic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006200" y="9172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Verdana"/>
              </a:rPr>
              <a:t>Rapporto tra acquisti e vendite nelle regioni</a:t>
            </a:r>
            <a:endParaRPr b="1" lang="en-US" sz="2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1857240" y="527040"/>
            <a:ext cx="56880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  <a:ea typeface="Times New Roman"/>
              </a:rPr>
              <a:t>I nuovi strumenti introdotti dal Codice </a:t>
            </a:r>
            <a:endParaRPr b="0" lang="en-US" sz="20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743" name=""/>
          <p:cNvSpPr/>
          <p:nvPr/>
        </p:nvSpPr>
        <p:spPr>
          <a:xfrm>
            <a:off x="9328320" y="19692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1209600" y="981000"/>
            <a:ext cx="7488000" cy="5753160"/>
            <a:chOff x="1209600" y="981000"/>
            <a:chExt cx="7488000" cy="5753160"/>
          </a:xfrm>
        </p:grpSpPr>
        <p:sp>
          <p:nvSpPr>
            <p:cNvPr id="745" name=""/>
            <p:cNvSpPr/>
            <p:nvPr/>
          </p:nvSpPr>
          <p:spPr>
            <a:xfrm>
              <a:off x="4024080" y="1293840"/>
              <a:ext cx="4673520" cy="4463640"/>
            </a:xfrm>
            <a:prstGeom prst="rect">
              <a:avLst/>
            </a:prstGeom>
            <a:solidFill>
              <a:srgbClr val="d9d9ff"/>
            </a:solidFill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6" name=""/>
            <p:cNvGrpSpPr/>
            <p:nvPr/>
          </p:nvGrpSpPr>
          <p:grpSpPr>
            <a:xfrm>
              <a:off x="1224360" y="6094440"/>
              <a:ext cx="7154280" cy="639720"/>
              <a:chOff x="1224360" y="6094440"/>
              <a:chExt cx="7154280" cy="639720"/>
            </a:xfrm>
          </p:grpSpPr>
          <p:sp>
            <p:nvSpPr>
              <p:cNvPr id="747" name=""/>
              <p:cNvSpPr/>
              <p:nvPr/>
            </p:nvSpPr>
            <p:spPr>
              <a:xfrm>
                <a:off x="4626360" y="6094440"/>
                <a:ext cx="3752280" cy="42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Nuovi Strumenti/Processi di acquisizione  a disposizione delle PP.AA. “tramite” Consi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1224360" y="6094440"/>
                <a:ext cx="333540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“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ggiornamento” di uno strumento          di negoziazio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utilizzabile da CONSIP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" name=""/>
            <p:cNvSpPr/>
            <p:nvPr/>
          </p:nvSpPr>
          <p:spPr>
            <a:xfrm rot="5400000">
              <a:off x="2440080" y="723240"/>
              <a:ext cx="844920" cy="2188440"/>
            </a:xfrm>
            <a:custGeom>
              <a:avLst/>
              <a:gdLst>
                <a:gd name="textAreaLeft" fmla="*/ 0 w 844920"/>
                <a:gd name="textAreaRight" fmla="*/ 845280 w 844920"/>
                <a:gd name="textAreaTop" fmla="*/ 0 h 2188440"/>
                <a:gd name="textAreaBottom" fmla="*/ 2188800 h 218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468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sta elettron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750680" y="2273400"/>
              <a:ext cx="2221200" cy="23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77840" indent="-177840" algn="just">
                <a:buClr>
                  <a:srgbClr val="000000"/>
                </a:buClr>
                <a:buFont typeface="Arial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rumento di negoziazione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(tecnica di aggiudicazione)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he consente una classificazione automatica delle offerte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 utilizzabile nelle procedure aperte, procedure aperte, ristrette o negoziate con  pubblicazione del bando, nell’ambito del sistema dinamico di acquisizione, nel  rilancio del confronto competitivo in caso di accordo quadr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 rot="5400000">
              <a:off x="4783680" y="723960"/>
              <a:ext cx="844920" cy="2187000"/>
            </a:xfrm>
            <a:custGeom>
              <a:avLst/>
              <a:gdLst>
                <a:gd name="textAreaLeft" fmla="*/ 0 w 844920"/>
                <a:gd name="textAreaRight" fmla="*/ 845280 w 844920"/>
                <a:gd name="textAreaTop" fmla="*/ 0 h 2187000"/>
                <a:gd name="textAreaBottom" fmla="*/ 2187360 h 218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468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ccordo Quad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120200" y="2273400"/>
              <a:ext cx="2221200" cy="20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77840" indent="-177840" algn="just">
                <a:buClr>
                  <a:srgbClr val="000000"/>
                </a:buClr>
                <a:buFont typeface="Arial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ccordo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cluso tra una o più amministrazioni aggiudicatrici e uno o più operatori economici il cui scopo è quello di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abilire le clausole relative agli appalti da aggiudicare durante un dato periodo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, in particolare per quanto riguarda i prezzi e se del caso, le quantità previs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3" name=""/>
            <p:cNvGrpSpPr/>
            <p:nvPr/>
          </p:nvGrpSpPr>
          <p:grpSpPr>
            <a:xfrm>
              <a:off x="1210680" y="2298240"/>
              <a:ext cx="455400" cy="2133000"/>
              <a:chOff x="1210680" y="2298240"/>
              <a:chExt cx="455400" cy="2133000"/>
            </a:xfrm>
          </p:grpSpPr>
          <p:sp>
            <p:nvSpPr>
              <p:cNvPr id="754" name=""/>
              <p:cNvSpPr/>
              <p:nvPr/>
            </p:nvSpPr>
            <p:spPr>
              <a:xfrm rot="16200000">
                <a:off x="371880" y="3137040"/>
                <a:ext cx="2133000" cy="455400"/>
              </a:xfrm>
              <a:prstGeom prst="rect">
                <a:avLst/>
              </a:prstGeom>
              <a:solidFill>
                <a:srgbClr val="cc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rot="16200000">
                <a:off x="368640" y="3262320"/>
                <a:ext cx="2111040" cy="213480"/>
              </a:xfrm>
              <a:prstGeom prst="rect">
                <a:avLst/>
              </a:prstGeom>
              <a:solidFill>
                <a:srgbClr val="cc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ffff"/>
                    </a:solidFill>
                    <a:latin typeface="Arial"/>
                  </a:rPr>
                  <a:t>Descrizio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 rot="5400000">
              <a:off x="7064280" y="723960"/>
              <a:ext cx="844920" cy="2187000"/>
            </a:xfrm>
            <a:custGeom>
              <a:avLst/>
              <a:gdLst>
                <a:gd name="textAreaLeft" fmla="*/ 0 w 844920"/>
                <a:gd name="textAreaRight" fmla="*/ 845280 w 844920"/>
                <a:gd name="textAreaTop" fmla="*/ 0 h 2187000"/>
                <a:gd name="textAreaBottom" fmla="*/ 2187360 h 2187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808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468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Sistema Dinamic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d’Acquis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410160" y="2273400"/>
              <a:ext cx="222084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77840" indent="-177840" algn="just">
                <a:buClr>
                  <a:srgbClr val="000000"/>
                </a:buClr>
                <a:buFont typeface="Arial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stema elettronico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r l’acquisto di beni e servizi di utilizzazione corrente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 permanentemente aperto agli offerenti interessati che presentino una “offerta indicativa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” che sia valutata conforme al capitolato d’oner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8" name=""/>
            <p:cNvGrpSpPr/>
            <p:nvPr/>
          </p:nvGrpSpPr>
          <p:grpSpPr>
            <a:xfrm>
              <a:off x="1209600" y="4539240"/>
              <a:ext cx="455040" cy="1047960"/>
              <a:chOff x="1209600" y="4539240"/>
              <a:chExt cx="455040" cy="1047960"/>
            </a:xfrm>
          </p:grpSpPr>
          <p:sp>
            <p:nvSpPr>
              <p:cNvPr id="759" name=""/>
              <p:cNvSpPr/>
              <p:nvPr/>
            </p:nvSpPr>
            <p:spPr>
              <a:xfrm rot="16200000">
                <a:off x="912960" y="4835520"/>
                <a:ext cx="1047960" cy="455040"/>
              </a:xfrm>
              <a:prstGeom prst="rect">
                <a:avLst/>
              </a:prstGeom>
              <a:solidFill>
                <a:srgbClr val="cc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rot="16200000">
                <a:off x="904320" y="4958640"/>
                <a:ext cx="1037160" cy="213480"/>
              </a:xfrm>
              <a:prstGeom prst="rect">
                <a:avLst/>
              </a:prstGeom>
              <a:solidFill>
                <a:srgbClr val="cc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fffff"/>
                    </a:solidFill>
                    <a:latin typeface="Arial"/>
                  </a:rPr>
                  <a:t>Ruolo attori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"/>
            <p:cNvSpPr/>
            <p:nvPr/>
          </p:nvSpPr>
          <p:spPr>
            <a:xfrm>
              <a:off x="1750680" y="4639320"/>
              <a:ext cx="1951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77840" indent="-177840" algn="just">
                <a:buClr>
                  <a:srgbClr val="000000"/>
                </a:buClr>
                <a:buFont typeface="Arial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sip negozia il contratt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765800" y="5046120"/>
              <a:ext cx="6739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750680" y="5247720"/>
              <a:ext cx="195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77840" indent="-177840" algn="just">
                <a:buClr>
                  <a:srgbClr val="000000"/>
                </a:buClr>
                <a:buFont typeface="Arial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Le PP.AA. ordinan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120200" y="4640760"/>
              <a:ext cx="1951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77840" indent="-177840" algn="just">
                <a:buClr>
                  <a:srgbClr val="000000"/>
                </a:buClr>
                <a:buFont typeface="Arial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sip aggiudica Accordo Quadr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120200" y="5249160"/>
              <a:ext cx="1951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77840" indent="-177840" algn="just">
                <a:buClr>
                  <a:srgbClr val="000000"/>
                </a:buClr>
                <a:buFont typeface="Arial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Le PP.AA. aggiudicano Accordo Specif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545160" y="4608000"/>
              <a:ext cx="1951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77840" indent="-177840" algn="just">
                <a:buClr>
                  <a:srgbClr val="000000"/>
                </a:buClr>
                <a:buFont typeface="Arial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onsip istituisce  DP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545160" y="5216400"/>
              <a:ext cx="1951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177840" indent="-177840" algn="just">
                <a:buClr>
                  <a:srgbClr val="000000"/>
                </a:buClr>
                <a:buFont typeface="Arial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Le PP.AA. negoziano e aggiudica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064240" y="5775480"/>
              <a:ext cx="1637640" cy="287640"/>
            </a:xfrm>
            <a:prstGeom prst="downArrow">
              <a:avLst>
                <a:gd name="adj1" fmla="val 50000"/>
                <a:gd name="adj2" fmla="val 50014"/>
              </a:avLst>
            </a:prstGeom>
            <a:solidFill>
              <a:srgbClr val="333399"/>
            </a:solidFill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ctr">
              <a:noAutofit/>
            </a:bodyPr>
            <a:p>
              <a:pPr algn="ctr">
                <a:tabLst>
                  <a:tab algn="l" pos="0"/>
                  <a:tab algn="l" pos="954000"/>
                  <a:tab algn="l" pos="1908000"/>
                  <a:tab algn="l" pos="2862360"/>
                  <a:tab algn="l" pos="3816360"/>
                  <a:tab algn="l" pos="4770360"/>
                  <a:tab algn="l" pos="5724360"/>
                  <a:tab algn="l" pos="6678720"/>
                  <a:tab algn="l" pos="7632720"/>
                  <a:tab algn="l" pos="8586720"/>
                  <a:tab algn="l" pos="9540720"/>
                  <a:tab algn="l" pos="104950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684400" y="5799240"/>
              <a:ext cx="1638000" cy="287640"/>
            </a:xfrm>
            <a:prstGeom prst="downArrow">
              <a:avLst>
                <a:gd name="adj1" fmla="val 50000"/>
                <a:gd name="adj2" fmla="val 50014"/>
              </a:avLst>
            </a:prstGeom>
            <a:solidFill>
              <a:srgbClr val="333399"/>
            </a:solidFill>
            <a:ln w="1908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9360" rIns="99360" tIns="49680" bIns="49680" anchor="ctr">
              <a:noAutofit/>
            </a:bodyPr>
            <a:p>
              <a:pPr algn="ctr">
                <a:tabLst>
                  <a:tab algn="l" pos="0"/>
                  <a:tab algn="l" pos="954000"/>
                  <a:tab algn="l" pos="1908000"/>
                  <a:tab algn="l" pos="2862360"/>
                  <a:tab algn="l" pos="3816360"/>
                  <a:tab algn="l" pos="4770360"/>
                  <a:tab algn="l" pos="5724360"/>
                  <a:tab algn="l" pos="6678720"/>
                  <a:tab algn="l" pos="7632720"/>
                  <a:tab algn="l" pos="8586720"/>
                  <a:tab algn="l" pos="9540720"/>
                  <a:tab algn="l" pos="104950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0" name=""/>
            <p:cNvCxnSpPr>
              <a:stCxn id="749" idx="0"/>
              <a:endCxn id="756" idx="0"/>
            </p:cNvCxnSpPr>
            <p:nvPr/>
          </p:nvCxnSpPr>
          <p:spPr>
            <a:xfrm flipH="1" rot="16200000">
              <a:off x="5175000" y="-925920"/>
              <a:ext cx="2160" cy="4625640"/>
            </a:xfrm>
            <a:prstGeom prst="bentConnector3">
              <a:avLst>
                <a:gd name="adj1" fmla="val -13800000"/>
              </a:avLst>
            </a:prstGeom>
            <a:ln w="38160">
              <a:solidFill>
                <a:srgbClr val="cc6666"/>
              </a:solidFill>
              <a:prstDash val="sysDot"/>
              <a:miter/>
              <a:tailEnd len="med" type="triangle" w="lg"/>
            </a:ln>
          </p:spPr>
        </p:cxnSp>
        <p:cxnSp>
          <p:nvCxnSpPr>
            <p:cNvPr id="771" name=""/>
            <p:cNvCxnSpPr>
              <a:stCxn id="749" idx="1"/>
              <a:endCxn id="751" idx="0"/>
            </p:cNvCxnSpPr>
            <p:nvPr/>
          </p:nvCxnSpPr>
          <p:spPr>
            <a:xfrm flipH="1" rot="16200000">
              <a:off x="4034880" y="214200"/>
              <a:ext cx="2160" cy="2345040"/>
            </a:xfrm>
            <a:prstGeom prst="bentConnector3">
              <a:avLst>
                <a:gd name="adj1" fmla="val -13800000"/>
              </a:avLst>
            </a:prstGeom>
            <a:ln w="38160">
              <a:solidFill>
                <a:srgbClr val="cc6666"/>
              </a:solidFill>
              <a:prstDash val="sysDot"/>
              <a:miter/>
              <a:tailEnd len="med" type="triangle" w="lg"/>
            </a:ln>
          </p:spPr>
        </p:cxnSp>
        <p:sp>
          <p:nvSpPr>
            <p:cNvPr id="772" name=""/>
            <p:cNvSpPr/>
            <p:nvPr/>
          </p:nvSpPr>
          <p:spPr>
            <a:xfrm>
              <a:off x="3379680" y="981000"/>
              <a:ext cx="350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sta elettronica utilizzabile anche nell’ambito di AQ e DP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A32F9-F115-480B-9F79-BEB5EB27FCD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/>
          </p:nvPr>
        </p:nvSpPr>
        <p:spPr>
          <a:xfrm>
            <a:off x="775800" y="1268280"/>
            <a:ext cx="81378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Oggetto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Servizi e fornitur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Lavori: lavori di manutenzione o connotati da serialità e caratteristiche esecutive standardizzat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No per progettazione e altri servizi intellettuali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Durata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: max 4 anni (salvo eccezioni motivate)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Valore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: max stimato, netto IVA, del complesso degli appalti previsti per la durata dell’accordo-quadro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rebuchet MS"/>
              </a:rPr>
              <a:t>Immodificabilità</a:t>
            </a:r>
            <a:r>
              <a:rPr b="0" lang="it-IT" sz="2000" spc="-1" strike="noStrike">
                <a:solidFill>
                  <a:srgbClr val="000000"/>
                </a:solidFill>
                <a:latin typeface="Trebuchet MS"/>
              </a:rPr>
              <a:t> sostanziale delle condizioni fissate nell’accordo quadro in sede di aggiudicazione degli appalti pubblici basati sull’accordo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774" name="LAVORI%20IN%20CORSO:Consip:flash01" descr=""/>
          <p:cNvPicPr/>
          <p:nvPr/>
        </p:nvPicPr>
        <p:blipFill>
          <a:blip r:embed="rId1"/>
          <a:srcRect l="1493" t="0" r="1493" b="0"/>
          <a:stretch/>
        </p:blipFill>
        <p:spPr>
          <a:xfrm>
            <a:off x="0" y="5462640"/>
            <a:ext cx="9906120" cy="139536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344520" y="1484280"/>
            <a:ext cx="914544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776160" y="793800"/>
            <a:ext cx="78487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Verdana"/>
                <a:ea typeface="Times New Roman"/>
              </a:rPr>
              <a:t>ACCORDO QUADRO - caratteristiche gener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5C8A7-EB0F-471E-9A2E-795A6A52512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2532240" y="2382840"/>
            <a:ext cx="5445000" cy="1552680"/>
          </a:xfrm>
          <a:prstGeom prst="flowChartAlternateProcess">
            <a:avLst/>
          </a:prstGeom>
          <a:solidFill>
            <a:srgbClr val="40458c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5730840" y="3357720"/>
            <a:ext cx="1079640" cy="431640"/>
            <a:chOff x="5730840" y="3357720"/>
            <a:chExt cx="1079640" cy="431640"/>
          </a:xfrm>
        </p:grpSpPr>
        <p:sp>
          <p:nvSpPr>
            <p:cNvPr id="779" name=""/>
            <p:cNvSpPr/>
            <p:nvPr/>
          </p:nvSpPr>
          <p:spPr>
            <a:xfrm>
              <a:off x="5730840" y="3357720"/>
              <a:ext cx="1079640" cy="43164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832720" y="3390840"/>
              <a:ext cx="9561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0458c"/>
                </a:buClr>
                <a:buFont typeface="Arial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più fornitor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40458c"/>
                </a:buClr>
                <a:buFont typeface="Arial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cond. fiss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4484520" y="2924280"/>
            <a:ext cx="1082520" cy="431640"/>
            <a:chOff x="4484520" y="2924280"/>
            <a:chExt cx="1082520" cy="431640"/>
          </a:xfrm>
        </p:grpSpPr>
        <p:sp>
          <p:nvSpPr>
            <p:cNvPr id="782" name=""/>
            <p:cNvSpPr/>
            <p:nvPr/>
          </p:nvSpPr>
          <p:spPr>
            <a:xfrm>
              <a:off x="4484520" y="2924280"/>
              <a:ext cx="1082520" cy="43164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590360" y="2957400"/>
              <a:ext cx="9482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0458c"/>
                </a:buClr>
                <a:buFont typeface="Arial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1 fornito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40458c"/>
                </a:buClr>
                <a:buFont typeface="Arial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cond. aper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6823080" y="2600280"/>
            <a:ext cx="1081080" cy="432000"/>
            <a:chOff x="6823080" y="2600280"/>
            <a:chExt cx="1081080" cy="432000"/>
          </a:xfrm>
        </p:grpSpPr>
        <p:sp>
          <p:nvSpPr>
            <p:cNvPr id="785" name=""/>
            <p:cNvSpPr/>
            <p:nvPr/>
          </p:nvSpPr>
          <p:spPr>
            <a:xfrm>
              <a:off x="6823080" y="2600280"/>
              <a:ext cx="1081080" cy="43200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889680" y="2633760"/>
              <a:ext cx="9482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buClr>
                  <a:srgbClr val="40458c"/>
                </a:buClr>
                <a:buFont typeface="Arial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più fornitor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40458c"/>
                </a:buClr>
                <a:buFont typeface="Arial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cond. aper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4339440" y="2637000"/>
            <a:ext cx="158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ordi Quad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813280" y="1592280"/>
            <a:ext cx="2055960" cy="828720"/>
          </a:xfrm>
          <a:prstGeom prst="flowChartAlternateProcess">
            <a:avLst/>
          </a:prstGeom>
          <a:solidFill>
            <a:srgbClr val="40458c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5743440" y="1714680"/>
            <a:ext cx="2197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st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namic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 Acquis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363760" y="1233360"/>
            <a:ext cx="0" cy="363708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2355840" y="4869000"/>
            <a:ext cx="7356600" cy="144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3727440" y="4941720"/>
            <a:ext cx="374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Offer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rot="16200000">
            <a:off x="1675080" y="4795200"/>
            <a:ext cx="23317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40458c"/>
                </a:solidFill>
                <a:latin typeface="Verdana"/>
              </a:rPr>
              <a:t>…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1208160" y="2852640"/>
            <a:ext cx="1117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Doma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540160" y="3498840"/>
            <a:ext cx="1836720" cy="1189080"/>
          </a:xfrm>
          <a:prstGeom prst="flowChartAlternateProcess">
            <a:avLst/>
          </a:prstGeom>
          <a:solidFill>
            <a:srgbClr val="40458c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832480" y="4092480"/>
            <a:ext cx="1253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ven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2936880" y="3537000"/>
            <a:ext cx="1081080" cy="539640"/>
            <a:chOff x="2936880" y="3537000"/>
            <a:chExt cx="1081080" cy="539640"/>
          </a:xfrm>
        </p:grpSpPr>
        <p:sp>
          <p:nvSpPr>
            <p:cNvPr id="798" name=""/>
            <p:cNvSpPr/>
            <p:nvPr/>
          </p:nvSpPr>
          <p:spPr>
            <a:xfrm>
              <a:off x="2936880" y="3537000"/>
              <a:ext cx="1081080" cy="539640"/>
            </a:xfrm>
            <a:prstGeom prst="rect">
              <a:avLst/>
            </a:prstGeom>
            <a:solidFill>
              <a:srgbClr val="b7c1eb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999520" y="3546360"/>
              <a:ext cx="956160" cy="49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AQ con: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40458c"/>
                </a:buClr>
                <a:buFont typeface="Arial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1 fornito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buClr>
                  <a:srgbClr val="40458c"/>
                </a:buClr>
                <a:buFont typeface="Arial"/>
                <a:buChar char="•"/>
                <a:tabLst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40458c"/>
                  </a:solidFill>
                  <a:latin typeface="Arial"/>
                </a:rPr>
                <a:t>cond. fiss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"/>
          <p:cNvSpPr/>
          <p:nvPr/>
        </p:nvSpPr>
        <p:spPr>
          <a:xfrm>
            <a:off x="1285920" y="203040"/>
            <a:ext cx="60847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Relazione tra strumenti e Merca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146240" y="4616280"/>
            <a:ext cx="117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480" indent="-87480">
              <a:lnSpc>
                <a:spcPct val="100000"/>
              </a:lnSpc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58c"/>
                </a:solidFill>
                <a:latin typeface="Verdana"/>
              </a:rPr>
              <a:t>Standar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1044720" y="1163520"/>
            <a:ext cx="150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480" indent="-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58c"/>
                </a:solidFill>
                <a:latin typeface="Verdana"/>
              </a:rPr>
              <a:t>Personalizz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112840" y="4933800"/>
            <a:ext cx="187020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480" indent="-87480">
              <a:lnSpc>
                <a:spcPct val="100000"/>
              </a:lnSpc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58c"/>
                </a:solidFill>
                <a:latin typeface="Verdana"/>
              </a:rPr>
              <a:t>Concentr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58c"/>
                </a:solidFill>
                <a:latin typeface="Verdana"/>
              </a:rPr>
              <a:t>Caratteristiche generiche del forni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8396280" y="4905360"/>
            <a:ext cx="1376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480" indent="-87480">
              <a:lnSpc>
                <a:spcPct val="100000"/>
              </a:lnSpc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58c"/>
                </a:solidFill>
                <a:latin typeface="Verdana"/>
              </a:rPr>
              <a:t>Framment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buClr>
                <a:srgbClr val="40458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40458c"/>
                </a:solidFill>
                <a:latin typeface="Verdana"/>
              </a:rPr>
              <a:t>Caratteristiche specifiche del forni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389240" y="5681520"/>
            <a:ext cx="82803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7840" indent="-177840">
              <a:lnSpc>
                <a:spcPct val="100000"/>
              </a:lnSpc>
              <a:spcBef>
                <a:spcPts val="1137"/>
              </a:spcBef>
              <a:buClr>
                <a:srgbClr val="40458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0458c"/>
                </a:solidFill>
                <a:latin typeface="Verdana"/>
              </a:rPr>
              <a:t>Il ricorso ai diversi strumenti di acquisto è funzionale alle caratteristiche dell’offerta (struttura del mercato di riferimento) e della domand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spcBef>
                <a:spcPts val="1137"/>
              </a:spcBef>
              <a:buClr>
                <a:srgbClr val="40458c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0458c"/>
                </a:solidFill>
                <a:latin typeface="Verdana"/>
              </a:rPr>
              <a:t>Sarà rimesso alla strategia della Centrale di committenza valutare con quale strumento aggredire le singole merceologie, in funzione della domanda che si intende intercetta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724880" y="1233360"/>
            <a:ext cx="1620720" cy="682920"/>
          </a:xfrm>
          <a:prstGeom prst="flowChartAlternateProcess">
            <a:avLst/>
          </a:prstGeom>
          <a:solidFill>
            <a:srgbClr val="40458c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229600" y="1438200"/>
            <a:ext cx="64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208160" y="620280"/>
            <a:ext cx="82548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Verdana"/>
              </a:rPr>
              <a:t>Nuovi strumenti e ruolo della centrale di committenza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141800" y="5827680"/>
            <a:ext cx="26510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 modalità di erogazione del servizio di fornitura (ad es. modalità di consegna del bene/servizio ec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483160" y="56116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826320" y="3306600"/>
            <a:ext cx="23382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 durata dei singoli contratti stipulati tra le P.A. ed il fornit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748560" y="3867120"/>
            <a:ext cx="3906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46760" y="5106960"/>
            <a:ext cx="2730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 quantitativi massimi e le caratteristiche degli ordinativi del bene/serviz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46760" y="5178600"/>
            <a:ext cx="3906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14560" y="3306600"/>
            <a:ext cx="27288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’oggetto della Convenzione (ovvero i beni/servizi oggetto della fornitu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3766680" y="3882960"/>
            <a:ext cx="3891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17960" y="2932200"/>
            <a:ext cx="2886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 tempi di esecuzione e la durata della Conven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452920" y="344952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42880" y="5106960"/>
            <a:ext cx="23385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 responsabili del servizio di forni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781080" y="5249880"/>
            <a:ext cx="3906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72040" y="3809880"/>
            <a:ext cx="2574720" cy="158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68600" y="257040"/>
            <a:ext cx="908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b337b"/>
                </a:solidFill>
                <a:latin typeface="Trebuchet MS"/>
              </a:rPr>
              <a:t>Il sistema delle Convenzioni – Cos’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30400" y="765000"/>
            <a:ext cx="8775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e Convenzioni sono contratti quadro stipulati – attraverso Consip - dal Ministero dell’Economia e delle Finanze. Stipulate a seguito di una procedura di gara tradizionale o telematica, tale strumento d’acquisto mette a disposizione delle Amministrazioni beni e servizi, individuati attraverso l’analisi delle esigenze della P.A., e offrono alle Imprese l’opportunità di soddisfare la domanda pubblica assicurando il rispetto dei principi di concorrenza e trasparenz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e Convenzioni pongono in essere un “sistema di impegni”  caratterizzato principalmente d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426200" y="4025880"/>
            <a:ext cx="1991160" cy="939240"/>
            <a:chOff x="4426200" y="4025880"/>
            <a:chExt cx="1991160" cy="93924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5029560" y="4025880"/>
              <a:ext cx="68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4426200" y="4505400"/>
              <a:ext cx="199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venzion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4251240" y="4962600"/>
            <a:ext cx="249480" cy="2300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43480" y="5324400"/>
            <a:ext cx="249120" cy="230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35720" y="4011480"/>
            <a:ext cx="249120" cy="230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35720" y="4962600"/>
            <a:ext cx="249120" cy="2300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235400" y="4027320"/>
            <a:ext cx="249120" cy="230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43480" y="3651120"/>
            <a:ext cx="249120" cy="230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E4484-CA37-48DE-836F-F16E8CD5C12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301840" y="5300640"/>
            <a:ext cx="6942240" cy="136836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41840" y="1989000"/>
            <a:ext cx="5148360" cy="302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88160" y="2052720"/>
            <a:ext cx="3079800" cy="310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30400" y="765000"/>
            <a:ext cx="877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a un punto di vista contrattuale il sistema presenta diverse novità finalizzate al superamento del modello di acquisto precedentemente adott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30400" y="2762280"/>
            <a:ext cx="3120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alizzazione di Convenzioni aventi le caratteristiche di un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tratto quadr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ovvero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er adesion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07120" y="1773360"/>
            <a:ext cx="369900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tengono tutte le clausole contrattuali necessarie a regolare completamente sia i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apporti tra la Consip ed il Fornitor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sia quelli tra il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nitore e le Amministrazi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02440" y="3149640"/>
            <a:ext cx="370368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 Amministrazioni si limitano a stipulare i loro singoli contratti mediante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l’invio del solo Ordinativo di forni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202440" y="4454640"/>
            <a:ext cx="370368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tratti così conclusi sono disciplinati per intero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delle clausole contenute nella Conven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76760" y="4641840"/>
            <a:ext cx="235080" cy="216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84520" y="3357720"/>
            <a:ext cx="235080" cy="215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76760" y="2206800"/>
            <a:ext cx="235080" cy="215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811840" y="2328840"/>
            <a:ext cx="39060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719600" y="3502080"/>
            <a:ext cx="148284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811840" y="4726080"/>
            <a:ext cx="39060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68600" y="260280"/>
            <a:ext cx="908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337b"/>
                </a:solidFill>
                <a:latin typeface="Trebuchet MS"/>
              </a:rPr>
              <a:t>Il sistema delle Convenzioni – Cos’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09600" y="4869000"/>
            <a:ext cx="218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 pertan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17760" y="5492880"/>
            <a:ext cx="6278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 Amministrazioni conservano la propria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utonomia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ella determinazione della politica degli acquisti di beni e servi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17760" y="6067440"/>
            <a:ext cx="6826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 Amministrazioni possono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sufruire velocemente e tempestivamente dei beni e dei servizi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di cui effettivamente necessit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AB53E-50B2-4A3E-84EB-272F15556AC1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392640" y="2924280"/>
            <a:ext cx="0" cy="1296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3003480" y="2924280"/>
            <a:ext cx="0" cy="1296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62640" y="2708280"/>
            <a:ext cx="2184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303800" y="2433600"/>
            <a:ext cx="2728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1520" indent="-101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Reportistica sul vendu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93760" y="3321000"/>
            <a:ext cx="1695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Strumenti di monitoragg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37440" y="3321000"/>
            <a:ext cx="1758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Requisi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1520" indent="-1015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Livello di soddisf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84520" y="2924280"/>
            <a:ext cx="4332600" cy="2112840"/>
          </a:xfrm>
          <a:custGeom>
            <a:avLst/>
            <a:gdLst/>
            <a:ahLst/>
            <a:rect l="l" t="t" r="r" b="b"/>
            <a:pathLst>
              <a:path w="2746" h="1312">
                <a:moveTo>
                  <a:pt x="0" y="1311"/>
                </a:moveTo>
                <a:lnTo>
                  <a:pt x="2745" y="1311"/>
                </a:lnTo>
                <a:lnTo>
                  <a:pt x="274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510240" y="4767120"/>
            <a:ext cx="66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Forni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920080" y="3591000"/>
            <a:ext cx="11509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207200" y="1874880"/>
            <a:ext cx="2427480" cy="9856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ts val="11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11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11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ts val="11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4562640" y="2130480"/>
            <a:ext cx="2149200" cy="3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84520" y="2852640"/>
            <a:ext cx="3276720" cy="1728720"/>
          </a:xfrm>
          <a:custGeom>
            <a:avLst/>
            <a:gdLst/>
            <a:ahLst/>
            <a:rect l="l" t="t" r="r" b="b"/>
            <a:pathLst>
              <a:path w="2257" h="998">
                <a:moveTo>
                  <a:pt x="0" y="997"/>
                </a:moveTo>
                <a:lnTo>
                  <a:pt x="2256" y="997"/>
                </a:lnTo>
                <a:lnTo>
                  <a:pt x="225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13120" y="4253040"/>
            <a:ext cx="125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Ordini on-line/f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911240" y="4471920"/>
            <a:ext cx="2124360" cy="849240"/>
          </a:xfrm>
          <a:prstGeom prst="flowChartAlternateProcess">
            <a:avLst/>
          </a:prstGeom>
          <a:solidFill>
            <a:srgbClr val="000000">
              <a:alpha val="50000"/>
            </a:srgbClr>
          </a:solidFill>
          <a:ln w="3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989000" y="4416480"/>
            <a:ext cx="2124360" cy="849240"/>
          </a:xfrm>
          <a:prstGeom prst="flowChartAlternateProcess">
            <a:avLst/>
          </a:prstGeom>
          <a:solidFill>
            <a:srgbClr val="000000">
              <a:alpha val="50000"/>
            </a:srgbClr>
          </a:solidFill>
          <a:ln w="3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048040" y="4365720"/>
            <a:ext cx="2124000" cy="849240"/>
          </a:xfrm>
          <a:prstGeom prst="flowChartAlternateProcess">
            <a:avLst/>
          </a:prstGeom>
          <a:solidFill>
            <a:srgbClr val="000000">
              <a:alpha val="50000"/>
            </a:srgbClr>
          </a:solidFill>
          <a:ln w="3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Amministrazio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99440" y="1820880"/>
            <a:ext cx="1722240" cy="849240"/>
          </a:xfrm>
          <a:prstGeom prst="flowChartAlternateProcess">
            <a:avLst/>
          </a:prstGeom>
          <a:solidFill>
            <a:srgbClr val="000000">
              <a:alpha val="50000"/>
            </a:srgbClr>
          </a:solidFill>
          <a:ln w="3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442280" y="1785960"/>
            <a:ext cx="1722240" cy="849240"/>
          </a:xfrm>
          <a:prstGeom prst="flowChartAlternateProcess">
            <a:avLst/>
          </a:prstGeom>
          <a:solidFill>
            <a:srgbClr val="000000">
              <a:alpha val="50000"/>
            </a:srgbClr>
          </a:solidFill>
          <a:ln w="3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51160" y="1916280"/>
            <a:ext cx="1720800" cy="850680"/>
          </a:xfrm>
          <a:prstGeom prst="flowChartAlternateProcess">
            <a:avLst/>
          </a:prstGeom>
          <a:solidFill>
            <a:srgbClr val="000000">
              <a:alpha val="50000"/>
            </a:srgbClr>
          </a:solidFill>
          <a:ln w="3240">
            <a:solidFill>
              <a:srgbClr val="2626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ns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359480" y="1859040"/>
            <a:ext cx="1722600" cy="849240"/>
          </a:xfrm>
          <a:prstGeom prst="flowChartAlternateProcess">
            <a:avLst/>
          </a:prstGeom>
          <a:solidFill>
            <a:srgbClr val="000000">
              <a:alpha val="50000"/>
            </a:srgbClr>
          </a:solidFill>
          <a:ln w="3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Fornit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2800" y="838080"/>
            <a:ext cx="2838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262698"/>
                </a:solidFill>
                <a:latin typeface="Verdana"/>
                <a:ea typeface="Times New Roman"/>
              </a:rPr>
              <a:t>www.acquistinretepa.i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29000" y="1623960"/>
            <a:ext cx="265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01520" indent="-101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Stipula contratti quadro e attivazione negozi elettron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3236760" y="6135480"/>
            <a:ext cx="6240600" cy="2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236760" y="5692680"/>
            <a:ext cx="0" cy="426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9456840" y="2285640"/>
            <a:ext cx="20520" cy="3800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9243720" y="2282400"/>
            <a:ext cx="253800" cy="111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79920" y="5872320"/>
            <a:ext cx="1949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Paga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30080" y="212400"/>
            <a:ext cx="8255160" cy="3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b337b"/>
                </a:solidFill>
                <a:latin typeface="Trebuchet MS"/>
              </a:rPr>
              <a:t>Il sistema delle Convenzioni – Come funziona</a:t>
            </a:r>
            <a:endParaRPr b="0" lang="en-US" sz="16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261" name=""/>
          <p:cNvSpPr/>
          <p:nvPr/>
        </p:nvSpPr>
        <p:spPr>
          <a:xfrm>
            <a:off x="2967120" y="2852640"/>
            <a:ext cx="777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51240" y="4149720"/>
            <a:ext cx="7776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669000" y="2674800"/>
            <a:ext cx="777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389480" y="4543560"/>
            <a:ext cx="9360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775720" y="2852640"/>
            <a:ext cx="777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00400" y="5661000"/>
            <a:ext cx="7776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1F50D-7784-4871-8ACE-33B93A78299D}" type="slidenum">
              <a:t>5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LAVORI%20IN%20CORSO:Consip:flash02" descr=""/>
          <p:cNvPicPr/>
          <p:nvPr/>
        </p:nvPicPr>
        <p:blipFill>
          <a:blip r:embed="rId1"/>
          <a:srcRect l="754" t="0" r="1118" b="10984"/>
          <a:stretch/>
        </p:blipFill>
        <p:spPr>
          <a:xfrm>
            <a:off x="0" y="5300640"/>
            <a:ext cx="9906120" cy="15238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87280" y="887400"/>
            <a:ext cx="85154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Le iniziative del 2008 (1/6)</a:t>
            </a:r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269" name=""/>
          <p:cNvSpPr/>
          <p:nvPr/>
        </p:nvSpPr>
        <p:spPr>
          <a:xfrm>
            <a:off x="8988480" y="2317680"/>
            <a:ext cx="1271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Area IT</a:t>
            </a: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645240" y="1986120"/>
            <a:ext cx="2268720" cy="372960"/>
          </a:xfrm>
          <a:prstGeom prst="rect">
            <a:avLst/>
          </a:prstGeom>
          <a:solidFill>
            <a:srgbClr val="0b337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ST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471920" y="1986120"/>
            <a:ext cx="2173320" cy="372960"/>
          </a:xfrm>
          <a:prstGeom prst="rect">
            <a:avLst/>
          </a:prstGeom>
          <a:solidFill>
            <a:srgbClr val="0b337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rebuchet MS"/>
              </a:rPr>
              <a:t>CATEGORIA MERCEOLOG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208160" y="1986120"/>
            <a:ext cx="3263760" cy="372960"/>
          </a:xfrm>
          <a:prstGeom prst="rect">
            <a:avLst/>
          </a:prstGeom>
          <a:solidFill>
            <a:srgbClr val="0b337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INIZIAT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645240" y="3352680"/>
            <a:ext cx="2268720" cy="331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ttiv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471920" y="3352680"/>
            <a:ext cx="2173320" cy="331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 fontScale="91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Hardware e macchine per uffi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208160" y="3352680"/>
            <a:ext cx="3263760" cy="331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rver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45240" y="3684600"/>
            <a:ext cx="2268720" cy="3333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ttiv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471920" y="3684600"/>
            <a:ext cx="2173320" cy="3333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 fontScale="91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Hardware e macchine per uffi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208160" y="3684600"/>
            <a:ext cx="3263760" cy="3333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Server Midr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45240" y="3022560"/>
            <a:ext cx="2268720" cy="330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ttiv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471920" y="3022560"/>
            <a:ext cx="2173320" cy="330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 fontScale="90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Hardware e macchine per uffi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208160" y="3022560"/>
            <a:ext cx="3263760" cy="3301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Pc Portatili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645240" y="2359080"/>
            <a:ext cx="2268720" cy="331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ttiv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471920" y="2359080"/>
            <a:ext cx="2173320" cy="331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 fontScale="91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Hardware e macchine per uffi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208160" y="2359080"/>
            <a:ext cx="3263760" cy="33156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Fotocopiatrici in noleggio 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645240" y="2690640"/>
            <a:ext cx="2268720" cy="331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ttiv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471920" y="2690640"/>
            <a:ext cx="2173320" cy="331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 fontScale="91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Hardware e macchine per uffi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08160" y="2690640"/>
            <a:ext cx="3263760" cy="331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erver entry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645240" y="4017960"/>
            <a:ext cx="2268720" cy="331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ttiv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471920" y="4017960"/>
            <a:ext cx="2173320" cy="331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 fontScale="91000"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Hardware e macchine per uffi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08160" y="4017960"/>
            <a:ext cx="3263760" cy="33192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Stampanti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208160" y="1986120"/>
            <a:ext cx="770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208160" y="4349880"/>
            <a:ext cx="770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208160" y="3022560"/>
            <a:ext cx="770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208160" y="2690640"/>
            <a:ext cx="770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208160" y="3352680"/>
            <a:ext cx="770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208160" y="4017960"/>
            <a:ext cx="770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208160" y="3684600"/>
            <a:ext cx="770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208160" y="2359080"/>
            <a:ext cx="770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058320" y="4448160"/>
            <a:ext cx="122400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rebuchet MS"/>
              </a:rPr>
              <a:t>Are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rebuchet MS"/>
              </a:rPr>
              <a:t>Re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rebuchet MS"/>
              </a:rPr>
              <a:t>E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1208160" y="4508640"/>
            <a:ext cx="7775640" cy="1393560"/>
            <a:chOff x="1208160" y="4508640"/>
            <a:chExt cx="7775640" cy="1393560"/>
          </a:xfrm>
        </p:grpSpPr>
        <p:sp>
          <p:nvSpPr>
            <p:cNvPr id="301" name=""/>
            <p:cNvSpPr/>
            <p:nvPr/>
          </p:nvSpPr>
          <p:spPr>
            <a:xfrm>
              <a:off x="6688080" y="4508640"/>
              <a:ext cx="2274840" cy="236160"/>
            </a:xfrm>
            <a:prstGeom prst="rect">
              <a:avLst/>
            </a:prstGeom>
            <a:solidFill>
              <a:srgbClr val="0b33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rebuchet MS"/>
                </a:rPr>
                <a:t>STA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410000" y="4508640"/>
              <a:ext cx="2278080" cy="236160"/>
            </a:xfrm>
            <a:prstGeom prst="rect">
              <a:avLst/>
            </a:prstGeom>
            <a:solidFill>
              <a:srgbClr val="0b33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58000"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CATEGORIA MERCEOLOG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208160" y="4508640"/>
              <a:ext cx="3201840" cy="236160"/>
            </a:xfrm>
            <a:prstGeom prst="rect">
              <a:avLst/>
            </a:prstGeom>
            <a:solidFill>
              <a:srgbClr val="0b33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rebuchet MS"/>
                </a:rPr>
                <a:t>INIZIATI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88080" y="4744800"/>
              <a:ext cx="2274840" cy="372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10000" y="4744800"/>
              <a:ext cx="2278080" cy="372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Servizi al territor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208160" y="4744800"/>
              <a:ext cx="3201840" cy="372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Catasto strad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688080" y="5118120"/>
              <a:ext cx="2274840" cy="4251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10000" y="5118120"/>
              <a:ext cx="2278080" cy="4251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Servizi agli immobil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208160" y="5118120"/>
              <a:ext cx="3201840" cy="4251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87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Gestione integrata della sicurezza 62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88080" y="5543640"/>
              <a:ext cx="2274840" cy="350280"/>
            </a:xfrm>
            <a:prstGeom prst="rect">
              <a:avLst/>
            </a:prstGeom>
            <a:solidFill>
              <a:srgbClr val="e7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65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410000" y="5543640"/>
              <a:ext cx="2278080" cy="350280"/>
            </a:xfrm>
            <a:prstGeom prst="rect">
              <a:avLst/>
            </a:prstGeom>
            <a:solidFill>
              <a:srgbClr val="e7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Servizi agli immobil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08160" y="5543640"/>
              <a:ext cx="3201840" cy="350280"/>
            </a:xfrm>
            <a:prstGeom prst="rect">
              <a:avLst/>
            </a:prstGeom>
            <a:solidFill>
              <a:srgbClr val="e7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87000"/>
            </a:bodyPr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Facility Management Uffic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00"/>
                </a:spcBef>
                <a:buClr>
                  <a:srgbClr val="000000"/>
                </a:buClr>
                <a:buFont typeface="Trebuchet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Assistenza ai Contratti di F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410000" y="4508640"/>
              <a:ext cx="0" cy="13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688080" y="4508640"/>
              <a:ext cx="0" cy="138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208160" y="5543640"/>
              <a:ext cx="775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208160" y="5118120"/>
              <a:ext cx="775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208160" y="4508640"/>
              <a:ext cx="7754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208160" y="4508640"/>
              <a:ext cx="0" cy="1385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975880" y="4508640"/>
              <a:ext cx="0" cy="1385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208160" y="4744800"/>
              <a:ext cx="7754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08160" y="5902200"/>
              <a:ext cx="777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DE14F-8E71-4198-AC0D-AC76DAD083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LAVORI%20IN%20CORSO:Consip:flash02" descr=""/>
          <p:cNvPicPr/>
          <p:nvPr/>
        </p:nvPicPr>
        <p:blipFill>
          <a:blip r:embed="rId1"/>
          <a:srcRect l="754" t="0" r="1118" b="10984"/>
          <a:stretch/>
        </p:blipFill>
        <p:spPr>
          <a:xfrm>
            <a:off x="0" y="5300640"/>
            <a:ext cx="9906120" cy="15238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8883720" y="2354400"/>
            <a:ext cx="1325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Area TL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1065240" y="1816200"/>
            <a:ext cx="7759800" cy="3023640"/>
            <a:chOff x="1065240" y="1816200"/>
            <a:chExt cx="7759800" cy="3023640"/>
          </a:xfrm>
        </p:grpSpPr>
        <p:sp>
          <p:nvSpPr>
            <p:cNvPr id="325" name=""/>
            <p:cNvSpPr/>
            <p:nvPr/>
          </p:nvSpPr>
          <p:spPr>
            <a:xfrm>
              <a:off x="1163520" y="2388240"/>
              <a:ext cx="7489800" cy="2574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540480" y="2486880"/>
              <a:ext cx="2284560" cy="4392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352760" y="2486880"/>
              <a:ext cx="2187720" cy="4392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90000"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Apparati e servizi di telefonia e trasmissione dat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065240" y="2486880"/>
              <a:ext cx="3287520" cy="4392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rebuchet MS"/>
                </a:rPr>
                <a:t>Servizio di trasmissione dati via satelli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540480" y="1816200"/>
              <a:ext cx="2284560" cy="339120"/>
            </a:xfrm>
            <a:prstGeom prst="rect">
              <a:avLst/>
            </a:prstGeom>
            <a:solidFill>
              <a:srgbClr val="0b337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STA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352760" y="1816200"/>
              <a:ext cx="2187720" cy="339120"/>
            </a:xfrm>
            <a:prstGeom prst="rect">
              <a:avLst/>
            </a:prstGeom>
            <a:solidFill>
              <a:srgbClr val="0b337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96000"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CATEGORIA MERCEOLOG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065240" y="1816200"/>
              <a:ext cx="3287520" cy="339120"/>
            </a:xfrm>
            <a:prstGeom prst="rect">
              <a:avLst/>
            </a:prstGeom>
            <a:solidFill>
              <a:srgbClr val="0b337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INIZIATIV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540480" y="2926080"/>
              <a:ext cx="2284560" cy="4363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352760" y="2926080"/>
              <a:ext cx="2187720" cy="4363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Apparati e servizi di telefonia e trasmissione dat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065240" y="2926080"/>
              <a:ext cx="3287520" cy="4363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Reti Locali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40480" y="3362760"/>
              <a:ext cx="2284560" cy="43704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352760" y="3362760"/>
              <a:ext cx="2187720" cy="43704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Apparati e servizi di telefonia e trasmissione dat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65240" y="3362760"/>
              <a:ext cx="3287520" cy="43704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Centrali telefoniche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540480" y="4234680"/>
              <a:ext cx="2284560" cy="6051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 Mob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In attivazione central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352760" y="4234680"/>
              <a:ext cx="2187720" cy="6051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065240" y="3790440"/>
              <a:ext cx="3287520" cy="44640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Telefonia fissa e trasporto dat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540480" y="3800160"/>
              <a:ext cx="2284560" cy="4345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352760" y="3800160"/>
              <a:ext cx="2187720" cy="43452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Apparati e servizi di telefonia e trasmissione dat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065240" y="4237200"/>
              <a:ext cx="3286080" cy="60228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540480" y="2155320"/>
              <a:ext cx="2284560" cy="3315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352760" y="2155320"/>
              <a:ext cx="2187720" cy="3315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Apparati e servizi di telefonia e trasmissione dat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065240" y="2155320"/>
              <a:ext cx="3287520" cy="331560"/>
            </a:xfrm>
            <a:prstGeom prst="rect">
              <a:avLst/>
            </a:prstGeom>
            <a:solidFill>
              <a:srgbClr val="eaeae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Telefonia mobile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065240" y="1816200"/>
              <a:ext cx="7759800" cy="25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65240" y="3362760"/>
              <a:ext cx="7759800" cy="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85154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Le iniziative del 2008 (2/6)</a:t>
            </a:r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1208880" y="4287960"/>
            <a:ext cx="222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lefonia mobile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ntrali Telefoniche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379400" y="4216320"/>
            <a:ext cx="193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arati e servizi di telefonia 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smissione da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C8939-AB40-4888-883B-BA15970156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LAVORI%20IN%20CORSO:Consip:flash03" descr=""/>
          <p:cNvPicPr/>
          <p:nvPr/>
        </p:nvPicPr>
        <p:blipFill>
          <a:blip r:embed="rId1">
            <a:lum contrast="6000"/>
          </a:blip>
          <a:srcRect l="1879" t="0" r="44696" b="24200"/>
          <a:stretch/>
        </p:blipFill>
        <p:spPr>
          <a:xfrm>
            <a:off x="0" y="5105520"/>
            <a:ext cx="6705720" cy="174924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8655120" y="1700280"/>
            <a:ext cx="1628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Area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1130400" y="1471680"/>
            <a:ext cx="7456320" cy="3960720"/>
            <a:chOff x="1130400" y="1471680"/>
            <a:chExt cx="7456320" cy="3960720"/>
          </a:xfrm>
        </p:grpSpPr>
        <p:sp>
          <p:nvSpPr>
            <p:cNvPr id="355" name=""/>
            <p:cNvSpPr/>
            <p:nvPr/>
          </p:nvSpPr>
          <p:spPr>
            <a:xfrm>
              <a:off x="6394320" y="4741920"/>
              <a:ext cx="2190960" cy="344520"/>
            </a:xfrm>
            <a:prstGeom prst="rect">
              <a:avLst/>
            </a:prstGeom>
            <a:solidFill>
              <a:srgbClr val="e7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84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In fase di Attivazi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99040" y="4741920"/>
              <a:ext cx="2195280" cy="344520"/>
            </a:xfrm>
            <a:prstGeom prst="rect">
              <a:avLst/>
            </a:prstGeom>
            <a:solidFill>
              <a:srgbClr val="e7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30400" y="4741920"/>
              <a:ext cx="3068640" cy="344520"/>
            </a:xfrm>
            <a:prstGeom prst="rect">
              <a:avLst/>
            </a:prstGeom>
            <a:solidFill>
              <a:srgbClr val="e7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Carburanti extra rete 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394320" y="4398840"/>
              <a:ext cx="2190960" cy="3430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99040" y="4398840"/>
              <a:ext cx="2195280" cy="3430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Servizi al territor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130400" y="4398840"/>
              <a:ext cx="3068640" cy="3430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Servizio lu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394320" y="5086440"/>
              <a:ext cx="2190960" cy="342720"/>
            </a:xfrm>
            <a:prstGeom prst="rect">
              <a:avLst/>
            </a:prstGeom>
            <a:solidFill>
              <a:srgbClr val="e7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84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In fase di Attivazi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99040" y="5086440"/>
              <a:ext cx="2195280" cy="342720"/>
            </a:xfrm>
            <a:prstGeom prst="rect">
              <a:avLst/>
            </a:prstGeom>
            <a:solidFill>
              <a:srgbClr val="e7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130400" y="5086440"/>
              <a:ext cx="3068640" cy="342720"/>
            </a:xfrm>
            <a:prstGeom prst="rect">
              <a:avLst/>
            </a:prstGeom>
            <a:solidFill>
              <a:srgbClr val="e7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Gasolio da riscaldamento 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394320" y="1816200"/>
              <a:ext cx="2190960" cy="379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99040" y="1816200"/>
              <a:ext cx="2195280" cy="379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Carburanti, combustibili e lubrifican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130400" y="1816200"/>
              <a:ext cx="3068640" cy="379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Biodiesel da riscaldamento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394320" y="1471680"/>
              <a:ext cx="2190960" cy="344520"/>
            </a:xfrm>
            <a:prstGeom prst="rect">
              <a:avLst/>
            </a:prstGeom>
            <a:solidFill>
              <a:srgbClr val="0b33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STA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99040" y="1471680"/>
              <a:ext cx="2195280" cy="344520"/>
            </a:xfrm>
            <a:prstGeom prst="rect">
              <a:avLst/>
            </a:prstGeom>
            <a:solidFill>
              <a:srgbClr val="0b33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95000"/>
            </a:bodyPr>
            <a:p>
              <a:pPr algn="ct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rebuchet MS"/>
                </a:rPr>
                <a:t>CATEGORIA MERCEOLOG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130400" y="1471680"/>
              <a:ext cx="3068640" cy="344520"/>
            </a:xfrm>
            <a:prstGeom prst="rect">
              <a:avLst/>
            </a:prstGeom>
            <a:solidFill>
              <a:srgbClr val="0b33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INIZIATIV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94320" y="3321000"/>
              <a:ext cx="2190960" cy="349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99040" y="3321000"/>
              <a:ext cx="2195280" cy="349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95000"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Energia elettrica e gas natura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130400" y="3321000"/>
              <a:ext cx="3068640" cy="3492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Energia elettrica 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394320" y="4024440"/>
              <a:ext cx="2190960" cy="3744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87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In fase di Attivazi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99040" y="4024440"/>
              <a:ext cx="2195280" cy="3744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Carburanti, combustibili e lubrifican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130400" y="4024440"/>
              <a:ext cx="3068640" cy="3744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Gasolio da riscaldamento 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94320" y="3670200"/>
              <a:ext cx="2190960" cy="3542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199040" y="3670200"/>
              <a:ext cx="2195280" cy="3542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130400" y="3670200"/>
              <a:ext cx="3068640" cy="3542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Servizio Integrato Energ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394320" y="2949480"/>
              <a:ext cx="2190960" cy="371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199040" y="2949480"/>
              <a:ext cx="2195280" cy="371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Carburanti, combustibili e lubrifican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130400" y="2949480"/>
              <a:ext cx="3068640" cy="371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Gasolio da riscaldamento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394320" y="2576520"/>
              <a:ext cx="2190960" cy="372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199040" y="2576520"/>
              <a:ext cx="2195280" cy="372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Carburanti, combustibili e lubrifican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30400" y="2576520"/>
              <a:ext cx="3068640" cy="37296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rebuchet MS"/>
                </a:rPr>
                <a:t>Carburanti rete – buoni acquisto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394320" y="2195640"/>
              <a:ext cx="2190960" cy="380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99040" y="2195640"/>
              <a:ext cx="2195280" cy="380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Carburanti, combustibili e lubrifican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130400" y="2195640"/>
              <a:ext cx="3068640" cy="38088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Carburanti extra rete 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130400" y="1471680"/>
              <a:ext cx="7454880" cy="3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30400" y="2576520"/>
              <a:ext cx="74548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30400" y="2949480"/>
              <a:ext cx="7454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30400" y="3321000"/>
              <a:ext cx="74548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30400" y="4024440"/>
              <a:ext cx="7454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30400" y="4398840"/>
              <a:ext cx="7454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400" y="5429160"/>
              <a:ext cx="7454880" cy="32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199040" y="1471680"/>
              <a:ext cx="1440" cy="395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394320" y="1471680"/>
              <a:ext cx="1800" cy="395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130400" y="3670200"/>
              <a:ext cx="74548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130400" y="1471680"/>
              <a:ext cx="1440" cy="3957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585280" y="1471680"/>
              <a:ext cx="1440" cy="395748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130400" y="1816200"/>
              <a:ext cx="7454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30400" y="2195640"/>
              <a:ext cx="7454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130400" y="4741920"/>
              <a:ext cx="7454880" cy="3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130400" y="5086440"/>
              <a:ext cx="7454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87280" y="764640"/>
            <a:ext cx="851544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Le iniziative del 2008 (3/6)</a:t>
            </a:r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405" name=""/>
          <p:cNvSpPr/>
          <p:nvPr/>
        </p:nvSpPr>
        <p:spPr>
          <a:xfrm>
            <a:off x="4232160" y="4653000"/>
            <a:ext cx="237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uranti, combustibili e lubrifica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160880" y="5013360"/>
            <a:ext cx="251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uranti, combustibili e lubrifica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160880" y="3716280"/>
            <a:ext cx="2232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ergia elettrica e gas natur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83A9D-40BE-4E96-A9C9-C83AB344082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LAVORI%20IN%20CORSO:Consip:flash01" descr=""/>
          <p:cNvPicPr/>
          <p:nvPr/>
        </p:nvPicPr>
        <p:blipFill>
          <a:blip r:embed="rId1"/>
          <a:srcRect l="1493" t="0" r="1493" b="0"/>
          <a:stretch/>
        </p:blipFill>
        <p:spPr>
          <a:xfrm>
            <a:off x="0" y="5462640"/>
            <a:ext cx="9906120" cy="13953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8840880" y="2001960"/>
            <a:ext cx="1008000" cy="11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Area Ben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e Servizi</a:t>
            </a: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992160" y="1484280"/>
            <a:ext cx="7640640" cy="4203360"/>
            <a:chOff x="992160" y="1484280"/>
            <a:chExt cx="7640640" cy="4203360"/>
          </a:xfrm>
        </p:grpSpPr>
        <p:sp>
          <p:nvSpPr>
            <p:cNvPr id="411" name=""/>
            <p:cNvSpPr/>
            <p:nvPr/>
          </p:nvSpPr>
          <p:spPr>
            <a:xfrm>
              <a:off x="6561000" y="3341520"/>
              <a:ext cx="2071800" cy="41724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47960" y="3341520"/>
              <a:ext cx="1913040" cy="41724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77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Servizi per l’I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992160" y="3341520"/>
              <a:ext cx="3655800" cy="41724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Ottimizzazione di beni e servizi TLC e supporto specialist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61000" y="5319720"/>
              <a:ext cx="2071800" cy="36792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647960" y="5319720"/>
              <a:ext cx="1913040" cy="36792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Indumenti ed accessor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992160" y="5319720"/>
              <a:ext cx="3655800" cy="36792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Dispositivi di protezione individuale e accessor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561000" y="2925720"/>
              <a:ext cx="2071800" cy="41544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647960" y="2925720"/>
              <a:ext cx="1913040" cy="41544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rebuchet MS"/>
                </a:rPr>
                <a:t>Macchine, apparecchiature tecnico sanitari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992160" y="2925720"/>
              <a:ext cx="3655800" cy="41544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ntisettici e disinfettant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561000" y="1484280"/>
              <a:ext cx="2071800" cy="311760"/>
            </a:xfrm>
            <a:prstGeom prst="rect">
              <a:avLst/>
            </a:prstGeom>
            <a:solidFill>
              <a:srgbClr val="0b337b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STA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647960" y="1484280"/>
              <a:ext cx="1913040" cy="311760"/>
            </a:xfrm>
            <a:prstGeom prst="rect">
              <a:avLst/>
            </a:prstGeom>
            <a:solidFill>
              <a:srgbClr val="0b337b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rebuchet MS"/>
                </a:rPr>
                <a:t>CATEGORIA MERCEOLOGIC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92160" y="1484280"/>
              <a:ext cx="3655800" cy="311760"/>
            </a:xfrm>
            <a:prstGeom prst="rect">
              <a:avLst/>
            </a:prstGeom>
            <a:solidFill>
              <a:srgbClr val="0b337b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rebuchet MS"/>
                </a:rPr>
                <a:t>INIZIATIV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561000" y="4590360"/>
              <a:ext cx="2071800" cy="36468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647960" y="4590360"/>
              <a:ext cx="1913040" cy="36468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76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rebuchet MS"/>
                </a:rPr>
                <a:t>Alimenti e ristorazi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992160" y="4590360"/>
              <a:ext cx="3655800" cy="36468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Prodotti ortofrutticoli freschi</a:t>
              </a: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561000" y="4955040"/>
              <a:ext cx="2071800" cy="36432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647960" y="4955040"/>
              <a:ext cx="1913040" cy="36432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88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rebuchet MS"/>
                </a:rPr>
                <a:t>Alimenti e ristorazi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992160" y="4955040"/>
              <a:ext cx="3655800" cy="36432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Derrate alimentari 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561000" y="1796040"/>
              <a:ext cx="2071800" cy="39996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647960" y="1796040"/>
              <a:ext cx="1913040" cy="39996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Servizi assicurativi e finanziar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992160" y="1796040"/>
              <a:ext cx="3655800" cy="39996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ssicurazioni RC dirigent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561000" y="2196360"/>
              <a:ext cx="2071800" cy="41760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647960" y="2196360"/>
              <a:ext cx="1913040" cy="41760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softwa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992160" y="2196360"/>
              <a:ext cx="3655800" cy="41760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Microsoft 7</a:t>
              </a: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561000" y="4174560"/>
              <a:ext cx="2071800" cy="41544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647960" y="4174560"/>
              <a:ext cx="1913040" cy="41544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Servizi assicurativi e finanziar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992160" y="4174560"/>
              <a:ext cx="3655800" cy="41544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Carte di credi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561000" y="3758760"/>
              <a:ext cx="2071800" cy="41544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647960" y="3758760"/>
              <a:ext cx="1913040" cy="41544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rebuchet MS"/>
                </a:rPr>
                <a:t>Indumenti ed accessor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992160" y="3758760"/>
              <a:ext cx="3655800" cy="41544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Calzature da lavor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61000" y="2613960"/>
              <a:ext cx="2071800" cy="31176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Attiva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647960" y="2613960"/>
              <a:ext cx="1913040" cy="31176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Servizi per l’I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992160" y="2613960"/>
              <a:ext cx="3655800" cy="311760"/>
            </a:xfrm>
            <a:prstGeom prst="rect">
              <a:avLst/>
            </a:prstGeom>
            <a:solidFill>
              <a:srgbClr val="eaeaea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rmAutofit fontScale="58000"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Soluzioni e servizi di Contact Center</a:t>
              </a: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992160" y="292572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992160" y="417456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992160" y="459036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647960" y="1484280"/>
              <a:ext cx="0" cy="1441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561000" y="1484280"/>
              <a:ext cx="0" cy="1441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992160" y="261396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992160" y="219636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992160" y="531972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992160" y="495504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992160" y="148428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92160" y="334152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992160" y="2925720"/>
              <a:ext cx="0" cy="8330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992160" y="1484280"/>
              <a:ext cx="0" cy="1441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647960" y="2925720"/>
              <a:ext cx="0" cy="8330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561000" y="2925720"/>
              <a:ext cx="0" cy="8330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632800" y="2925720"/>
              <a:ext cx="0" cy="8330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632800" y="1484280"/>
              <a:ext cx="0" cy="144144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992160" y="5319720"/>
              <a:ext cx="0" cy="3679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647960" y="5319720"/>
              <a:ext cx="0" cy="3679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561000" y="5319720"/>
              <a:ext cx="0" cy="3679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632800" y="5319720"/>
              <a:ext cx="0" cy="36792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92160" y="3758760"/>
              <a:ext cx="764064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992160" y="3758760"/>
              <a:ext cx="0" cy="15606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647960" y="3758760"/>
              <a:ext cx="0" cy="15606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561000" y="3758760"/>
              <a:ext cx="0" cy="15606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632800" y="3758760"/>
              <a:ext cx="0" cy="15606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108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87280" y="816120"/>
            <a:ext cx="85154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rebuchet MS"/>
              </a:rPr>
              <a:t>Le iniziative del 2008 (4/6)</a:t>
            </a:r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C8935-94E1-4350-AB46-7F860BCABF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1:20:28Z</dcterms:created>
  <dc:creator>mnd</dc:creator>
  <dc:description/>
  <dc:language>en-US</dc:language>
  <cp:lastModifiedBy>isabella.rapisarda</cp:lastModifiedBy>
  <cp:lastPrinted>2006-09-12T16:34:06Z</cp:lastPrinted>
  <dcterms:modified xsi:type="dcterms:W3CDTF">2008-06-26T08:07:01Z</dcterms:modified>
  <cp:revision>431</cp:revision>
  <dc:subject/>
  <dc:title>Il mercato elettronico della P.A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190477332</vt:r8>
  </property>
  <property fmtid="{D5CDD505-2E9C-101B-9397-08002B2CF9AE}" pid="3" name="_AuthorEmail">
    <vt:lpwstr>anna.vidoni@tesoro.it</vt:lpwstr>
  </property>
  <property fmtid="{D5CDD505-2E9C-101B-9397-08002B2CF9AE}" pid="4" name="_AuthorEmailDisplayName">
    <vt:lpwstr>Anna Vidoni</vt:lpwstr>
  </property>
  <property fmtid="{D5CDD505-2E9C-101B-9397-08002B2CF9AE}" pid="5" name="_EmailSubject">
    <vt:lpwstr>ppt nuovi strumenti</vt:lpwstr>
  </property>
  <property fmtid="{D5CDD505-2E9C-101B-9397-08002B2CF9AE}" pid="6" name="_ReviewingToolsShownOnce">
    <vt:lpwstr/>
  </property>
</Properties>
</file>