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move the slide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C790-5DEA-40E8-BD47-CAD7BF18A31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883A-8422-4DDB-947E-5BFA7BA549C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645F-BF77-4FE9-BCEF-3171E4ED217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085-604E-43C4-8B19-1B35AEEF62B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28F4-099C-46F7-9CA4-DF71D727CC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55800" y="685800"/>
            <a:ext cx="4948200" cy="34275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7951-7A42-4B41-A17D-651BE459C1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27160" y="793800"/>
            <a:ext cx="4632120" cy="320832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09720" y="4351320"/>
            <a:ext cx="503856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Marlett"/>
              <a:ea typeface="Marlet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48C2-4B11-40BD-BFAA-20F07E0E07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218BD-68AF-42C6-8778-73565D7B0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D810-F0FA-4D85-958E-F41B34A59C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20B2-43A1-4EAB-8E84-9B86F68F8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7B10B-B328-4A1F-9A19-CCBE37CC3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DFACC2-B086-4E95-A627-C3AD7F442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FA164-3BE1-4310-BFEF-5303F01B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E6522-878D-4DDD-B2E4-9C9A9A10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405A5-2B15-4143-8512-16E3A856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0969A-1C9D-4151-B901-98A4FBD0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A561-11FC-4BE1-A910-ECD34F4880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848B18-2504-423A-A89A-8604DE04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5E3215-2BE2-4B79-B96A-7C01703A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CD635-AFFC-4584-B186-C1B299B9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BF1E-26A5-4050-A933-389726C6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DB5898-E4FB-4E22-BC38-149F8EDB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6F9448-CA62-4ADF-9552-C7490695F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1220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743880" y="155700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280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01220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743880" y="3785760"/>
            <a:ext cx="260100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04442-3176-439C-B892-EB057A09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F2AC8-B3C3-4510-A8F0-3B1FE6720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9DFCB-B83D-45B3-AB97-16E8BC4B6D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44880" y="260280"/>
            <a:ext cx="80769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9DA2F-0D6F-4CDD-B7C2-A66DADF002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755C-01F4-42AF-AD35-CAE00E423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0880" y="378576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8C15-19B4-48CC-B2C4-0E69C23D7A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0880" y="1557000"/>
            <a:ext cx="3942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80880" y="3785760"/>
            <a:ext cx="80787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6656-2307-4A3D-8752-51D3A53D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82680" y="6324120"/>
            <a:ext cx="614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b337b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A0FE-0015-4E6B-8984-69A1CBC1309B}" type="slidenum">
              <a:rPr b="0" lang="en-US" sz="1200" spc="-1" strike="noStrike">
                <a:solidFill>
                  <a:srgbClr val="0b337b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AVORI%20IN%20CORSO:Consip:PPT:17_11_06:mef%203%20righe" descr=""/>
          <p:cNvPicPr/>
          <p:nvPr/>
        </p:nvPicPr>
        <p:blipFill>
          <a:blip r:embed="rId2"/>
          <a:stretch/>
        </p:blipFill>
        <p:spPr>
          <a:xfrm>
            <a:off x="7848720" y="193680"/>
            <a:ext cx="1676160" cy="5684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344520" y="260280"/>
            <a:ext cx="1752480" cy="550800"/>
          </a:xfrm>
          <a:prstGeom prst="rect">
            <a:avLst/>
          </a:prstGeom>
          <a:ln w="0">
            <a:noFill/>
          </a:ln>
        </p:spPr>
      </p:pic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LAVORI%20IN%20CORSO:Consip:PPT:cover" descr=""/>
          <p:cNvPicPr/>
          <p:nvPr/>
        </p:nvPicPr>
        <p:blipFill>
          <a:blip r:embed="rId2"/>
          <a:srcRect l="0" t="2943" r="0" b="2900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160" y="2438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b337b"/>
                </a:solidFill>
                <a:latin typeface="Trebuchet MS"/>
              </a:rPr>
              <a:t>Click to edit the title text format</a:t>
            </a:r>
            <a:endParaRPr b="0" lang="en-US" sz="1600" spc="-1" strike="noStrike">
              <a:solidFill>
                <a:srgbClr val="0b337b"/>
              </a:solidFill>
              <a:latin typeface="Trebuchet MS"/>
            </a:endParaRPr>
          </a:p>
        </p:txBody>
      </p:sp>
      <p:pic>
        <p:nvPicPr>
          <p:cNvPr id="44" name="LAVORI%20IN%20CORSO:Consip:PPT:17_11_06:mef%203%20righe" descr=""/>
          <p:cNvPicPr/>
          <p:nvPr/>
        </p:nvPicPr>
        <p:blipFill>
          <a:blip r:embed="rId3"/>
          <a:stretch/>
        </p:blipFill>
        <p:spPr>
          <a:xfrm>
            <a:off x="609480" y="317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415800" y="6165720"/>
            <a:ext cx="1752840" cy="55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212840" y="5632560"/>
            <a:ext cx="24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Firenze, 26 giugno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rebuchet MS"/>
              </a:rPr>
              <a:t>Click to edit the title text format</a:t>
            </a:r>
            <a:endParaRPr b="0" lang="en-US" sz="20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Click to edit the outline text format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1" marL="743040" indent="-28584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con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2" marL="1143000" indent="-228600">
              <a:spcBef>
                <a:spcPts val="3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Third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3" marL="1600200" indent="-228600"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our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4" marL="2057400" indent="-228600">
              <a:spcBef>
                <a:spcPts val="34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Fif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x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eventh Outline Level</a:t>
            </a:r>
            <a:endParaRPr b="0" lang="en-US" sz="1400" spc="-1" strike="noStrike">
              <a:solidFill>
                <a:srgbClr val="333399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2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9DCE-D7DC-4895-A261-CB52CF0644E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3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4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D74D3-EB7A-4D8B-BA2C-5A5161A5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006_1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50_1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9_1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42_1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49_1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082_1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018_1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56_1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144_1?firsttab=convenzioni&amp;secondtab=vetrina_convenzioni" TargetMode="External"/><Relationship Id="rId12" Type="http://schemas.openxmlformats.org/officeDocument/2006/relationships/hyperlink" Target="http://www.acquistinretepa.it/pls/portal/url/page/pg_consip/convenzioni/vetrina_convenzioni/1187_1?firsttab=convenzioni&amp;secondtab=vetrina_convenzioni" TargetMode="External"/><Relationship Id="rId13" Type="http://schemas.openxmlformats.org/officeDocument/2006/relationships/hyperlink" Target="http://www.acquistinretepa.it/pls/portal/url/page/pg_consip/convenzioni/vetrina_convenzioni/1077_1?firsttab=convenzioni&amp;secondtab=vetrina_convenzioni" TargetMode="External"/><Relationship Id="rId14" Type="http://schemas.openxmlformats.org/officeDocument/2006/relationships/hyperlink" Target="http://www.acquistinretepa.it/pls/portal/url/page/pg_consip/convenzioni/vetrina_convenzioni/1161_1?firsttab=convenzioni&amp;secondtab=vetrina_convenzioni" TargetMode="External"/><Relationship Id="rId15" Type="http://schemas.openxmlformats.org/officeDocument/2006/relationships/hyperlink" Target="http://www.acquistinretepa.it/pls/portal/url/page/pg_consip/convenzioni/vetrina_convenzioni/1116_1?firsttab=convenzioni&amp;secondtab=vetrina_convenzioni" TargetMode="External"/><Relationship Id="rId16" Type="http://schemas.openxmlformats.org/officeDocument/2006/relationships/hyperlink" Target="http://www.acquistinretepa.it/pls/portal/url/page/pg_consip/convenzioni/vetrina_convenzioni/1120_1?firsttab=convenzioni&amp;secondtab=vetrina_convenzioni" TargetMode="External"/><Relationship Id="rId17" Type="http://schemas.openxmlformats.org/officeDocument/2006/relationships/hyperlink" Target="http://www.acquistinretepa.it/pls/portal/url/page/pg_consip/convenzioni/vetrina_convenzioni/1117_1?firsttab=convenzioni&amp;secondtab=vetrina_convenzioni" TargetMode="External"/><Relationship Id="rId18" Type="http://schemas.openxmlformats.org/officeDocument/2006/relationships/hyperlink" Target="http://www.acquistinretepa.it/pls/portal/url/page/pg_consip/convenzioni/vetrina_convenzioni/1114_1?firsttab=convenzioni&amp;secondtab=vetrina_convenzioni" TargetMode="External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www.acquistinretepa.it/pls/portal/url/page/pg_consip/convenzioni/vetrina_convenzioni/1157_4?firsttab=convenzioni&amp;secondtab=vetrina_convenzioni" TargetMode="External"/><Relationship Id="rId4" Type="http://schemas.openxmlformats.org/officeDocument/2006/relationships/hyperlink" Target="http://www.acquistinretepa.it/pls/portal/url/page/pg_consip/convenzioni/vetrina_convenzioni/1167_4?firsttab=convenzioni&amp;secondtab=vetrina_convenzioni" TargetMode="External"/><Relationship Id="rId5" Type="http://schemas.openxmlformats.org/officeDocument/2006/relationships/hyperlink" Target="http://www.acquistinretepa.it/pls/portal/url/page/pg_consip/convenzioni/vetrina_convenzioni/1182_3?firsttab=convenzioni&amp;secondtab=vetrina_convenzioni" TargetMode="External"/><Relationship Id="rId6" Type="http://schemas.openxmlformats.org/officeDocument/2006/relationships/hyperlink" Target="http://www.acquistinretepa.it/pls/portal/url/page/pg_consip/convenzioni/vetrina_convenzioni/1169_3?firsttab=convenzioni&amp;secondtab=vetrina_convenzioni" TargetMode="External"/><Relationship Id="rId7" Type="http://schemas.openxmlformats.org/officeDocument/2006/relationships/hyperlink" Target="http://www.acquistinretepa.it/pls/portal/url/page/pg_consip/convenzioni/vetrina_convenzioni/1177_3?firsttab=convenzioni&amp;secondtab=vetrina_convenzioni" TargetMode="External"/><Relationship Id="rId8" Type="http://schemas.openxmlformats.org/officeDocument/2006/relationships/hyperlink" Target="http://www.acquistinretepa.it/pls/portal/url/page/pg_consip/convenzioni/vetrina_convenzioni/1178_3?firsttab=convenzioni&amp;secondtab=vetrina_convenzioni" TargetMode="External"/><Relationship Id="rId9" Type="http://schemas.openxmlformats.org/officeDocument/2006/relationships/hyperlink" Target="http://www.acquistinretepa.it/pls/portal/url/page/pg_consip/convenzioni/vetrina_convenzioni/1197_3?firsttab=convenzioni&amp;secondtab=vetrina_convenzioni" TargetMode="External"/><Relationship Id="rId10" Type="http://schemas.openxmlformats.org/officeDocument/2006/relationships/hyperlink" Target="http://www.acquistinretepa.it/pls/portal/url/page/pg_consip/convenzioni/vetrina_convenzioni/1168_4?firsttab=convenzioni&amp;secondtab=vetrina_convenzioni" TargetMode="External"/><Relationship Id="rId11" Type="http://schemas.openxmlformats.org/officeDocument/2006/relationships/hyperlink" Target="http://www.acquistinretepa.it/pls/portal/url/page/pg_consip/convenzioni/vetrina_convenzioni/1200_3?firsttab=convenzioni&amp;secondtab=vetrina_convenzioni" TargetMode="Externa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971640" y="2060640"/>
            <a:ext cx="801360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Trebuchet MS"/>
                <a:ea typeface="Arial"/>
              </a:rPr>
              <a:t>Programma per la Razionalizzazione degli Acquisti nella Pubblica Amministr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97080" y="3500280"/>
            <a:ext cx="732780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e Iniziative Verdi di Consip per la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Trebuchet MS"/>
                <a:ea typeface="Arial"/>
              </a:rPr>
              <a:t>Lidia Cappare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08160" y="65844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Prospetto sintetico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749600" y="1557360"/>
          <a:ext cx="7140240" cy="426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557360"/>
                    <a:ext cx="714024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5E96-3A0D-43A0-A04E-B009321E56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Piano di progetto 2008 - 2010</a:t>
            </a:r>
            <a:endParaRPr b="0" lang="en-US" sz="24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accolta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Condivisione analisi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Individuazione Strategi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Definizione targe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Formazione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Execu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Monitoraggi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99"/>
                </a:solidFill>
                <a:latin typeface="Trebuchet MS"/>
              </a:rPr>
              <a:t>Ridefinizione target triennio</a:t>
            </a:r>
            <a:r>
              <a:rPr b="0" lang="it-IT" sz="28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18AD-7300-43FC-93C5-F9CA7E2F66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44880" y="515520"/>
            <a:ext cx="807696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Possibili ambiti di approfondimento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80880" y="836280"/>
            <a:ext cx="807876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Approccio alla sostenibilità negli appalti pubblici (introduzione di clausole sociali negli appalti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all’implementazione di un Piano Nazionale di Azione sul GPP per gli Enti Locali attraverso la metodologia sperimentata per il Comune di Roma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Supporto consulenziale, formazione e promozione congiunta sugli strumenti di acquisto e sul Sistema di acquisti “verdi” messi a disposizione da Consip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34353-E033-4749-AB08-2D5D9D5B83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44880" y="26028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b337b"/>
                </a:solidFill>
                <a:latin typeface="Trebuchet MS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Trebuchet MS"/>
              </a:rPr>
              <a:t>Conclusioni</a:t>
            </a:r>
            <a:endParaRPr b="0" lang="en-US" sz="32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80880" y="1557000"/>
            <a:ext cx="8078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 sistema complesso ed integrato con la totalità dei processi di approvvigionamento 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a definizione di una strategia di approccio non può prescindere dalla conoscenza delle esigenze dell’ent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L’implementazione del sistema deve essere accompagnato da strumenti di Change Manag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Il GPP è uno strumento di razionalizzazione della spesa (predisposizione Carbon Footprint entro Luglio 2008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B5B4-7E11-42CE-8CBE-7531AE6CFF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3412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76160" y="915840"/>
            <a:ext cx="88567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rebuchet MS"/>
              </a:rPr>
              <a:t>Sin dall’inizio della sua attività Consip ha attuato un approccio globale al Green Procurement individuando, come illustrato nello schema seguente, gli ambiti di intervento, gli eco - obiettivi da conseguire e le leve per perseguir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76160" y="1903320"/>
            <a:ext cx="8540640" cy="4838760"/>
            <a:chOff x="776160" y="1903320"/>
            <a:chExt cx="8540640" cy="4838760"/>
          </a:xfrm>
        </p:grpSpPr>
        <p:grpSp>
          <p:nvGrpSpPr>
            <p:cNvPr id="137" name=""/>
            <p:cNvGrpSpPr/>
            <p:nvPr/>
          </p:nvGrpSpPr>
          <p:grpSpPr>
            <a:xfrm>
              <a:off x="810360" y="2000520"/>
              <a:ext cx="8401320" cy="4726080"/>
              <a:chOff x="810360" y="2000520"/>
              <a:chExt cx="8401320" cy="4726080"/>
            </a:xfrm>
          </p:grpSpPr>
          <p:sp>
            <p:nvSpPr>
              <p:cNvPr id="138" name=""/>
              <p:cNvSpPr/>
              <p:nvPr/>
            </p:nvSpPr>
            <p:spPr>
              <a:xfrm>
                <a:off x="810360" y="2000520"/>
                <a:ext cx="23439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Ambi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334680" y="2000520"/>
                <a:ext cx="290484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Trebuchet MS"/>
                  </a:rPr>
                  <a:t>Eco-obietti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58320" y="2000520"/>
                <a:ext cx="2853360" cy="2386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Trebuchet MS"/>
                  </a:rPr>
                  <a:t>Lev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23680" y="2289240"/>
                <a:ext cx="216036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sparmio nell’uso delle risorse e dell’Energi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300480" y="2289240"/>
                <a:ext cx="299772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ntribuire a generare risparm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fonti rinnovabil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so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43200" y="2287800"/>
                <a:ext cx="2868480" cy="110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Contratti per monitorare i consumi/domanda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Auto-produzione/acquisto di energia da risorse rinnovabil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Fornitura di combustibil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811800" y="2239200"/>
                <a:ext cx="8399520" cy="1203120"/>
                <a:chOff x="811800" y="2239200"/>
                <a:chExt cx="8399520" cy="12031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323172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300000" y="2239200"/>
                  <a:ext cx="0" cy="11991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11800" y="344232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291840" y="344232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60120" y="344232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810360" y="3492720"/>
                <a:ext cx="8399520" cy="1289520"/>
                <a:chOff x="810360" y="3492720"/>
                <a:chExt cx="8399520" cy="12895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23028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298560" y="3492720"/>
                  <a:ext cx="0" cy="1285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10360" y="47822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290400" y="47822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358680" y="47822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823680" y="3456000"/>
                <a:ext cx="2297520" cy="50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Prevenzione dei danni alla salu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300480" y="3456000"/>
                <a:ext cx="2997720" cy="133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’utilizzo di veicoli a basso impatto ambienta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produzione di beni e servizi non contenenti sostanze pericolos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343200" y="3456000"/>
                <a:ext cx="2868480" cy="128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Punteggio tecnico per premiare il possesso di certificazioni ecologiche (EMAS, Ecolabel,..) o per caratteristiche dei prodotti/servizi non pericolosi per la salut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810360" y="4904280"/>
                <a:ext cx="8399520" cy="909360"/>
                <a:chOff x="810360" y="4904280"/>
                <a:chExt cx="8399520" cy="909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23028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298560" y="4904280"/>
                  <a:ext cx="0" cy="906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10360" y="5813640"/>
                  <a:ext cx="2364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290400" y="5813640"/>
                  <a:ext cx="2940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358680" y="5813640"/>
                  <a:ext cx="2851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"/>
              <p:cNvSpPr/>
              <p:nvPr/>
            </p:nvSpPr>
            <p:spPr>
              <a:xfrm>
                <a:off x="823680" y="4822200"/>
                <a:ext cx="2297520" cy="71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duzione della produzione dei 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300480" y="4822200"/>
                <a:ext cx="299772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prodotti/materiali riciclati (DM 203/2003)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43200" y="482040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Acquisto di beni che prevedono uso di materiale riciclato.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3680" y="5857920"/>
                <a:ext cx="229752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333399"/>
                    </a:solidFill>
                    <a:latin typeface="Trebuchet MS"/>
                  </a:rPr>
                  <a:t>Rifiut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3300480" y="5857920"/>
                <a:ext cx="2997720" cy="86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separazione rifiuto/materiale riciclabil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Promuovere la “valorizzazione” del rifiu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343200" y="5856120"/>
                <a:ext cx="2868480" cy="45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333399"/>
                    </a:solidFill>
                    <a:latin typeface="Trebuchet MS"/>
                  </a:rPr>
                  <a:t>Ritiro e smaltimento dei beni utilizzati (es. toner)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22992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298200" y="5892840"/>
                <a:ext cx="0" cy="77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10360" y="6668640"/>
                <a:ext cx="2364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90040" y="6668640"/>
                <a:ext cx="2941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58320" y="6668640"/>
                <a:ext cx="285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"/>
            <p:cNvSpPr/>
            <p:nvPr/>
          </p:nvSpPr>
          <p:spPr>
            <a:xfrm>
              <a:off x="776160" y="1903320"/>
              <a:ext cx="8540640" cy="48387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352520" y="549360"/>
            <a:ext cx="82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Gli eco - obiettivi del 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C66EC-AF18-4667-A975-787E6CA89CE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488880" y="981000"/>
          <a:ext cx="8425080" cy="5357880"/>
        </p:xfrm>
        <a:graphic>
          <a:graphicData uri="http://schemas.openxmlformats.org/drawingml/2006/table">
            <a:tbl>
              <a:tblPr/>
              <a:tblGrid>
                <a:gridCol w="2730600"/>
                <a:gridCol w="3637080"/>
                <a:gridCol w="1063440"/>
                <a:gridCol w="99396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Data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ARREDI DIDATTICI E PER UFFICIO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6/10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AUTOVEICOLI IN NOLEGGIO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2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Veicoli, carburanti e lubrifican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5"/>
                        </a:rPr>
                        <a:t>AUTOVEICOLI IN NOLEGGIO 6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6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BIODIESEL DA RISCALDAMENT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6/11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CARTA IN RISM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7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7/03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0"/>
                        </a:rPr>
                        <a:t>FOTOCOPIATRICI 12 (FASCIA ALT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8/1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PRODOTTI ORTOFRUTTICOLI FRESCH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12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2"/>
                        </a:rPr>
                        <a:t>SERVIZIO INTEGRATO ENERGIA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15/10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al territ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3"/>
                        </a:rPr>
                        <a:t>SERVIZIO LU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8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4"/>
                        </a:rPr>
                        <a:t>STAMPANTI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4/01/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5"/>
                        </a:rPr>
                        <a:t>VESTIARIO - CALZATURE DA LAV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04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6"/>
                        </a:rPr>
                        <a:t>VESTIARIO - DISPOSITIVI DI PROTEZIONE INDIVIDUALE E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1/04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le pers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7"/>
                        </a:rPr>
                        <a:t>VESTIARIO - INDUMENTI E ACCESSORI DA LAVORO GENERIC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20/02/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8"/>
                        </a:rPr>
                        <a:t>VIDEOCOMUNICAZIONE_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TTI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13/06/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BD50B-520F-40A0-8A7E-40EFB5DC8A7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LAVORI%20IN%20CORSO:Consip:flash01" descr=""/>
          <p:cNvPicPr/>
          <p:nvPr/>
        </p:nvPicPr>
        <p:blipFill>
          <a:blip r:embed="rId1"/>
          <a:srcRect l="1493" t="0" r="1493" b="0"/>
          <a:stretch/>
        </p:blipFill>
        <p:spPr>
          <a:xfrm>
            <a:off x="0" y="5462640"/>
            <a:ext cx="9906120" cy="139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490760" y="549360"/>
            <a:ext cx="850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Le Convenzioni realizzate e in realizzazione 2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9201240" y="1125360"/>
            <a:ext cx="504720" cy="430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5" name=""/>
          <p:cNvGraphicFramePr/>
          <p:nvPr/>
        </p:nvGraphicFramePr>
        <p:xfrm>
          <a:off x="1208160" y="1268280"/>
          <a:ext cx="7176960" cy="4792680"/>
        </p:xfrm>
        <a:graphic>
          <a:graphicData uri="http://schemas.openxmlformats.org/drawingml/2006/table">
            <a:tbl>
              <a:tblPr/>
              <a:tblGrid>
                <a:gridCol w="3044880"/>
                <a:gridCol w="2944800"/>
                <a:gridCol w="1187280"/>
              </a:tblGrid>
              <a:tr h="400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tego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Nome Conven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Sta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Trebuchet MS"/>
                          <a:ea typeface="Arial"/>
                        </a:rPr>
                        <a:t>FOTOCOPIATRICI 13 (MULTIFUNZIONI-ACQUIST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Cancelleria, macchine per ufficio e materiale di consum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3"/>
                        </a:rPr>
                        <a:t>FOTOCOPIATRICI 14 (FASCIA MEDIA-NOLEGG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4"/>
                        </a:rPr>
                        <a:t>SERVER ENTRY/MIDRANG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5"/>
                        </a:rPr>
                        <a:t>ARREDI DIDAT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6"/>
                        </a:rPr>
                        <a:t>ARREDI PER UFFICIO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rredi e complementi di arre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7"/>
                        </a:rPr>
                        <a:t>ARREDI SCOLASTIC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Telecomunicazioni, elettronica e servizi accessor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8"/>
                        </a:rPr>
                        <a:t>CENTRALI TELEFONICHE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Alimenti, ristorazione e buoni pas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9"/>
                        </a:rPr>
                        <a:t>DERRATE ALIMENTARI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ardware e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hlinkClick r:id="rId10"/>
                        </a:rPr>
                        <a:t>PC PORTATILI 7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Beni e servizi per gli immobi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009999"/>
                          </a:solidFill>
                          <a:uFillTx/>
                          <a:latin typeface="Trebuchet MS"/>
                          <a:ea typeface="Arial"/>
                          <a:hlinkClick r:id="rId11"/>
                        </a:rPr>
                        <a:t>FACILITY MANAGEMENT (II EDIZION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Trebuchet MS"/>
                          <a:ea typeface="Arial"/>
                        </a:rPr>
                        <a:t>IN ATTIVAZI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A4D4-216C-42C7-8908-8AD1DA521A1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LAVORI%20IN%20CORSO:Consip:flash02" descr=""/>
          <p:cNvPicPr/>
          <p:nvPr/>
        </p:nvPicPr>
        <p:blipFill>
          <a:blip r:embed="rId1"/>
          <a:srcRect l="754" t="0" r="1118" b="10984"/>
          <a:stretch/>
        </p:blipFill>
        <p:spPr>
          <a:xfrm>
            <a:off x="0" y="5300640"/>
            <a:ext cx="9906120" cy="15238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073160" y="1341360"/>
            <a:ext cx="8645400" cy="792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8520" bIns="298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86080" y="1503360"/>
            <a:ext cx="5381640" cy="5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89080" y="142092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Arredo e complementi di arre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5240" y="2205000"/>
            <a:ext cx="8640720" cy="15843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6200" y="2330280"/>
            <a:ext cx="7439040" cy="15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“prodotti riciclati” sostanzialmente conformi al D.M. 8 maggio 2003 n. 203. Es. carta in risme, quaderni, blocchi notes, cartucce e toner, penne monouso, pennarelli in fibra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erca/scelta tra articoli che rispondono a criteri di compatibilità ambientale e a basso impatto ambient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, per i fornitori abilitati, di indicare le certificazioni “ambientali” (es. Ecolabel, EMAS, ISO 140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79640" y="3978360"/>
            <a:ext cx="8638920" cy="79056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6672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281240" y="4032360"/>
            <a:ext cx="83516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Materiale elettrico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asta gamma di prodotti a basso consumo energe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lampadine fluorescenti compatte per gli in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Es.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lampade a miglior efficienza energetica</a:t>
            </a: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 per gli ester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192320" y="2573280"/>
            <a:ext cx="171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rebuchet MS"/>
              </a:rPr>
              <a:t>Cancelleria ad uso ufficio e didat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469880" y="692280"/>
            <a:ext cx="866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Il Mercato Elettronico e le iniziative nell’ambito del GP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0280" y="6273720"/>
            <a:ext cx="30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Iniziativa ver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Componenti verdi dell’iniziati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512840" y="5997600"/>
            <a:ext cx="777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Legend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7157880" y="6213600"/>
            <a:ext cx="365400" cy="311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7205760" y="6588000"/>
            <a:ext cx="155520" cy="1317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9109080" y="4098960"/>
            <a:ext cx="190440" cy="1904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9201240" y="1628640"/>
            <a:ext cx="190440" cy="190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9109080" y="2657520"/>
            <a:ext cx="190440" cy="190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065240" y="4943520"/>
            <a:ext cx="8639280" cy="933480"/>
          </a:xfrm>
          <a:prstGeom prst="roundRect">
            <a:avLst>
              <a:gd name="adj" fmla="val 16667"/>
            </a:avLst>
          </a:prstGeom>
          <a:solidFill>
            <a:srgbClr val="99cc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1320" rIns="701280" tIns="68544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66840" y="4997520"/>
            <a:ext cx="835200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Ainfo e Office   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prodotti come P.C. portatili e desktop in possesso di etichette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ecologiche basate sull’analisi del ciclo di vi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87400" indent="-17874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Possibilità di richiedere stampanti e fotocopiatori in possesso di etichette ecologiche ISO    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    Tipo I, basate sull’analisi del ciclo di v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4EC5F-98B4-4C78-B2F6-B2B00BDACC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44520" y="1197000"/>
            <a:ext cx="93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ccordo di collaborazione tra Consip e una PA lo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65600" y="2276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7520" y="2127240"/>
            <a:ext cx="8675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cordo di collaborazione concentrato 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ei fabbisog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nalisi di merc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utazione soddisfazione domanda tramite utilizzo d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zione specifica su strumenti di acquisto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pporto all’utilizzo degli strumenti Cons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nitoraggi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municazione dei 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560520" y="1454040"/>
            <a:ext cx="8927640" cy="5157360"/>
            <a:chOff x="560520" y="1454040"/>
            <a:chExt cx="8927640" cy="5157360"/>
          </a:xfrm>
        </p:grpSpPr>
        <p:grpSp>
          <p:nvGrpSpPr>
            <p:cNvPr id="209" name=""/>
            <p:cNvGrpSpPr/>
            <p:nvPr/>
          </p:nvGrpSpPr>
          <p:grpSpPr>
            <a:xfrm>
              <a:off x="596160" y="1557720"/>
              <a:ext cx="8781840" cy="4975560"/>
              <a:chOff x="596160" y="1557720"/>
              <a:chExt cx="8781840" cy="4975560"/>
            </a:xfrm>
          </p:grpSpPr>
          <p:sp>
            <p:nvSpPr>
              <p:cNvPr id="210" name=""/>
              <p:cNvSpPr/>
              <p:nvPr/>
            </p:nvSpPr>
            <p:spPr>
              <a:xfrm>
                <a:off x="596160" y="1557720"/>
                <a:ext cx="245016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trutture dell’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234960" y="1557720"/>
                <a:ext cx="303624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Soggetti privati e Associazio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395400" y="1557720"/>
                <a:ext cx="2982600" cy="2541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7920" rIns="97920" tIns="48960" bIns="489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77760"/>
                    <a:tab algn="l" pos="1955880"/>
                    <a:tab algn="l" pos="2933640"/>
                    <a:tab algn="l" pos="3911760"/>
                    <a:tab algn="l" pos="4889520"/>
                    <a:tab algn="l" pos="5867280"/>
                    <a:tab algn="l" pos="6845400"/>
                    <a:tab algn="l" pos="7823160"/>
                    <a:tab algn="l" pos="8801280"/>
                    <a:tab algn="l" pos="9779040"/>
                    <a:tab algn="l" pos="107568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rebuchet MS"/>
                  </a:rPr>
                  <a:t>Consi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0200" y="1865520"/>
                <a:ext cx="2257920" cy="29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198960" y="1865520"/>
                <a:ext cx="3133440" cy="86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-</a:t>
                </a: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Imprese che investono sull’innovazione e sulla tutela dell’ambien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Associazioni di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17928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Arial"/>
                    <a:ea typeface="ＭＳ Ｐゴシック"/>
                  </a:rPr>
                  <a:t>-Cittadin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79560" y="1862280"/>
                <a:ext cx="2998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597600" y="1811880"/>
                <a:ext cx="8780040" cy="1282320"/>
                <a:chOff x="597600" y="1811880"/>
                <a:chExt cx="8780040" cy="1282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269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334560" y="1811880"/>
                  <a:ext cx="0" cy="1278360"/>
                </a:xfrm>
                <a:prstGeom prst="line">
                  <a:avLst/>
                </a:prstGeom>
                <a:ln w="12600">
                  <a:solidFill>
                    <a:srgbClr val="333399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97600" y="309420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189960" y="309420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6397200" y="309420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596160" y="3148200"/>
                <a:ext cx="8780040" cy="1374480"/>
                <a:chOff x="596160" y="3148200"/>
                <a:chExt cx="8780040" cy="13744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1255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33120" y="3148200"/>
                  <a:ext cx="0" cy="13701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96160" y="452268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88520" y="452268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395760" y="452268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10200" y="3107520"/>
                <a:ext cx="2401560" cy="197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DEFINIZIONE CATEGORIE OMOGENEE DI COST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INDIVIDUAZIONE CATEGORIE DI ACQUISTO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99"/>
                    </a:solidFill>
                    <a:latin typeface="Trebuchet MS"/>
                  </a:rPr>
                  <a:t>PIANIFICAZIONE ACQUISTI VERD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198960" y="3109320"/>
                <a:ext cx="3133440" cy="1634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COMUNICAZIONE OBIETTIVI STRATEGICI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I PROGETTO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DEFINIZIONE PIANO DI PROGETTO E TEMPISTICHE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379560" y="3109320"/>
                <a:ext cx="2998440" cy="1609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rebuchet MS"/>
                  </a:rPr>
                  <a:t>- </a:t>
                </a: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SUPPORTO DEFINIZIONE CATEGORIE OMOGENEE DI COSTO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SUPPORTO INDIVIDUAZIONE CATEGORIE DI ACQUISTO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333399"/>
                    </a:solidFill>
                    <a:latin typeface="Trebuchet MS"/>
                  </a:rPr>
                  <a:t>- SUPPORTO PIANIFICAZIONE ACQUISTI VERDI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814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596160" y="4652640"/>
                <a:ext cx="8780040" cy="969480"/>
                <a:chOff x="596160" y="4652640"/>
                <a:chExt cx="8780040" cy="9694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255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33120" y="4652640"/>
                  <a:ext cx="0" cy="966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68544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96160" y="5622120"/>
                  <a:ext cx="2471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3188520" y="5622120"/>
                  <a:ext cx="30740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395760" y="5622120"/>
                  <a:ext cx="2980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571320" rIns="701280" tIns="-46800" bIns="-685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7" name=""/>
              <p:cNvSpPr/>
              <p:nvPr/>
            </p:nvSpPr>
            <p:spPr>
              <a:xfrm>
                <a:off x="610200" y="4565160"/>
                <a:ext cx="2401560" cy="121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PARTECIPAZIONE CORSI DI FORMAZIONE SU CONVENZIONI CONSIP E MERCATO ELETTRONIC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FORMAZIONE GPP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185760" indent="-185760">
                  <a:lnSpc>
                    <a:spcPct val="85000"/>
                  </a:lnSpc>
                  <a:spcBef>
                    <a:spcPts val="751"/>
                  </a:spcBef>
                  <a:buClr>
                    <a:srgbClr val="333399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198960" y="4565160"/>
                <a:ext cx="313344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9560" y="4561920"/>
                <a:ext cx="2998440" cy="42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51"/>
                  </a:spcBef>
                  <a:buClr>
                    <a:srgbClr val="333399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333399"/>
                    </a:solidFill>
                    <a:latin typeface="Trebuchet MS"/>
                  </a:rPr>
                  <a:t>EROGAZIONE CORSI DI FORMAZIONE PERSONALE E IMPRE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10200" y="5669280"/>
                <a:ext cx="24015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85000"/>
                  </a:lnSpc>
                  <a:spcBef>
                    <a:spcPts val="1001"/>
                  </a:spcBef>
                  <a:buClr>
                    <a:srgbClr val="000000"/>
                  </a:buClr>
                  <a:buFont typeface="Wingdings" charset="2"/>
                  <a:buChar char="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198960" y="5669280"/>
                <a:ext cx="3133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buClr>
                    <a:srgbClr val="000000"/>
                  </a:buClr>
                  <a:buFont typeface="Trebuchet MS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379560" y="5667480"/>
                <a:ext cx="2998440" cy="27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marL="185760" indent="-185760">
                  <a:lnSpc>
                    <a:spcPct val="90000"/>
                  </a:lnSpc>
                  <a:spcBef>
                    <a:spcPts val="48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1251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332760" y="5706360"/>
                <a:ext cx="0" cy="825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68544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96160" y="6533280"/>
                <a:ext cx="2471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188160" y="6533280"/>
                <a:ext cx="307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395400" y="6533280"/>
                <a:ext cx="2980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571320" rIns="701280" tIns="-46800" bIns="-685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60520" y="1454040"/>
              <a:ext cx="8927640" cy="515736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440" bIns="464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1187280" y="826920"/>
            <a:ext cx="825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b337b"/>
                </a:solidFill>
                <a:latin typeface="Trebuchet MS"/>
              </a:rPr>
              <a:t>Gli sviluppi del Piano 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6160" y="1773360"/>
            <a:ext cx="2448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involgimento Ragioneria cen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60520" y="5742000"/>
            <a:ext cx="249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152880" y="4508640"/>
            <a:ext cx="3168720" cy="12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GP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3399"/>
                </a:solidFill>
                <a:latin typeface="Trebuchet MS"/>
              </a:rPr>
              <a:t>PARTECIPAZIONE FORMAZIONE SU MKP CONSI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14"/>
              </a:spcBef>
              <a:buClr>
                <a:srgbClr val="333399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398760" y="5805360"/>
            <a:ext cx="2490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MONITORAGGIO E VER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 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321600" y="1844640"/>
            <a:ext cx="30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NALISI DEL FABBISOG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analisi dei c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upporto finale classificazione della sp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finizione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638760" y="5734080"/>
            <a:ext cx="2490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- </a:t>
            </a: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SUPPORTO MONITORAGGIO E VERIFICA  RAGGIUNGIMENTO OBIET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rebuchet MS"/>
              </a:rPr>
              <a:t>- COMUNICAZIONE RISULT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474E2-DB09-4617-B746-C5ACAEDD487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08160" y="803160"/>
            <a:ext cx="80769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dei fabbisogni</a:t>
            </a:r>
            <a:endParaRPr b="0" lang="en-US" sz="2800" spc="-1" strike="noStrike">
              <a:solidFill>
                <a:srgbClr val="0b337b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064880" y="1628640"/>
            <a:ext cx="807732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Analisi mandati di pagamento  e dati di spesa dell’ent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Ricostruzione alberatura di classificazione dat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ossibilità di inserimento criteri ambientali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percentuale acquisti effettuabili tramite Consi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Definizione target annuale e previsione trienn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769D-D931-4A7B-A119-129B17EDD6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920880" y="765000"/>
          <a:ext cx="7980120" cy="583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765000"/>
                    <a:ext cx="7980120" cy="58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2254320" y="235080"/>
            <a:ext cx="39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empio classificazione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B8B5-4B74-4DDA-96BA-BD86F615F2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1:20:28Z</dcterms:created>
  <dc:creator>mnd</dc:creator>
  <dc:description/>
  <dc:language>en-US</dc:language>
  <cp:lastModifiedBy> </cp:lastModifiedBy>
  <cp:lastPrinted>2006-09-12T16:34:06Z</cp:lastPrinted>
  <dcterms:modified xsi:type="dcterms:W3CDTF">2008-06-24T12:33:33Z</dcterms:modified>
  <cp:revision>609</cp:revision>
  <dc:subject/>
  <dc:title>Il mercato elettronico della P.A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017874</vt:r8>
  </property>
  <property fmtid="{D5CDD505-2E9C-101B-9397-08002B2CF9AE}" pid="3" name="_AuthorEmail">
    <vt:lpwstr>katia.petrocelli@tesoro.it</vt:lpwstr>
  </property>
  <property fmtid="{D5CDD505-2E9C-101B-9397-08002B2CF9AE}" pid="4" name="_AuthorEmailDisplayName">
    <vt:lpwstr>Petrocelli Katia</vt:lpwstr>
  </property>
  <property fmtid="{D5CDD505-2E9C-101B-9397-08002B2CF9AE}" pid="5" name="_EmailSubject">
    <vt:lpwstr>bozza presentazione per il 4 aprile</vt:lpwstr>
  </property>
  <property fmtid="{D5CDD505-2E9C-101B-9397-08002B2CF9AE}" pid="6" name="_ReviewingToolsShownOnce">
    <vt:lpwstr/>
  </property>
</Properties>
</file>