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8135938" cy="609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2"/>
          </p:nvPr>
        </p:nvSpPr>
        <p:spPr>
          <a:xfrm>
            <a:off x="-18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3"/>
          </p:nvPr>
        </p:nvSpPr>
        <p:spPr>
          <a:xfrm>
            <a:off x="3884400" y="8686800"/>
            <a:ext cx="29746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858680"/>
              </a:tabLst>
            </a:pPr>
            <a:fld id="{BC391673-2E04-4D40-9079-142B719516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Img"/>
          </p:nvPr>
        </p:nvSpPr>
        <p:spPr>
          <a:xfrm>
            <a:off x="1401480" y="882720"/>
            <a:ext cx="4056120" cy="303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01840" y="882720"/>
            <a:ext cx="4056120" cy="3039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PA in Europa acquistano 2.8 milioni di PC l’anno, pari al 12% del mer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imes New Roman"/>
              </a:rPr>
              <a:t>Principi di dematerializzazione e di corretta gest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06440" y="352332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15800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288180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57520" y="142236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0644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288180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357520" y="3523320"/>
            <a:ext cx="23572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06800" y="243000"/>
            <a:ext cx="7322040" cy="471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158000" y="352332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0644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158000" y="1422360"/>
            <a:ext cx="357264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06440" y="3523320"/>
            <a:ext cx="7321680" cy="1918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896080" y="5715000"/>
            <a:ext cx="253800" cy="18576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3792600"/>
            <a:ext cx="8131320" cy="2303280"/>
            <a:chOff x="0" y="3792600"/>
            <a:chExt cx="8131320" cy="2303280"/>
          </a:xfrm>
        </p:grpSpPr>
        <p:sp>
          <p:nvSpPr>
            <p:cNvPr id="2" name=""/>
            <p:cNvSpPr/>
            <p:nvPr/>
          </p:nvSpPr>
          <p:spPr>
            <a:xfrm>
              <a:off x="0" y="3792600"/>
              <a:ext cx="8131320" cy="230328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d2d6f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4979160" y="5241960"/>
              <a:ext cx="1117800" cy="734760"/>
              <a:chOff x="4979160" y="5241960"/>
              <a:chExt cx="1117800" cy="734760"/>
            </a:xfrm>
          </p:grpSpPr>
          <p:sp>
            <p:nvSpPr>
              <p:cNvPr id="4" name=""/>
              <p:cNvSpPr/>
              <p:nvPr/>
            </p:nvSpPr>
            <p:spPr>
              <a:xfrm>
                <a:off x="5203440" y="5375880"/>
                <a:ext cx="750960" cy="46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259960" y="5418000"/>
                <a:ext cx="637920" cy="38772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339160" y="5463000"/>
                <a:ext cx="485280" cy="291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95320" y="5497200"/>
                <a:ext cx="369720" cy="22392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443560" y="5533920"/>
                <a:ext cx="271080" cy="15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046840" y="5241960"/>
                <a:ext cx="540360" cy="2268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216040" y="5883840"/>
                <a:ext cx="626760" cy="9288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7d7d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979160" y="5511240"/>
                <a:ext cx="125640" cy="30456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38200" y="5284080"/>
                <a:ext cx="1058760" cy="65016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698800" y="5250240"/>
                <a:ext cx="135360" cy="42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19520" y="5570640"/>
                <a:ext cx="118440" cy="7452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505240" y="5123520"/>
              <a:ext cx="2295720" cy="963360"/>
              <a:chOff x="2505240" y="5123520"/>
              <a:chExt cx="2295720" cy="963360"/>
            </a:xfrm>
          </p:grpSpPr>
          <p:sp>
            <p:nvSpPr>
              <p:cNvPr id="16" name=""/>
              <p:cNvSpPr/>
              <p:nvPr/>
            </p:nvSpPr>
            <p:spPr>
              <a:xfrm>
                <a:off x="3199680" y="5550840"/>
                <a:ext cx="901080" cy="531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264840" y="5584680"/>
                <a:ext cx="766800" cy="468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302640" y="5614200"/>
                <a:ext cx="707400" cy="421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7e7e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340800" y="5639760"/>
                <a:ext cx="626760" cy="36360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364920" y="5650920"/>
                <a:ext cx="582840" cy="33840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438360" y="5680800"/>
                <a:ext cx="432000" cy="270360"/>
              </a:xfrm>
              <a:prstGeom prst="ellipse">
                <a:avLst/>
              </a:prstGeom>
              <a:gradFill rotWithShape="0">
                <a:gsLst>
                  <a:gs pos="0">
                    <a:srgbClr val="dfdfd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493440" y="5722920"/>
                <a:ext cx="320400" cy="19008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586680" y="5780880"/>
                <a:ext cx="126720" cy="84240"/>
              </a:xfrm>
              <a:prstGeom prst="ellipse">
                <a:avLst/>
              </a:pr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647520" y="5392800"/>
                <a:ext cx="633960" cy="26208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021840" y="5434920"/>
                <a:ext cx="1259280" cy="65196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7d7d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937240" y="5401080"/>
                <a:ext cx="574560" cy="68580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215240" y="5706000"/>
                <a:ext cx="152280" cy="35532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0d0d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17080" y="5199480"/>
                <a:ext cx="1179000" cy="21132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633400" y="5436720"/>
                <a:ext cx="241200" cy="65016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164120" y="5292720"/>
                <a:ext cx="508320" cy="79416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270600" y="5123520"/>
                <a:ext cx="1522080" cy="59940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662720" y="5756760"/>
                <a:ext cx="138240" cy="3301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505240" y="5182560"/>
                <a:ext cx="678960" cy="9043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5826240" y="4740840"/>
              <a:ext cx="1907640" cy="1158120"/>
              <a:chOff x="5826240" y="4740840"/>
              <a:chExt cx="1907640" cy="1158120"/>
            </a:xfrm>
          </p:grpSpPr>
          <p:sp>
            <p:nvSpPr>
              <p:cNvPr id="35" name=""/>
              <p:cNvSpPr/>
              <p:nvPr/>
            </p:nvSpPr>
            <p:spPr>
              <a:xfrm>
                <a:off x="5927760" y="4799880"/>
                <a:ext cx="1695960" cy="103140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5826240" y="4749120"/>
                <a:ext cx="768240" cy="104004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763680" y="4740840"/>
                <a:ext cx="860040" cy="35532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7404840" y="5653800"/>
                <a:ext cx="101520" cy="7596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358680" y="5746680"/>
                <a:ext cx="995400" cy="15228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7531920" y="5155560"/>
                <a:ext cx="201960" cy="48132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7143840" y="5113080"/>
                <a:ext cx="117000" cy="1267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273720" y="5011560"/>
                <a:ext cx="1012320" cy="60804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138360" y="4952160"/>
                <a:ext cx="1283400" cy="75204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efef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6441840" y="4926960"/>
                <a:ext cx="515520" cy="9288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299280" y="5020200"/>
                <a:ext cx="92880" cy="6732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16640" y="5090400"/>
                <a:ext cx="731160" cy="450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461640" y="5121360"/>
                <a:ext cx="629280" cy="38232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507000" y="5149800"/>
                <a:ext cx="545040" cy="32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568920" y="5189400"/>
                <a:ext cx="420480" cy="249480"/>
              </a:xfrm>
              <a:prstGeom prst="ellipse">
                <a:avLst/>
              </a:prstGeom>
              <a:gradFill rotWithShape="0">
                <a:gsLst>
                  <a:gs pos="0">
                    <a:srgbClr val="efefe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20040" y="5217480"/>
                <a:ext cx="313200" cy="195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fefe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687360" y="5259600"/>
                <a:ext cx="177840" cy="114480"/>
              </a:xfrm>
              <a:prstGeom prst="ellipse">
                <a:avLst/>
              </a:prstGeom>
              <a:gradFill rotWithShape="0">
                <a:gsLst>
                  <a:gs pos="0">
                    <a:srgbClr val="f6f6f6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7453080" y="4266720"/>
              <a:ext cx="599760" cy="363600"/>
              <a:chOff x="7453080" y="4266720"/>
              <a:chExt cx="599760" cy="363600"/>
            </a:xfrm>
          </p:grpSpPr>
          <p:sp>
            <p:nvSpPr>
              <p:cNvPr id="53" name=""/>
              <p:cNvSpPr/>
              <p:nvPr/>
            </p:nvSpPr>
            <p:spPr>
              <a:xfrm>
                <a:off x="7453080" y="4494960"/>
                <a:ext cx="540720" cy="13536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502400" y="4266720"/>
                <a:ext cx="363960" cy="7596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968600" y="4325760"/>
                <a:ext cx="84240" cy="21996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87000" y="4579560"/>
                <a:ext cx="271080" cy="2520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86920" y="4291920"/>
                <a:ext cx="227160" cy="26244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6f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748280" y="4291920"/>
                <a:ext cx="262440" cy="29592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2d6fa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544880" y="4314600"/>
                <a:ext cx="421920" cy="26208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2d6f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7595640" y="4352760"/>
                <a:ext cx="320400" cy="186120"/>
                <a:chOff x="7595640" y="4352760"/>
                <a:chExt cx="320400" cy="1861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595640" y="4352760"/>
                  <a:ext cx="320400" cy="186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6f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7626600" y="4372560"/>
                  <a:ext cx="256680" cy="143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2d6f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7665840" y="4386600"/>
                  <a:ext cx="176040" cy="115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d6fa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704000" y="4408920"/>
                  <a:ext cx="102960" cy="66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2d6f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body"/>
          </p:nvPr>
        </p:nvSpPr>
        <p:spPr>
          <a:xfrm>
            <a:off x="406440" y="1422360"/>
            <a:ext cx="7321680" cy="40226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550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53800">
              <a:spcBef>
                <a:spcPts val="550"/>
              </a:spcBef>
              <a:buClr>
                <a:srgbClr val="000000"/>
              </a:buClr>
              <a:buSzPct val="5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15920" indent="-203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20920" indent="-201600">
              <a:spcBef>
                <a:spcPts val="550"/>
              </a:spcBef>
              <a:buClr>
                <a:srgbClr val="00cc66"/>
              </a:buClr>
              <a:buSzPct val="50000"/>
              <a:buFont typeface="Wingdings" charset="2"/>
              <a:buChar char="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204840">
              <a:spcBef>
                <a:spcPts val="550"/>
              </a:spcBef>
              <a:buClr>
                <a:srgbClr val="0066ff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20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2048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79280" y="168120"/>
            <a:ext cx="1025640" cy="682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887400"/>
            <a:ext cx="7702560" cy="144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5765760"/>
            <a:ext cx="773136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2840" bIns="42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r>
              <a:rPr b="1" i="1" lang="it-IT" sz="800" spc="-1" strike="noStrike">
                <a:solidFill>
                  <a:srgbClr val="000000"/>
                </a:solidFill>
                <a:latin typeface="Arial"/>
              </a:rPr>
              <a:t>ASSOARPA - Firenze 26 Giugno 2008 – Emanuela Venturin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1200"/>
                <a:tab algn="l" pos="1562040"/>
                <a:tab algn="l" pos="2343240"/>
                <a:tab algn="l" pos="3124080"/>
                <a:tab algn="l" pos="3905280"/>
                <a:tab algn="l" pos="4686480"/>
                <a:tab algn="l" pos="5467320"/>
                <a:tab algn="l" pos="6248520"/>
                <a:tab algn="l" pos="7029360"/>
                <a:tab algn="l" pos="7810560"/>
                <a:tab algn="l" pos="8591400"/>
                <a:tab algn="l" pos="9372600"/>
                <a:tab algn="l" pos="1015380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06800" y="243000"/>
            <a:ext cx="7322040" cy="101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eventurini@arpa.emr.it" TargetMode="External"/><Relationship Id="rId2" Type="http://schemas.openxmlformats.org/officeDocument/2006/relationships/hyperlink" Target="mailto:mgmarchesiello@arpa.emr.it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395280" y="1463760"/>
            <a:ext cx="7272360" cy="1871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estione PAN GPP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Criteri GPP per i servizi energetici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2200" y="5064120"/>
            <a:ext cx="259236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Verdana"/>
              </a:rPr>
              <a:t>Emanuela Venturini</a:t>
            </a:r>
            <a:endParaRPr b="0" lang="en-US" sz="2400" spc="1" strike="noStrike">
              <a:ln w="0">
                <a:noFill/>
              </a:ln>
              <a:solidFill>
                <a:srgbClr val="00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pic>
        <p:nvPicPr>
          <p:cNvPr id="115" name="Picture 24" descr="Marchio foglia + codice con r"/>
          <p:cNvPicPr/>
          <p:nvPr/>
        </p:nvPicPr>
        <p:blipFill>
          <a:blip r:embed="rId1"/>
          <a:stretch/>
        </p:blipFill>
        <p:spPr>
          <a:xfrm>
            <a:off x="7020000" y="3479760"/>
            <a:ext cx="770040" cy="1981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50920" y="1103400"/>
            <a:ext cx="7345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 marL="355680" indent="-35568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illuminazione, riscaldamento e raffrescamento edific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illuminazione pub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0" i="1" lang="it-IT" sz="1800" spc="-1" strike="noStrike">
                <a:solidFill>
                  <a:srgbClr val="140e96"/>
                </a:solidFill>
                <a:latin typeface="Verdana"/>
              </a:rPr>
              <a:t>segnaletica lumin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165040" y="168120"/>
            <a:ext cx="26215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Servizi energet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886040"/>
            <a:ext cx="8134200" cy="13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Apparecchiature, impianti e materiale di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estazioni energetiche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apitolato tipo per 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servizio integrato energ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22560" y="2543040"/>
            <a:ext cx="574920" cy="216000"/>
          </a:xfrm>
          <a:custGeom>
            <a:avLst/>
            <a:gdLst>
              <a:gd name="textAreaLeft" fmla="*/ 71640 w 574920"/>
              <a:gd name="textAreaRight" fmla="*/ 503280 w 5749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219640" y="5568840"/>
            <a:ext cx="2737080" cy="289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empi: entro giugno 2009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9600" y="297648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Verdana"/>
              </a:rPr>
              <a:t>Me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3335400"/>
            <a:ext cx="756108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Definizione ed analisi settore "servizi energetici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Valutazione impatti (LCA) ed identificazione criteri con proposta obiettivi quantitativi per pro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Condivisione documento in Comitato di gestione PAN G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Consultazione parti interess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40e96"/>
                </a:solidFill>
                <a:latin typeface="Arial"/>
              </a:rPr>
              <a:t>Validazione CAM ed approvazione con 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50560" y="960480"/>
            <a:ext cx="7321320" cy="496728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“</a:t>
            </a: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Stazione appaltante”, naturalmente sensibile agli aspetti di prevenzione ambient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mozione – diffusione – supporto tecnico-scienti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mpetenze discendenti dal nuovo codice in materia ambientale (D. Lgs. 3 aprile 2006, n. 152 - </a:t>
            </a:r>
            <a:r>
              <a:rPr b="0" i="1" lang="it-IT" sz="1800" spc="-1" strike="noStrike">
                <a:solidFill>
                  <a:srgbClr val="000099"/>
                </a:solidFill>
                <a:latin typeface="Verdana"/>
              </a:rPr>
              <a:t>Art. 19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Le Regioni emanano “disposizioni occorrenti affinché gli enti pubblici e le società a prevalente capitale pubblico, anche di gestione di servizi, coprano il proprio fabbisogno annuale di manufatti e beni, con una quota di prodotti ottenuti da materiale riciclato non inferiore al 30% del fabbisogno medesimo”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46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Per l’esercizio delle funzioni di cui sopra le Regioni si avvalgono anche delle </a:t>
            </a:r>
            <a:r>
              <a:rPr b="0" i="1" lang="it-IT" sz="1600" spc="-1" strike="noStrike">
                <a:solidFill>
                  <a:srgbClr val="990033"/>
                </a:solidFill>
                <a:latin typeface="Verdana"/>
              </a:rPr>
              <a:t>ARPA</a:t>
            </a:r>
            <a:r>
              <a:rPr b="0" i="1" lang="it-IT" sz="1600" spc="-1" strike="noStrike">
                <a:solidFill>
                  <a:srgbClr val="000099"/>
                </a:solidFill>
                <a:latin typeface="Verdan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mitato di Gestione PAN GP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GdL “Acquisti Verdi” Coordinamento Agende 21 Loc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iano di Azione Ambientale della 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Programma regionale “ Il Servizio sanitario per uno sviluppo sostenibil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14560" y="239760"/>
            <a:ext cx="62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Verdana"/>
              </a:rPr>
              <a:t>ARPAER e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79280" y="887400"/>
            <a:ext cx="7954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000099"/>
                </a:solidFill>
                <a:latin typeface="Verdana"/>
                <a:ea typeface="Arial"/>
              </a:rPr>
              <a:t>Piano di azione ambientale 2004-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Linee guida per il programma regionale di promozione ed implementazione azioni coordinate dalle Provi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=&gt; Promozione degli acquisti verdi (Green Public Procur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2111400"/>
            <a:ext cx="7954920" cy="12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Progetti pilota per implementazione, ampliamento, mantenimento di un </a:t>
            </a:r>
            <a:r>
              <a:rPr b="0" i="1" lang="it-IT" sz="1800" spc="-1" strike="noStrike" u="sng">
                <a:solidFill>
                  <a:srgbClr val="000099"/>
                </a:solidFill>
                <a:uFillTx/>
                <a:latin typeface="Verdana"/>
                <a:ea typeface="Arial"/>
              </a:rPr>
              <a:t>sistema di GPP</a:t>
            </a: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 nelle amministrazioni provinc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i="1" lang="it-IT" sz="1800" spc="-1" strike="noStrike">
                <a:solidFill>
                  <a:srgbClr val="000099"/>
                </a:solidFill>
                <a:latin typeface="Verdana"/>
                <a:ea typeface="Arial"/>
              </a:rPr>
              <a:t>(6 Province: PC – PR – RE – MO – BO – F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800" spc="-1" strike="noStrike">
                <a:solidFill>
                  <a:srgbClr val="990033"/>
                </a:solidFill>
                <a:latin typeface="Arial"/>
              </a:rPr>
              <a:t>GdL RER - ARPA – Intercent-ER – Province  </a:t>
            </a:r>
            <a:r>
              <a:rPr b="1" i="1" lang="it-IT" sz="1800" spc="-1" strike="noStrike">
                <a:solidFill>
                  <a:srgbClr val="990033"/>
                </a:solidFill>
                <a:latin typeface="Arial"/>
              </a:rPr>
              <a:t>(Convenzi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442240" y="23976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90033"/>
                </a:solidFill>
                <a:latin typeface="Verdana"/>
              </a:rPr>
              <a:t>GPP in Emilia-Romag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35400"/>
            <a:ext cx="7883640" cy="24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Definizione metodologia di lavoro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elementi metodologici comuni e valutazione in itinere/monitoraggio di attività e risult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tecnica di Capitolati e Bandi di Beni e servizi individuati (supporto tecnico Intercent-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Condivisione  definizione dei criteri ambientali (supporto tecnico ARP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 algn="just">
              <a:lnSpc>
                <a:spcPct val="85000"/>
              </a:lnSpc>
              <a:spcBef>
                <a:spcPts val="451"/>
              </a:spcBef>
              <a:buClr>
                <a:srgbClr val="0066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Verdana"/>
              </a:rPr>
              <a:t>Diffusione e condivisione iniziative varie in tema di GPP (creazione di un net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87280" y="177840"/>
            <a:ext cx="86709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100" spc="-1" strike="noStrike">
                <a:solidFill>
                  <a:srgbClr val="990033"/>
                </a:solidFill>
                <a:latin typeface="Verdana"/>
              </a:rPr>
              <a:t>GdL RER - ARPA – Intercent-ER - Provinc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5800" y="1968480"/>
            <a:ext cx="7309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Supporto alla Regione per diffondere e dare applicazione   concreta al GPP secondo modalità coordinate e condiv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Supporto nella valutazione e diffusione esperienze regionali (metodologia- creazione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Definizione criteri ambientali da inserire in specifiche di gara/capitolati </a:t>
            </a:r>
            <a:r>
              <a:rPr b="0" lang="it-IT" sz="2000" spc="-1" strike="noStrike" u="sng">
                <a:solidFill>
                  <a:srgbClr val="000066"/>
                </a:solidFill>
                <a:uFillTx/>
                <a:latin typeface="Verdana"/>
              </a:rPr>
              <a:t>Intercent – ER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 differenziati per beni e serviz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35800" y="1176480"/>
            <a:ext cx="22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990033"/>
                </a:solidFill>
                <a:latin typeface="Verdana"/>
                <a:ea typeface="Arial"/>
              </a:rPr>
              <a:t>Ruolo di ARPA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1176480"/>
            <a:ext cx="7321680" cy="3952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25560" y="311040"/>
            <a:ext cx="53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Verdana"/>
              </a:rPr>
              <a:t>Energia, Ambiente e Servizio sanitario regi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6466320" y="3025440"/>
            <a:ext cx="276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140e96"/>
                </a:solidFill>
                <a:latin typeface="Arial"/>
              </a:rPr>
              <a:t>Fonte: Servizio Strutture Sanitarie e Socio Sanitarie R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2721600">
            <a:off x="2159280" y="5244480"/>
            <a:ext cx="863280" cy="360360"/>
          </a:xfrm>
          <a:custGeom>
            <a:avLst/>
            <a:gdLst>
              <a:gd name="textAreaLeft" fmla="*/ 134640 w 863280"/>
              <a:gd name="textAreaRight" fmla="*/ 755640 w 86328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140e96"/>
              </a:gs>
            </a:gsLst>
            <a:lin ang="10782000"/>
          </a:gra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36840" y="549576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1800" spc="-1" strike="noStrike">
                <a:solidFill>
                  <a:srgbClr val="000099"/>
                </a:solidFill>
                <a:latin typeface="Verdana"/>
              </a:rPr>
              <a:t>ENERGY MANAGEMENT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79280" y="1608120"/>
            <a:ext cx="7128000" cy="36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fornitura di energia elettrica (gara Intercent-ER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monitoraggio dell’uso dell’energia elettrica e term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preferenza alla produzione/utilizzo di energia da fonti rinnovabi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promozione della partnership tra Aziende sanitarie, </a:t>
            </a:r>
            <a:r>
              <a:rPr b="0" lang="it-IT" sz="1800" spc="-1" strike="noStrike">
                <a:solidFill>
                  <a:srgbClr val="990033"/>
                </a:solidFill>
                <a:latin typeface="Verdana"/>
              </a:rPr>
              <a:t>ARPA</a:t>
            </a: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, Università, CNR, Enea ed imprese per il trasferimento delle innovazioni tecnologi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Verdana"/>
              </a:rPr>
              <a:t>campagna di sensibilizzazione, informazione ed orient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30200" y="1681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40e96"/>
                </a:solidFill>
                <a:latin typeface="Verdana"/>
              </a:rPr>
              <a:t>Qualificazione dei consumi energetici ed innovazione tecnologica nelle Aziende sanita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66560" y="1103400"/>
            <a:ext cx="3743640" cy="4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di progetto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154560" y="3552840"/>
            <a:ext cx="1979640" cy="2543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754200" y="4416480"/>
            <a:ext cx="11476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1900" spc="-1" strike="noStrike">
                <a:solidFill>
                  <a:srgbClr val="000066"/>
                </a:solidFill>
                <a:latin typeface="Arial"/>
              </a:rPr>
              <a:t>Siti web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411280" y="4416480"/>
            <a:ext cx="3456000" cy="863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www.arpa.emr.it/sostenibilita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Haettenschweiler"/>
              </a:rPr>
              <a:t>www.dsa.minambiente.it/gpp</a:t>
            </a:r>
            <a:endParaRPr b="0" lang="en-US" sz="24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050920" y="239760"/>
            <a:ext cx="3805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I riferimenti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2640" y="995400"/>
            <a:ext cx="7655040" cy="16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560" bIns="34560" anchor="t">
            <a:spAutoFit/>
          </a:bodyPr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Arpa Direzione  Sistemi di Gestione Integrati: Sicurezz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        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Qualità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it-IT" sz="1700" spc="-1" strike="noStrike">
                <a:solidFill>
                  <a:srgbClr val="cc0066"/>
                </a:solidFill>
                <a:latin typeface="Tahoma"/>
              </a:rPr>
              <a:t>Ecomanagem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467240" indent="-4467240">
              <a:lnSpc>
                <a:spcPct val="100000"/>
              </a:lnSpc>
              <a:tabLst>
                <a:tab algn="l" pos="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Direttore: Raffaella Raffaelli</a:t>
            </a:r>
            <a:r>
              <a:rPr b="1" lang="it-IT" sz="1600" spc="-1" strike="noStrike">
                <a:solidFill>
                  <a:srgbClr val="cc0066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4800" y="2111400"/>
            <a:ext cx="27486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1500" spc="-1" strike="noStrike">
                <a:solidFill>
                  <a:srgbClr val="000066"/>
                </a:solidFill>
                <a:latin typeface="Arial"/>
              </a:rPr>
              <a:t>e-mail: rraffaelli@arpa.emr.i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471760"/>
            <a:ext cx="7578720" cy="1912320"/>
          </a:xfrm>
          <a:prstGeom prst="rect">
            <a:avLst/>
          </a:prstGeom>
          <a:solidFill>
            <a:srgbClr val="a4bcc4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nuela Venturini –</a:t>
            </a:r>
            <a:r>
              <a:rPr b="1" lang="it-IT" sz="14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Resp.le U.O. Nodo reg.le EMAS/SGA – Ecolabel/SG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il: </a:t>
            </a:r>
            <a:r>
              <a:rPr b="0" lang="it-IT" sz="1600" spc="-1" strike="noStrike" u="sng">
                <a:solidFill>
                  <a:srgbClr val="0066ff"/>
                </a:solidFill>
                <a:uFillTx/>
                <a:latin typeface="Arial"/>
                <a:hlinkClick r:id="rId1"/>
              </a:rPr>
              <a:t>eventurini@arpa.em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Maria Grazia Marchesiello – </a:t>
            </a:r>
            <a:r>
              <a:rPr b="1" i="1" lang="it-IT" sz="1600" spc="-1" strike="noStrike">
                <a:solidFill>
                  <a:srgbClr val="000066"/>
                </a:solidFill>
                <a:latin typeface="Arial"/>
              </a:rPr>
              <a:t>Resp.le Area Sistemi di Gestione di Prodotto</a:t>
            </a: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it-IT" sz="1600" spc="-1" strike="noStrike">
                <a:solidFill>
                  <a:srgbClr val="cc0066"/>
                </a:solidFill>
                <a:latin typeface="Arial"/>
              </a:rPr>
              <a:t>Email: </a:t>
            </a:r>
            <a:r>
              <a:rPr b="0" lang="it-IT" sz="16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mgmarchesiello@arpa.emr.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9280" y="1534680"/>
            <a:ext cx="7321680" cy="40244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it-IT" sz="2200" spc="-1" strike="noStrike">
                <a:solidFill>
                  <a:srgbClr val="140e96"/>
                </a:solidFill>
                <a:latin typeface="Arial"/>
              </a:rPr>
              <a:t>Piano d'azione per la sostenibilità ambientale dei consumi nel settore della pubblica amministrazione (PAN GPP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88320" y="252360"/>
            <a:ext cx="14256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PAN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2200" y="1176480"/>
            <a:ext cx="7272360" cy="43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Decreto Interministeriale n. 135 dell' 11 aprile 2008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50920" y="2687760"/>
            <a:ext cx="3743280" cy="401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o generale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119400"/>
            <a:ext cx="7739280" cy="20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140e96"/>
                </a:solidFill>
                <a:latin typeface="Verdana"/>
              </a:rPr>
              <a:t>Input politico nazionale alle PA e strumenti pratici che favoriscano la diffusione del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Sostegno e riferimento per chi fa già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Base di partenza per chi non fa e non conosce il GP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6480" indent="-4572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SzPct val="70000"/>
              <a:buFont typeface="Wingdings" charset="2"/>
              <a:buChar char=""/>
              <a:tabLst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i="1" lang="it-IT" sz="2000" spc="-1" strike="noStrike">
                <a:solidFill>
                  <a:srgbClr val="140e96"/>
                </a:solidFill>
                <a:latin typeface="Verdana"/>
              </a:rPr>
              <a:t>Segnale di certezza per il sistema produ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5353200"/>
            <a:ext cx="3457440" cy="2174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Revisione almeno triennale</a:t>
            </a:r>
            <a:endParaRPr b="0" i="1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1176480"/>
            <a:ext cx="7177320" cy="52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a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Efficienza e risparmio nell’uso di risorse, in particolare energia e </a:t>
            </a:r>
            <a:r>
              <a:rPr b="0" lang="it-IT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 riduzione emissioni CO</a:t>
            </a:r>
            <a:r>
              <a:rPr b="0" lang="it-IT" sz="2000" spc="-1" strike="noStrike" baseline="-25000">
                <a:solidFill>
                  <a:srgbClr val="000066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b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Riduzione uso sostanze perico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c) 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66"/>
                </a:solidFill>
                <a:latin typeface="Verdana"/>
              </a:rPr>
              <a:t>Riduzione produzione rifiu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52560" y="252360"/>
            <a:ext cx="451332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Obiettivi ambientali strateg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30200" y="1895400"/>
            <a:ext cx="6659280" cy="1871640"/>
            <a:chOff x="1330200" y="1895400"/>
            <a:chExt cx="6659280" cy="1871640"/>
          </a:xfrm>
        </p:grpSpPr>
        <p:sp>
          <p:nvSpPr>
            <p:cNvPr id="125" name=""/>
            <p:cNvSpPr/>
            <p:nvPr/>
          </p:nvSpPr>
          <p:spPr>
            <a:xfrm>
              <a:off x="1330200" y="1895400"/>
              <a:ext cx="6659280" cy="1871640"/>
            </a:xfrm>
            <a:prstGeom prst="rect">
              <a:avLst/>
            </a:prstGeom>
            <a:solidFill>
              <a:srgbClr val="a4bcc4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09480" y="1895400"/>
              <a:ext cx="6480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66760" indent="-26676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se tutte le PA in UE acquistasser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energia verde contribuirebbero al 18% del target di riduzione di emissioni climalteran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buClr>
                  <a:srgbClr val="000066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66"/>
                  </a:solidFill>
                  <a:latin typeface="Arial"/>
                </a:rPr>
                <a:t>solo PC energeticamente efficienti si risparmierebbero oltre 8 milioni di tonnellate di CO2 – pari alle emissioni di quasi 1 milione di persone                                          </a:t>
              </a:r>
              <a:r>
                <a:rPr b="1" i="1" lang="it-IT" sz="1800" spc="-1" strike="noStrike">
                  <a:solidFill>
                    <a:srgbClr val="000066"/>
                  </a:solidFill>
                  <a:latin typeface="Arial"/>
                </a:rPr>
                <a:t>(Fonte  ICLE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1276200"/>
            <a:ext cx="813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306000" y="1031760"/>
            <a:ext cx="7648560" cy="4535640"/>
            <a:chOff x="306000" y="1031760"/>
            <a:chExt cx="7648560" cy="4535640"/>
          </a:xfrm>
        </p:grpSpPr>
        <p:sp>
          <p:nvSpPr>
            <p:cNvPr id="129" name=""/>
            <p:cNvSpPr/>
            <p:nvPr/>
          </p:nvSpPr>
          <p:spPr>
            <a:xfrm>
              <a:off x="306000" y="1031760"/>
              <a:ext cx="7648560" cy="453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Arr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2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dilizia (costruzioni, ristrutturazioni, materiali, str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3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Gestione dei rifiu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4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urbani ed al territorio (verde pubblico, arredo urban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5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energetici (illuminazione, riscaldamento, raffrescamento, illuminazione pubblica e segnaletica lumin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6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lettronica (Attrezzature per ufficio e relativi materiali di consumo, apparati telecomunicaz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7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Prodotti tessili e calz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8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Cancelleria (carta e materiali di consu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9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Ristorazione (servizio mensa e fornitura di aliment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0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di gestione edifici (pulizia, manutenzione ecc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Trasporti (mezzi e servizi, sistemi di mobilità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646640" y="168120"/>
            <a:ext cx="47952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2400" spc="-1" strike="noStrike">
                <a:solidFill>
                  <a:srgbClr val="140e96"/>
                </a:solidFill>
                <a:latin typeface="Verdana"/>
              </a:rPr>
              <a:t>PAN GPP: Categorie priorita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1895400"/>
            <a:ext cx="727884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Istituito presso MATTM con </a:t>
            </a:r>
            <a:r>
              <a:rPr b="1" i="1" lang="it-IT" sz="1700" spc="-1" strike="noStrike">
                <a:solidFill>
                  <a:srgbClr val="990033"/>
                </a:solidFill>
                <a:latin typeface="Verdana"/>
              </a:rPr>
              <a:t>DM n. 185 del 18 ottobre 2007 </a:t>
            </a: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- Costituito d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MATTM - MSE – MEF – CONSIP – APAT - ARPAER – ARPAT – ARPAP - 2 rappresentanti delle Regioni - ENE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4" marL="1492200">
              <a:lnSpc>
                <a:spcPct val="100000"/>
              </a:lnSpc>
              <a:buClr>
                <a:srgbClr val="140e96"/>
              </a:buClr>
              <a:buFont typeface="Wingdings" charset="2"/>
              <a:buChar char=""/>
              <a:tabLst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50920" y="3048120"/>
            <a:ext cx="2369880" cy="2570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generali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344760"/>
            <a:ext cx="7954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Gestione operatività  PANGPP – funzioni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96960" y="201600"/>
            <a:ext cx="32104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Verdana"/>
              </a:rPr>
              <a:t>Gestione PAN 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9280" y="961920"/>
            <a:ext cx="795492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COMITATO DI GEST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per l’attuazione del PAN GPP e per lo sviluppo del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Strategia Nazionale di Politica Integrata dei Prodo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960" y="3840120"/>
            <a:ext cx="361116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000" spc="-1" strike="noStrike">
                <a:solidFill>
                  <a:srgbClr val="990033"/>
                </a:solidFill>
                <a:latin typeface="Verdana"/>
              </a:rPr>
              <a:t>Tavolo di lavoro perman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200480"/>
            <a:ext cx="763272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Aperto alla partecipazione di </a:t>
            </a:r>
            <a:r>
              <a:rPr b="1" i="1" lang="it-IT" sz="1700" spc="-1" strike="noStrike" u="sng">
                <a:solidFill>
                  <a:srgbClr val="140e96"/>
                </a:solidFill>
                <a:uFillTx/>
                <a:latin typeface="Verdana"/>
              </a:rPr>
              <a:t>tutti</a:t>
            </a: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 i soggetti interessati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140e96"/>
              </a:buClr>
              <a:buFont typeface="Verdana"/>
              <a:buAutoNum type="arabicPeriod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Funzioni consultive: Presentazione e condivisione contenuti tecnici del PAN G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50"/>
              </a:spcBef>
              <a:buClr>
                <a:srgbClr val="140e96"/>
              </a:buClr>
              <a:buFont typeface="Verdana"/>
              <a:buAutoNum type="arabicPeriod"/>
              <a:tabLst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1700" spc="-1" strike="noStrike">
                <a:solidFill>
                  <a:srgbClr val="140e96"/>
                </a:solidFill>
                <a:latin typeface="Verdana"/>
              </a:rPr>
              <a:t>Ruolo attivo: promozione di azioni di supporto operativo per attuazione attività programm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320760" y="1243800"/>
            <a:ext cx="7657920" cy="40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ogrammazione delle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attività di definizione dei criteri ambientali minimi (CAM)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per la realizzazione del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monitoraggio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ed eventuale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revisione obiettivi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nazionali alla luce dei risultati del monitoragg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zione di incentivi esistenti e proposta di nuov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di integrazione del P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romozione di attività d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divulgazione e formazione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 sul PAN</a:t>
            </a:r>
            <a:r>
              <a:rPr b="0" i="1" lang="it-IT" sz="20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ormulazione di proposte di </a:t>
            </a:r>
            <a:r>
              <a:rPr b="0" lang="it-IT" sz="2000" spc="-1" strike="noStrike" u="sng">
                <a:solidFill>
                  <a:srgbClr val="000099"/>
                </a:solidFill>
                <a:uFillTx/>
                <a:latin typeface="Verdana"/>
              </a:rPr>
              <a:t>studio e approfondimento</a:t>
            </a: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: LCA, utilizzo di etichette ambientali di filiera ec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789920" y="239760"/>
            <a:ext cx="5623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it-IT" sz="2500" spc="-1" strike="noStrike">
                <a:solidFill>
                  <a:srgbClr val="000099"/>
                </a:solidFill>
                <a:latin typeface="Verdana"/>
              </a:rPr>
              <a:t>Comitato di Gestione e GPP: Compi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1276200"/>
            <a:ext cx="8134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6000" y="1031760"/>
            <a:ext cx="7648560" cy="4535640"/>
            <a:chOff x="306000" y="1031760"/>
            <a:chExt cx="7648560" cy="4535640"/>
          </a:xfrm>
        </p:grpSpPr>
        <p:sp>
          <p:nvSpPr>
            <p:cNvPr id="142" name=""/>
            <p:cNvSpPr/>
            <p:nvPr/>
          </p:nvSpPr>
          <p:spPr>
            <a:xfrm>
              <a:off x="306000" y="1031760"/>
              <a:ext cx="7648560" cy="453564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Arred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2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Edilizia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(costruzioni, ristrutturazioni, 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materiali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,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strad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3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Gestione dei rifiu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4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urbani ed al territorio (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verde pubblico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, arredo urbano)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5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Servizi energetici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(illuminazione, riscaldamento, raffrescamento, illuminazione pubblica e segnaletica luminosa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6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Elettronica (Attrezzature per ufficio 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 relativi materiali di consumo, apparati telecomunicazion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7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Prodotti tessili e calza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8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Cancelleria (carta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e materiali di consu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9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Ristorazione (servizio mensa e fornitura di alimenti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0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Servizi di gestione edifici (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pulizia,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</a:t>
              </a:r>
              <a:r>
                <a:rPr b="0" lang="it-IT" sz="1800" spc="-1" strike="noStrike">
                  <a:solidFill>
                    <a:srgbClr val="990033"/>
                  </a:solidFill>
                  <a:latin typeface="Verdana"/>
                  <a:ea typeface="Times New Roman"/>
                </a:rPr>
                <a:t>manutenzione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 ecc..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6760" indent="-266760">
                <a:lnSpc>
                  <a:spcPct val="100000"/>
                </a:lnSpc>
                <a:spcBef>
                  <a:spcPts val="451"/>
                </a:spcBef>
                <a:buSzPct val="102812"/>
                <a:buBlip>
                  <a:blip r:embed="rId11"/>
                </a:buBlip>
                <a:tabLst>
                  <a:tab algn="l" pos="2286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Trasporti (</a:t>
              </a:r>
              <a:r>
                <a:rPr b="0" lang="it-IT" sz="1800" spc="-1" strike="noStrike">
                  <a:solidFill>
                    <a:srgbClr val="00cc00"/>
                  </a:solidFill>
                  <a:latin typeface="Verdana"/>
                  <a:ea typeface="Times New Roman"/>
                </a:rPr>
                <a:t>mezzi </a:t>
              </a:r>
              <a:r>
                <a:rPr b="0" lang="it-IT" sz="1800" spc="-1" strike="noStrike">
                  <a:solidFill>
                    <a:srgbClr val="140e96"/>
                  </a:solidFill>
                  <a:latin typeface="Verdana"/>
                  <a:ea typeface="Times New Roman"/>
                </a:rPr>
                <a:t>e servizi, sistemi di mobilità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902960" y="168120"/>
            <a:ext cx="42998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lang="it-IT" sz="2400" spc="-1" strike="noStrike">
                <a:solidFill>
                  <a:srgbClr val="140e96"/>
                </a:solidFill>
                <a:latin typeface="Verdana"/>
              </a:rPr>
              <a:t>I Gruppi di Lavoro PAN G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50920" y="1249560"/>
            <a:ext cx="7657920" cy="39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spAutoFit/>
          </a:bodyPr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equisiti di natura ambientale (e, se possibile, etico-sociale) collegati alle diverse fasi della procedura di acquisto (oggetto appalto, specifiche tecniche, criteri premianti, esecuzione appalto) – validità scientifica (LC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ti con appositi decre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Obiettivi quantitativi e tempor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evisione period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Possibilità di inserire requisiti più string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Garanzia risposta del mercato (consultazione in proced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32560" y="239760"/>
            <a:ext cx="5146920" cy="4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i="1" lang="it-IT" sz="2500" spc="-1" strike="noStrike">
                <a:solidFill>
                  <a:srgbClr val="000099"/>
                </a:solidFill>
                <a:latin typeface="Verdana"/>
              </a:rPr>
              <a:t>I Criteri Ambientali Minimi (CA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4200" y="5135400"/>
            <a:ext cx="612144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rnd" w="9360">
                  <a:solidFill>
                    <a:srgbClr val="993366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Recepimento CAM in procedura di acquisto o affidamento = Acquisto verde!</a:t>
            </a:r>
            <a:endParaRPr b="0" lang="en-US" sz="2400" spc="1" strike="noStrike">
              <a:ln cap="rnd" w="9360">
                <a:solidFill>
                  <a:srgbClr val="993366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42880" y="1447920"/>
            <a:ext cx="727884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4520" rIns="74520" tIns="37440" bIns="37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44480"/>
                <a:tab algn="l" pos="1488960"/>
                <a:tab algn="l" pos="2233440"/>
                <a:tab algn="l" pos="2978280"/>
                <a:tab algn="l" pos="3722760"/>
                <a:tab algn="l" pos="4467240"/>
                <a:tab algn="l" pos="5211720"/>
                <a:tab algn="l" pos="5956200"/>
                <a:tab algn="l" pos="6700680"/>
                <a:tab algn="l" pos="7445520"/>
                <a:tab algn="l" pos="8190000"/>
                <a:tab algn="l" pos="8934480"/>
                <a:tab algn="l" pos="9678960"/>
                <a:tab algn="l" pos="10423440"/>
              </a:tabLst>
            </a:pPr>
            <a:r>
              <a:rPr b="1" i="1" lang="it-IT" sz="2100" spc="-1" strike="noStrike">
                <a:solidFill>
                  <a:srgbClr val="140e96"/>
                </a:solidFill>
                <a:latin typeface="Verdana"/>
              </a:rPr>
              <a:t>Criteri GPP per i servizi energetic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8040" y="2023920"/>
            <a:ext cx="2370240" cy="255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Obiettivi generali</a:t>
            </a:r>
            <a:endParaRPr b="0" lang="en-US" sz="2400" spc="1" strike="noStrike">
              <a:ln w="0">
                <a:noFill/>
              </a:ln>
              <a:solidFill>
                <a:srgbClr val="0033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2316240"/>
            <a:ext cx="6791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Individuazione di criteri ambientali minimi, come tali definiti dal PAN GPP, per l’acquisto di servizi energe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95520" y="168120"/>
            <a:ext cx="32097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800" spc="-1" strike="noStrike">
                <a:solidFill>
                  <a:srgbClr val="000099"/>
                </a:solidFill>
                <a:latin typeface="Verdana"/>
              </a:rPr>
              <a:t>Gestione PAN 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85880" y="887400"/>
            <a:ext cx="270828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Gruppo di Lav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8400" y="3192480"/>
            <a:ext cx="463464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400" rIns="7740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6160"/>
                <a:tab algn="l" pos="1552680"/>
                <a:tab algn="l" pos="2328840"/>
                <a:tab algn="l" pos="3105000"/>
                <a:tab algn="l" pos="3881520"/>
                <a:tab algn="l" pos="4657680"/>
                <a:tab algn="l" pos="5433840"/>
                <a:tab algn="l" pos="6210360"/>
                <a:tab algn="l" pos="6986520"/>
                <a:tab algn="l" pos="7763040"/>
                <a:tab algn="l" pos="8539200"/>
                <a:tab algn="l" pos="9315360"/>
                <a:tab algn="l" pos="10091880"/>
                <a:tab algn="l" pos="10868040"/>
              </a:tabLst>
            </a:pPr>
            <a:r>
              <a:rPr b="1" i="1" lang="it-IT" sz="2400" spc="-1" strike="noStrike">
                <a:solidFill>
                  <a:srgbClr val="000099"/>
                </a:solidFill>
                <a:latin typeface="Verdana"/>
              </a:rPr>
              <a:t>Composizione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3624120"/>
            <a:ext cx="6791400" cy="22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3556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oordinamento: ARPAER – MATTM – CON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Centrali di acquisto nazionale – regionale (CONSIP – Intercent-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Esperti sulla tematica energia (Università, EELL, Regio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Rappresentanti Minist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Verdana"/>
              </a:rPr>
              <a:t>Federambiente </a:t>
            </a:r>
            <a:r>
              <a:rPr b="0" i="1" lang="it-IT" sz="2000" spc="-1" strike="noStrike">
                <a:solidFill>
                  <a:srgbClr val="000099"/>
                </a:solidFill>
                <a:latin typeface="Verdana"/>
              </a:rPr>
              <a:t>– Federutility - Federc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6T16:01:46Z</dcterms:created>
  <dc:creator>Emanuela Venturini</dc:creator>
  <dc:description/>
  <cp:keywords/>
  <dc:language>en-US</dc:language>
  <cp:lastModifiedBy>EVenturini</cp:lastModifiedBy>
  <cp:lastPrinted>2001-05-15T07:52:12Z</cp:lastPrinted>
  <dcterms:modified xsi:type="dcterms:W3CDTF">2008-06-25T22:24:51Z</dcterms:modified>
  <cp:revision>309</cp:revision>
  <dc:subject/>
  <dc:title>Diapositiva 1</dc:title>
</cp:coreProperties>
</file>